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D313-B979-45FD-ADDD-AC15709A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E70-60F9-4943-A9CE-2BDE2377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65E-41E3-4BFA-A6A5-4B4FFF1D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190-8000-4AE2-9BE1-97A9D601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B5D3-DFA2-4B14-BFEC-E8C434CD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8077-02E3-41A7-B667-C4222D92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526E-3EDA-4B8C-A3BB-EF67A96A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FED9-1527-4514-9164-F3EEA552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DFE3-2829-47F7-9170-B4977D28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D8D8-DC62-48A0-ABCF-08428550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430D-15E7-45B5-9678-99D485B9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3898-55CF-4D5C-B6A0-C1484D6C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98BA-F008-4BBA-8C91-183C747C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FEA5-97D7-469C-9F16-11B257F2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72B9-2CD7-49E1-8AB6-6EAFB0F5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BF82-CB58-4C6E-94D6-6A760255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91ED-D141-478C-B924-234B0982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B03-39FC-4184-8B07-C0208FFF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51D-EF02-4259-9A43-A53E13B0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7DC-1C4A-403E-936F-7CAA2E3E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DF4-44AB-40D0-B90F-D4CA0888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F967-4566-4C47-985A-59E22093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C87-B589-4C20-946A-212A20D1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612-B907-40D6-84A9-0924EE6E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1886-BA86-499C-9428-656FE46E748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D614-B6E3-4223-B852-5A9D78D052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0.wmf"/><Relationship Id="rId13" Type="http://schemas.openxmlformats.org/officeDocument/2006/relationships/image" Target="../media/image3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2.wmf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34.wmf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nceptos básicos de optimizació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636640"/>
            <a:ext cx="401328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Prof. Cesar de Prad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Dpt. Ingeniería de Sistemas y Automátic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UV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prada@autom.uva.e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tricciones activ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146240" y="2479680"/>
                <a:ext cx="1544400" cy="19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040360" y="455436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91240" y="5981760"/>
            <a:ext cx="28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51600" y="43974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99360" y="55990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1880" y="2573280"/>
                <a:ext cx="164628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043600" y="5337000"/>
            <a:ext cx="1690560" cy="644760"/>
          </a:xfrm>
          <a:prstGeom prst="rtTriangl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5140440"/>
            <a:ext cx="2732040" cy="1074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53040" y="5597640"/>
            <a:ext cx="4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87560" y="4807080"/>
            <a:ext cx="2916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restricción g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≤ 0 es activa en un punto x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0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 si se verifica: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)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96080" y="5300640"/>
            <a:ext cx="190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unto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= (2, 1)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92920" y="5672160"/>
            <a:ext cx="88920" cy="11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8520" y="6221520"/>
            <a:ext cx="145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 2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46640" y="6338880"/>
            <a:ext cx="2927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stricción inactiva en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546440" y="6054840"/>
            <a:ext cx="211320" cy="309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5078520" y="6214680"/>
            <a:ext cx="606240" cy="149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80200" y="4738680"/>
            <a:ext cx="2927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stricción activa en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238360" y="5041800"/>
            <a:ext cx="211320" cy="297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7720" y="5929200"/>
            <a:ext cx="23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(A menudo se refiere a la solución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giones conex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51040" y="2705040"/>
            <a:ext cx="0" cy="1981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6120" y="4381560"/>
            <a:ext cx="2743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73920" y="4311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25800" y="26258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9518600">
            <a:off x="1733400" y="3060360"/>
            <a:ext cx="1239840" cy="1219320"/>
          </a:xfrm>
          <a:prstGeom prst="pentagon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4560" y="3009960"/>
            <a:ext cx="2133360" cy="9144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3160" y="3162240"/>
            <a:ext cx="1676160" cy="6858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79640" y="3301920"/>
            <a:ext cx="685800" cy="38124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10000" y="337500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9280" y="313380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45040" y="355428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14560" y="368316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62680" y="2730600"/>
            <a:ext cx="0" cy="1981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57760" y="4406760"/>
            <a:ext cx="2743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85560" y="4336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37440" y="26510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9518600">
            <a:off x="5045040" y="3086280"/>
            <a:ext cx="1239840" cy="1218960"/>
          </a:xfrm>
          <a:prstGeom prst="pentagon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95840" y="3035160"/>
            <a:ext cx="2133720" cy="9144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24440" y="3187800"/>
            <a:ext cx="1676520" cy="6858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91280" y="3327480"/>
            <a:ext cx="685800" cy="38088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21640" y="340056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70920" y="315900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56320" y="357984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26200" y="3708360"/>
            <a:ext cx="4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02520" y="2657520"/>
            <a:ext cx="963360" cy="604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99160" y="28670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35160" y="4992840"/>
            <a:ext cx="31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gión factible F conex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0520" y="4986360"/>
            <a:ext cx="31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gión factible F no conex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timo local (mínimo local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76320" y="2508120"/>
            <a:ext cx="4448160" cy="1608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 punto x</a:t>
            </a:r>
            <a:r>
              <a:rPr b="0" lang="es-E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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 se denomina un mínimo local del problema de optimización si existe un entorno de  x* tal que para cualquier otro punto x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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F del entorn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</a:t>
            </a:r>
            <a:r>
              <a:rPr b="0" lang="es-E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J(x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942160" y="2652840"/>
            <a:ext cx="0" cy="1726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54520" y="409248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6415200" y="3099600"/>
            <a:ext cx="1568160" cy="608040"/>
          </a:xfrm>
          <a:custGeom>
            <a:avLst/>
            <a:gdLst/>
            <a:ahLst/>
            <a:rect l="l" t="t" r="r" b="b"/>
            <a:pathLst>
              <a:path w="1230" h="383">
                <a:moveTo>
                  <a:pt x="0" y="343"/>
                </a:moveTo>
                <a:cubicBezTo>
                  <a:pt x="11" y="282"/>
                  <a:pt x="23" y="304"/>
                  <a:pt x="46" y="258"/>
                </a:cubicBezTo>
                <a:cubicBezTo>
                  <a:pt x="63" y="223"/>
                  <a:pt x="74" y="192"/>
                  <a:pt x="101" y="164"/>
                </a:cubicBezTo>
                <a:cubicBezTo>
                  <a:pt x="119" y="96"/>
                  <a:pt x="94" y="163"/>
                  <a:pt x="132" y="118"/>
                </a:cubicBezTo>
                <a:cubicBezTo>
                  <a:pt x="140" y="109"/>
                  <a:pt x="141" y="96"/>
                  <a:pt x="148" y="87"/>
                </a:cubicBezTo>
                <a:cubicBezTo>
                  <a:pt x="164" y="68"/>
                  <a:pt x="174" y="73"/>
                  <a:pt x="194" y="63"/>
                </a:cubicBezTo>
                <a:cubicBezTo>
                  <a:pt x="202" y="59"/>
                  <a:pt x="210" y="53"/>
                  <a:pt x="218" y="48"/>
                </a:cubicBezTo>
                <a:cubicBezTo>
                  <a:pt x="229" y="40"/>
                  <a:pt x="237" y="30"/>
                  <a:pt x="249" y="24"/>
                </a:cubicBezTo>
                <a:cubicBezTo>
                  <a:pt x="275" y="11"/>
                  <a:pt x="323" y="6"/>
                  <a:pt x="350" y="1"/>
                </a:cubicBezTo>
                <a:cubicBezTo>
                  <a:pt x="407" y="4"/>
                  <a:pt x="465" y="0"/>
                  <a:pt x="521" y="9"/>
                </a:cubicBezTo>
                <a:cubicBezTo>
                  <a:pt x="544" y="13"/>
                  <a:pt x="561" y="33"/>
                  <a:pt x="583" y="40"/>
                </a:cubicBezTo>
                <a:cubicBezTo>
                  <a:pt x="634" y="57"/>
                  <a:pt x="695" y="87"/>
                  <a:pt x="739" y="118"/>
                </a:cubicBezTo>
                <a:cubicBezTo>
                  <a:pt x="777" y="145"/>
                  <a:pt x="798" y="183"/>
                  <a:pt x="840" y="203"/>
                </a:cubicBezTo>
                <a:cubicBezTo>
                  <a:pt x="873" y="236"/>
                  <a:pt x="912" y="281"/>
                  <a:pt x="957" y="297"/>
                </a:cubicBezTo>
                <a:cubicBezTo>
                  <a:pt x="1008" y="371"/>
                  <a:pt x="931" y="270"/>
                  <a:pt x="1004" y="328"/>
                </a:cubicBezTo>
                <a:cubicBezTo>
                  <a:pt x="1010" y="333"/>
                  <a:pt x="1006" y="345"/>
                  <a:pt x="1012" y="351"/>
                </a:cubicBezTo>
                <a:cubicBezTo>
                  <a:pt x="1044" y="383"/>
                  <a:pt x="1204" y="382"/>
                  <a:pt x="1230" y="38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4880" y="25081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175600" y="40924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89800" y="2857680"/>
            <a:ext cx="0" cy="12254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286760" y="41911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462924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606888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32000" y="4484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92360" y="6068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05200" y="4835520"/>
            <a:ext cx="0" cy="12254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8920" y="6156360"/>
            <a:ext cx="579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84200" y="5078520"/>
            <a:ext cx="2273400" cy="679320"/>
          </a:xfrm>
          <a:custGeom>
            <a:avLst/>
            <a:gdLst/>
            <a:ahLst/>
            <a:rect l="l" t="t" r="r" b="b"/>
            <a:pathLst>
              <a:path w="1432" h="428">
                <a:moveTo>
                  <a:pt x="0" y="0"/>
                </a:moveTo>
                <a:cubicBezTo>
                  <a:pt x="0" y="2"/>
                  <a:pt x="6" y="87"/>
                  <a:pt x="15" y="109"/>
                </a:cubicBezTo>
                <a:cubicBezTo>
                  <a:pt x="33" y="152"/>
                  <a:pt x="92" y="237"/>
                  <a:pt x="132" y="265"/>
                </a:cubicBezTo>
                <a:cubicBezTo>
                  <a:pt x="143" y="298"/>
                  <a:pt x="163" y="296"/>
                  <a:pt x="194" y="311"/>
                </a:cubicBezTo>
                <a:cubicBezTo>
                  <a:pt x="233" y="308"/>
                  <a:pt x="280" y="320"/>
                  <a:pt x="311" y="296"/>
                </a:cubicBezTo>
                <a:cubicBezTo>
                  <a:pt x="386" y="237"/>
                  <a:pt x="254" y="311"/>
                  <a:pt x="358" y="257"/>
                </a:cubicBezTo>
                <a:cubicBezTo>
                  <a:pt x="363" y="249"/>
                  <a:pt x="367" y="240"/>
                  <a:pt x="373" y="234"/>
                </a:cubicBezTo>
                <a:cubicBezTo>
                  <a:pt x="380" y="227"/>
                  <a:pt x="391" y="225"/>
                  <a:pt x="397" y="218"/>
                </a:cubicBezTo>
                <a:cubicBezTo>
                  <a:pt x="428" y="180"/>
                  <a:pt x="377" y="205"/>
                  <a:pt x="428" y="187"/>
                </a:cubicBezTo>
                <a:cubicBezTo>
                  <a:pt x="447" y="157"/>
                  <a:pt x="466" y="148"/>
                  <a:pt x="498" y="132"/>
                </a:cubicBezTo>
                <a:cubicBezTo>
                  <a:pt x="539" y="137"/>
                  <a:pt x="581" y="139"/>
                  <a:pt x="622" y="148"/>
                </a:cubicBezTo>
                <a:cubicBezTo>
                  <a:pt x="646" y="153"/>
                  <a:pt x="672" y="189"/>
                  <a:pt x="693" y="203"/>
                </a:cubicBezTo>
                <a:cubicBezTo>
                  <a:pt x="701" y="230"/>
                  <a:pt x="708" y="249"/>
                  <a:pt x="724" y="273"/>
                </a:cubicBezTo>
                <a:cubicBezTo>
                  <a:pt x="751" y="363"/>
                  <a:pt x="845" y="400"/>
                  <a:pt x="926" y="428"/>
                </a:cubicBezTo>
                <a:cubicBezTo>
                  <a:pt x="970" y="425"/>
                  <a:pt x="1014" y="426"/>
                  <a:pt x="1058" y="420"/>
                </a:cubicBezTo>
                <a:cubicBezTo>
                  <a:pt x="1087" y="416"/>
                  <a:pt x="1079" y="398"/>
                  <a:pt x="1097" y="382"/>
                </a:cubicBezTo>
                <a:cubicBezTo>
                  <a:pt x="1133" y="350"/>
                  <a:pt x="1180" y="322"/>
                  <a:pt x="1222" y="296"/>
                </a:cubicBezTo>
                <a:cubicBezTo>
                  <a:pt x="1227" y="288"/>
                  <a:pt x="1230" y="279"/>
                  <a:pt x="1237" y="273"/>
                </a:cubicBezTo>
                <a:cubicBezTo>
                  <a:pt x="1251" y="260"/>
                  <a:pt x="1284" y="241"/>
                  <a:pt x="1284" y="241"/>
                </a:cubicBezTo>
                <a:cubicBezTo>
                  <a:pt x="1287" y="233"/>
                  <a:pt x="1286" y="224"/>
                  <a:pt x="1292" y="218"/>
                </a:cubicBezTo>
                <a:cubicBezTo>
                  <a:pt x="1305" y="205"/>
                  <a:pt x="1339" y="187"/>
                  <a:pt x="1339" y="187"/>
                </a:cubicBezTo>
                <a:cubicBezTo>
                  <a:pt x="1347" y="161"/>
                  <a:pt x="1366" y="136"/>
                  <a:pt x="1385" y="117"/>
                </a:cubicBezTo>
                <a:cubicBezTo>
                  <a:pt x="1392" y="110"/>
                  <a:pt x="1402" y="107"/>
                  <a:pt x="1409" y="101"/>
                </a:cubicBezTo>
                <a:cubicBezTo>
                  <a:pt x="1417" y="94"/>
                  <a:pt x="1432" y="78"/>
                  <a:pt x="1432" y="7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25480" y="4840200"/>
            <a:ext cx="0" cy="12258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33760" y="6137280"/>
            <a:ext cx="579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063880" y="4336920"/>
            <a:ext cx="21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ueden existir varios óptimos loca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38640" y="4521240"/>
            <a:ext cx="158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 se verifica la desigualdad estricta el óptimo es prop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35680" y="4721400"/>
            <a:ext cx="0" cy="1726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48400" y="616104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6383160" y="5354640"/>
            <a:ext cx="2298960" cy="285840"/>
          </a:xfrm>
          <a:custGeom>
            <a:avLst/>
            <a:gdLst/>
            <a:ahLst/>
            <a:rect l="l" t="t" r="r" b="b"/>
            <a:pathLst>
              <a:path w="1230" h="383">
                <a:moveTo>
                  <a:pt x="0" y="343"/>
                </a:moveTo>
                <a:cubicBezTo>
                  <a:pt x="11" y="282"/>
                  <a:pt x="23" y="304"/>
                  <a:pt x="46" y="258"/>
                </a:cubicBezTo>
                <a:cubicBezTo>
                  <a:pt x="63" y="223"/>
                  <a:pt x="74" y="192"/>
                  <a:pt x="101" y="164"/>
                </a:cubicBezTo>
                <a:cubicBezTo>
                  <a:pt x="119" y="96"/>
                  <a:pt x="94" y="163"/>
                  <a:pt x="132" y="118"/>
                </a:cubicBezTo>
                <a:cubicBezTo>
                  <a:pt x="140" y="109"/>
                  <a:pt x="141" y="96"/>
                  <a:pt x="148" y="87"/>
                </a:cubicBezTo>
                <a:cubicBezTo>
                  <a:pt x="164" y="68"/>
                  <a:pt x="174" y="73"/>
                  <a:pt x="194" y="63"/>
                </a:cubicBezTo>
                <a:cubicBezTo>
                  <a:pt x="202" y="59"/>
                  <a:pt x="210" y="53"/>
                  <a:pt x="218" y="48"/>
                </a:cubicBezTo>
                <a:cubicBezTo>
                  <a:pt x="229" y="40"/>
                  <a:pt x="237" y="30"/>
                  <a:pt x="249" y="24"/>
                </a:cubicBezTo>
                <a:cubicBezTo>
                  <a:pt x="275" y="11"/>
                  <a:pt x="323" y="6"/>
                  <a:pt x="350" y="1"/>
                </a:cubicBezTo>
                <a:cubicBezTo>
                  <a:pt x="407" y="4"/>
                  <a:pt x="465" y="0"/>
                  <a:pt x="521" y="9"/>
                </a:cubicBezTo>
                <a:cubicBezTo>
                  <a:pt x="544" y="13"/>
                  <a:pt x="561" y="33"/>
                  <a:pt x="583" y="40"/>
                </a:cubicBezTo>
                <a:cubicBezTo>
                  <a:pt x="634" y="57"/>
                  <a:pt x="695" y="87"/>
                  <a:pt x="739" y="118"/>
                </a:cubicBezTo>
                <a:cubicBezTo>
                  <a:pt x="777" y="145"/>
                  <a:pt x="798" y="183"/>
                  <a:pt x="840" y="203"/>
                </a:cubicBezTo>
                <a:cubicBezTo>
                  <a:pt x="873" y="236"/>
                  <a:pt x="912" y="281"/>
                  <a:pt x="957" y="297"/>
                </a:cubicBezTo>
                <a:cubicBezTo>
                  <a:pt x="1008" y="371"/>
                  <a:pt x="931" y="270"/>
                  <a:pt x="1004" y="328"/>
                </a:cubicBezTo>
                <a:cubicBezTo>
                  <a:pt x="1010" y="333"/>
                  <a:pt x="1006" y="345"/>
                  <a:pt x="1012" y="351"/>
                </a:cubicBezTo>
                <a:cubicBezTo>
                  <a:pt x="1044" y="383"/>
                  <a:pt x="1204" y="382"/>
                  <a:pt x="1230" y="38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08760" y="45766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169120" y="61610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32560" y="4937040"/>
            <a:ext cx="0" cy="12258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464160" y="62596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51560" y="4917960"/>
            <a:ext cx="0" cy="12258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88000" y="4917960"/>
            <a:ext cx="0" cy="12258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53200" y="5487840"/>
            <a:ext cx="16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ínimos impropi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timo globa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76320" y="2508120"/>
            <a:ext cx="4448160" cy="1608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 punto x</a:t>
            </a:r>
            <a:r>
              <a:rPr b="0" lang="es-E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se denomina un mínimo global del problema de optimización si para cualquier punto x del conjunto factible F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</a:t>
            </a:r>
            <a:r>
              <a:rPr b="0" lang="es-E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J(x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92280" y="464184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305000" y="608184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65360" y="4497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25720" y="60818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86440" y="262080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699160" y="406080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59520" y="24764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20240" y="4060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32720" y="2827440"/>
            <a:ext cx="0" cy="12254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1720" y="3070080"/>
            <a:ext cx="2273400" cy="679680"/>
          </a:xfrm>
          <a:custGeom>
            <a:avLst/>
            <a:gdLst/>
            <a:ahLst/>
            <a:rect l="l" t="t" r="r" b="b"/>
            <a:pathLst>
              <a:path w="1432" h="428">
                <a:moveTo>
                  <a:pt x="0" y="0"/>
                </a:moveTo>
                <a:cubicBezTo>
                  <a:pt x="0" y="2"/>
                  <a:pt x="6" y="87"/>
                  <a:pt x="15" y="109"/>
                </a:cubicBezTo>
                <a:cubicBezTo>
                  <a:pt x="33" y="152"/>
                  <a:pt x="92" y="237"/>
                  <a:pt x="132" y="265"/>
                </a:cubicBezTo>
                <a:cubicBezTo>
                  <a:pt x="143" y="298"/>
                  <a:pt x="163" y="296"/>
                  <a:pt x="194" y="311"/>
                </a:cubicBezTo>
                <a:cubicBezTo>
                  <a:pt x="233" y="308"/>
                  <a:pt x="280" y="320"/>
                  <a:pt x="311" y="296"/>
                </a:cubicBezTo>
                <a:cubicBezTo>
                  <a:pt x="386" y="237"/>
                  <a:pt x="254" y="311"/>
                  <a:pt x="358" y="257"/>
                </a:cubicBezTo>
                <a:cubicBezTo>
                  <a:pt x="363" y="249"/>
                  <a:pt x="367" y="240"/>
                  <a:pt x="373" y="234"/>
                </a:cubicBezTo>
                <a:cubicBezTo>
                  <a:pt x="380" y="227"/>
                  <a:pt x="391" y="225"/>
                  <a:pt x="397" y="218"/>
                </a:cubicBezTo>
                <a:cubicBezTo>
                  <a:pt x="428" y="180"/>
                  <a:pt x="377" y="205"/>
                  <a:pt x="428" y="187"/>
                </a:cubicBezTo>
                <a:cubicBezTo>
                  <a:pt x="447" y="157"/>
                  <a:pt x="466" y="148"/>
                  <a:pt x="498" y="132"/>
                </a:cubicBezTo>
                <a:cubicBezTo>
                  <a:pt x="539" y="137"/>
                  <a:pt x="581" y="139"/>
                  <a:pt x="622" y="148"/>
                </a:cubicBezTo>
                <a:cubicBezTo>
                  <a:pt x="646" y="153"/>
                  <a:pt x="672" y="189"/>
                  <a:pt x="693" y="203"/>
                </a:cubicBezTo>
                <a:cubicBezTo>
                  <a:pt x="701" y="230"/>
                  <a:pt x="708" y="249"/>
                  <a:pt x="724" y="273"/>
                </a:cubicBezTo>
                <a:cubicBezTo>
                  <a:pt x="751" y="363"/>
                  <a:pt x="845" y="400"/>
                  <a:pt x="926" y="428"/>
                </a:cubicBezTo>
                <a:cubicBezTo>
                  <a:pt x="970" y="425"/>
                  <a:pt x="1014" y="426"/>
                  <a:pt x="1058" y="420"/>
                </a:cubicBezTo>
                <a:cubicBezTo>
                  <a:pt x="1087" y="416"/>
                  <a:pt x="1079" y="398"/>
                  <a:pt x="1097" y="382"/>
                </a:cubicBezTo>
                <a:cubicBezTo>
                  <a:pt x="1133" y="350"/>
                  <a:pt x="1180" y="322"/>
                  <a:pt x="1222" y="296"/>
                </a:cubicBezTo>
                <a:cubicBezTo>
                  <a:pt x="1227" y="288"/>
                  <a:pt x="1230" y="279"/>
                  <a:pt x="1237" y="273"/>
                </a:cubicBezTo>
                <a:cubicBezTo>
                  <a:pt x="1251" y="260"/>
                  <a:pt x="1284" y="241"/>
                  <a:pt x="1284" y="241"/>
                </a:cubicBezTo>
                <a:cubicBezTo>
                  <a:pt x="1287" y="233"/>
                  <a:pt x="1286" y="224"/>
                  <a:pt x="1292" y="218"/>
                </a:cubicBezTo>
                <a:cubicBezTo>
                  <a:pt x="1305" y="205"/>
                  <a:pt x="1339" y="187"/>
                  <a:pt x="1339" y="187"/>
                </a:cubicBezTo>
                <a:cubicBezTo>
                  <a:pt x="1347" y="161"/>
                  <a:pt x="1366" y="136"/>
                  <a:pt x="1385" y="117"/>
                </a:cubicBezTo>
                <a:cubicBezTo>
                  <a:pt x="1392" y="110"/>
                  <a:pt x="1402" y="107"/>
                  <a:pt x="1409" y="101"/>
                </a:cubicBezTo>
                <a:cubicBezTo>
                  <a:pt x="1417" y="94"/>
                  <a:pt x="1432" y="78"/>
                  <a:pt x="1432" y="7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45320" y="4672080"/>
            <a:ext cx="214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 no existe ningún valor de x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 tal que   J(x*) 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J(x) el problema es no acotado y no existe mínim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454880" y="41101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77280" y="2668680"/>
            <a:ext cx="11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ptimo glob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852560" y="4856040"/>
            <a:ext cx="1766880" cy="1704960"/>
          </a:xfrm>
          <a:custGeom>
            <a:avLst/>
            <a:gdLst/>
            <a:ahLst/>
            <a:rect l="l" t="t" r="r" b="b"/>
            <a:pathLst>
              <a:path w="1113" h="1074">
                <a:moveTo>
                  <a:pt x="0" y="1074"/>
                </a:moveTo>
                <a:cubicBezTo>
                  <a:pt x="21" y="1033"/>
                  <a:pt x="36" y="988"/>
                  <a:pt x="63" y="950"/>
                </a:cubicBezTo>
                <a:cubicBezTo>
                  <a:pt x="71" y="924"/>
                  <a:pt x="102" y="880"/>
                  <a:pt x="102" y="880"/>
                </a:cubicBezTo>
                <a:cubicBezTo>
                  <a:pt x="110" y="853"/>
                  <a:pt x="117" y="834"/>
                  <a:pt x="133" y="810"/>
                </a:cubicBezTo>
                <a:cubicBezTo>
                  <a:pt x="146" y="770"/>
                  <a:pt x="146" y="746"/>
                  <a:pt x="187" y="732"/>
                </a:cubicBezTo>
                <a:cubicBezTo>
                  <a:pt x="200" y="694"/>
                  <a:pt x="217" y="668"/>
                  <a:pt x="249" y="646"/>
                </a:cubicBezTo>
                <a:cubicBezTo>
                  <a:pt x="279" y="603"/>
                  <a:pt x="304" y="579"/>
                  <a:pt x="351" y="561"/>
                </a:cubicBezTo>
                <a:cubicBezTo>
                  <a:pt x="384" y="493"/>
                  <a:pt x="459" y="455"/>
                  <a:pt x="514" y="405"/>
                </a:cubicBezTo>
                <a:cubicBezTo>
                  <a:pt x="580" y="345"/>
                  <a:pt x="643" y="273"/>
                  <a:pt x="724" y="234"/>
                </a:cubicBezTo>
                <a:cubicBezTo>
                  <a:pt x="757" y="171"/>
                  <a:pt x="720" y="224"/>
                  <a:pt x="763" y="195"/>
                </a:cubicBezTo>
                <a:cubicBezTo>
                  <a:pt x="817" y="159"/>
                  <a:pt x="755" y="178"/>
                  <a:pt x="818" y="164"/>
                </a:cubicBezTo>
                <a:cubicBezTo>
                  <a:pt x="826" y="156"/>
                  <a:pt x="831" y="145"/>
                  <a:pt x="841" y="140"/>
                </a:cubicBezTo>
                <a:cubicBezTo>
                  <a:pt x="855" y="132"/>
                  <a:pt x="888" y="125"/>
                  <a:pt x="888" y="125"/>
                </a:cubicBezTo>
                <a:cubicBezTo>
                  <a:pt x="933" y="94"/>
                  <a:pt x="983" y="69"/>
                  <a:pt x="1036" y="55"/>
                </a:cubicBezTo>
                <a:cubicBezTo>
                  <a:pt x="1063" y="36"/>
                  <a:pt x="1099" y="32"/>
                  <a:pt x="1113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86080" y="5176800"/>
            <a:ext cx="15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blema no acota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70440" y="248760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arios máximos y mínimos loca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063800" y="2489040"/>
            <a:ext cx="4019400" cy="21812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162400" y="3695760"/>
            <a:ext cx="36482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jemp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77880" y="2790720"/>
            <a:ext cx="0" cy="1981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73320" y="4467240"/>
            <a:ext cx="2743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00760" y="4397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9518600">
            <a:off x="1560600" y="3146040"/>
            <a:ext cx="1239840" cy="1219320"/>
          </a:xfrm>
          <a:prstGeom prst="pentagon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42880" y="3070080"/>
            <a:ext cx="3049920" cy="143352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340000" y="3247920"/>
            <a:ext cx="1676520" cy="6858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06840" y="3387600"/>
            <a:ext cx="685800" cy="38124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336840" y="346068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86120" y="321948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71880" y="363996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41400" y="37688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99120" y="2816280"/>
            <a:ext cx="0" cy="1981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94200" y="4492800"/>
            <a:ext cx="2743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722000" y="44226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9518600">
            <a:off x="5700600" y="3110040"/>
            <a:ext cx="1239840" cy="1218960"/>
          </a:xfrm>
          <a:prstGeom prst="pentagon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32640" y="3121200"/>
            <a:ext cx="2133360" cy="9144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961240" y="3273480"/>
            <a:ext cx="1676160" cy="6858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27720" y="3413160"/>
            <a:ext cx="685800" cy="38088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58080" y="348624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407360" y="324468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593120" y="366552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981760" y="37321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644920" y="3568680"/>
            <a:ext cx="997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89240" y="5156280"/>
            <a:ext cx="997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66880" y="502920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ptimo glob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21480" y="3568680"/>
            <a:ext cx="10008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59560" y="2563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62440" y="261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08120" y="245916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urvas de ni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16520" y="4979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ínimo sin restricc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3027240" y="3582720"/>
            <a:ext cx="927360" cy="1531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50880" y="3541680"/>
            <a:ext cx="685800" cy="38088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11440" y="3629160"/>
            <a:ext cx="450720" cy="24444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84240" y="3710160"/>
            <a:ext cx="100080" cy="8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70160" y="5668920"/>
            <a:ext cx="997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47800" y="5541840"/>
            <a:ext cx="18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ptimo loc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58920" y="256536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71640" y="400536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46120" y="2976480"/>
            <a:ext cx="1952640" cy="608040"/>
          </a:xfrm>
          <a:custGeom>
            <a:avLst/>
            <a:gdLst/>
            <a:ahLst/>
            <a:rect l="l" t="t" r="r" b="b"/>
            <a:pathLst>
              <a:path w="1230" h="383">
                <a:moveTo>
                  <a:pt x="0" y="343"/>
                </a:moveTo>
                <a:cubicBezTo>
                  <a:pt x="11" y="282"/>
                  <a:pt x="23" y="304"/>
                  <a:pt x="46" y="258"/>
                </a:cubicBezTo>
                <a:cubicBezTo>
                  <a:pt x="63" y="223"/>
                  <a:pt x="74" y="192"/>
                  <a:pt x="101" y="164"/>
                </a:cubicBezTo>
                <a:cubicBezTo>
                  <a:pt x="119" y="96"/>
                  <a:pt x="94" y="163"/>
                  <a:pt x="132" y="118"/>
                </a:cubicBezTo>
                <a:cubicBezTo>
                  <a:pt x="140" y="109"/>
                  <a:pt x="141" y="96"/>
                  <a:pt x="148" y="87"/>
                </a:cubicBezTo>
                <a:cubicBezTo>
                  <a:pt x="164" y="68"/>
                  <a:pt x="174" y="73"/>
                  <a:pt x="194" y="63"/>
                </a:cubicBezTo>
                <a:cubicBezTo>
                  <a:pt x="202" y="59"/>
                  <a:pt x="210" y="53"/>
                  <a:pt x="218" y="48"/>
                </a:cubicBezTo>
                <a:cubicBezTo>
                  <a:pt x="229" y="40"/>
                  <a:pt x="237" y="30"/>
                  <a:pt x="249" y="24"/>
                </a:cubicBezTo>
                <a:cubicBezTo>
                  <a:pt x="275" y="11"/>
                  <a:pt x="323" y="6"/>
                  <a:pt x="350" y="1"/>
                </a:cubicBezTo>
                <a:cubicBezTo>
                  <a:pt x="407" y="4"/>
                  <a:pt x="465" y="0"/>
                  <a:pt x="521" y="9"/>
                </a:cubicBezTo>
                <a:cubicBezTo>
                  <a:pt x="544" y="13"/>
                  <a:pt x="561" y="33"/>
                  <a:pt x="583" y="40"/>
                </a:cubicBezTo>
                <a:cubicBezTo>
                  <a:pt x="634" y="57"/>
                  <a:pt x="695" y="87"/>
                  <a:pt x="739" y="118"/>
                </a:cubicBezTo>
                <a:cubicBezTo>
                  <a:pt x="777" y="145"/>
                  <a:pt x="798" y="183"/>
                  <a:pt x="840" y="203"/>
                </a:cubicBezTo>
                <a:cubicBezTo>
                  <a:pt x="873" y="236"/>
                  <a:pt x="912" y="281"/>
                  <a:pt x="957" y="297"/>
                </a:cubicBezTo>
                <a:cubicBezTo>
                  <a:pt x="1008" y="371"/>
                  <a:pt x="931" y="270"/>
                  <a:pt x="1004" y="328"/>
                </a:cubicBezTo>
                <a:cubicBezTo>
                  <a:pt x="1010" y="333"/>
                  <a:pt x="1006" y="345"/>
                  <a:pt x="1012" y="351"/>
                </a:cubicBezTo>
                <a:cubicBezTo>
                  <a:pt x="1044" y="383"/>
                  <a:pt x="1204" y="382"/>
                  <a:pt x="1230" y="38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0920" y="256536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43280" y="400536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00640" y="3311640"/>
            <a:ext cx="704880" cy="382320"/>
          </a:xfrm>
          <a:custGeom>
            <a:avLst/>
            <a:gdLst/>
            <a:ahLst/>
            <a:rect l="l" t="t" r="r" b="b"/>
            <a:pathLst>
              <a:path w="444" h="241">
                <a:moveTo>
                  <a:pt x="0" y="241"/>
                </a:moveTo>
                <a:cubicBezTo>
                  <a:pt x="7" y="213"/>
                  <a:pt x="15" y="156"/>
                  <a:pt x="39" y="132"/>
                </a:cubicBezTo>
                <a:cubicBezTo>
                  <a:pt x="105" y="66"/>
                  <a:pt x="260" y="74"/>
                  <a:pt x="343" y="62"/>
                </a:cubicBezTo>
                <a:cubicBezTo>
                  <a:pt x="380" y="51"/>
                  <a:pt x="417" y="27"/>
                  <a:pt x="444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12000" y="2781360"/>
            <a:ext cx="1296720" cy="593640"/>
          </a:xfrm>
          <a:custGeom>
            <a:avLst/>
            <a:gdLst/>
            <a:ahLst/>
            <a:rect l="l" t="t" r="r" b="b"/>
            <a:pathLst>
              <a:path w="817" h="374">
                <a:moveTo>
                  <a:pt x="0" y="168"/>
                </a:moveTo>
                <a:cubicBezTo>
                  <a:pt x="23" y="135"/>
                  <a:pt x="26" y="106"/>
                  <a:pt x="62" y="83"/>
                </a:cubicBezTo>
                <a:cubicBezTo>
                  <a:pt x="119" y="0"/>
                  <a:pt x="75" y="35"/>
                  <a:pt x="226" y="44"/>
                </a:cubicBezTo>
                <a:cubicBezTo>
                  <a:pt x="262" y="51"/>
                  <a:pt x="281" y="54"/>
                  <a:pt x="311" y="75"/>
                </a:cubicBezTo>
                <a:cubicBezTo>
                  <a:pt x="325" y="115"/>
                  <a:pt x="309" y="84"/>
                  <a:pt x="343" y="114"/>
                </a:cubicBezTo>
                <a:cubicBezTo>
                  <a:pt x="391" y="156"/>
                  <a:pt x="429" y="204"/>
                  <a:pt x="483" y="238"/>
                </a:cubicBezTo>
                <a:cubicBezTo>
                  <a:pt x="529" y="312"/>
                  <a:pt x="681" y="349"/>
                  <a:pt x="763" y="363"/>
                </a:cubicBezTo>
                <a:cubicBezTo>
                  <a:pt x="796" y="374"/>
                  <a:pt x="778" y="371"/>
                  <a:pt x="817" y="371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012000" y="2708280"/>
            <a:ext cx="0" cy="122544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32000" y="242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3236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9236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164360" y="407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187280" y="4653000"/>
                <a:ext cx="237672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iste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iste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2627280" y="2565360"/>
            <a:ext cx="18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tinua en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11280" y="2708280"/>
            <a:ext cx="0" cy="122544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95640" y="4005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796000" y="4076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32720" y="2492280"/>
            <a:ext cx="208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scontinua en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88000" y="468000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s importante para muchos algoritmos trabajar con funciones continuas y con derivadas continu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105680" y="338472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rivada no defini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090840" y="3187800"/>
            <a:ext cx="1001880" cy="3952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58920" y="256536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71640" y="400536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332000" y="242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9236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32000" y="2349360"/>
            <a:ext cx="1800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tinua pero con derivada discontinua en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476360" y="2924280"/>
            <a:ext cx="792000" cy="792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68360" y="2924280"/>
            <a:ext cx="863640" cy="720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68360" y="2781360"/>
            <a:ext cx="0" cy="122544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2720" y="40784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075280" y="256536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88000" y="400536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148360" y="242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364000" y="3357360"/>
            <a:ext cx="503280" cy="215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867280" y="2997000"/>
            <a:ext cx="360360" cy="360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27640" y="2997360"/>
            <a:ext cx="649440" cy="71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77080" y="3068640"/>
            <a:ext cx="360360" cy="431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3573360"/>
            <a:ext cx="71280" cy="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796000" y="3357720"/>
            <a:ext cx="71280" cy="7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16480" y="2948040"/>
            <a:ext cx="71640" cy="7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54760" y="3056040"/>
            <a:ext cx="71640" cy="7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13680" y="3454560"/>
            <a:ext cx="71280" cy="7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102280" y="4468680"/>
            <a:ext cx="313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rivada discontinua debido a la conversión en función continua mediante interpolación lineal de una función originalmente definida solo en puntos discretos de 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23920" y="4657680"/>
            <a:ext cx="348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étodos de optimización basados en el cálculo de derivadas pueden producir oscilaciones y falta de convergencia en la solución si hay discontinu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ore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75280" y="4708440"/>
            <a:ext cx="26668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075280" y="2575080"/>
            <a:ext cx="0" cy="21333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703680" y="4708440"/>
            <a:ext cx="1371600" cy="10670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27560" y="2575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J(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64240" y="5705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08800" y="5241960"/>
            <a:ext cx="1600200" cy="53352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227560" y="5089680"/>
            <a:ext cx="2362320" cy="9144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37400" y="5394240"/>
            <a:ext cx="1066680" cy="2286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521840" y="4257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479920" y="3286080"/>
            <a:ext cx="1828800" cy="609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732200" y="4844880"/>
            <a:ext cx="1347840" cy="779760"/>
          </a:xfrm>
          <a:prstGeom prst="pentagon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70520" y="4178160"/>
            <a:ext cx="0" cy="1335240"/>
          </a:xfrm>
          <a:prstGeom prst="line">
            <a:avLst/>
          </a:prstGeom>
          <a:ln w="1260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165640" y="515304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06680" y="3051000"/>
            <a:ext cx="260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función continua J(x) tiene un mínimo global en cualquier conjunto F cerrado y acota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vex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92120" y="2703600"/>
            <a:ext cx="0" cy="1981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87560" y="4379760"/>
            <a:ext cx="2743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15000" y="4309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67240" y="23288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449600" y="2495520"/>
            <a:ext cx="1754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forma de la región de búsqueda es importante para los algoritmos de optim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9518600">
            <a:off x="1374840" y="3059280"/>
            <a:ext cx="1239840" cy="1218960"/>
          </a:xfrm>
          <a:prstGeom prst="pentagon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925640" y="3008160"/>
            <a:ext cx="2133720" cy="9144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54240" y="3160800"/>
            <a:ext cx="1676520" cy="6858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521080" y="3300480"/>
            <a:ext cx="685800" cy="38088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51080" y="337356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600360" y="313200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86120" y="355284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55640" y="368136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7116840" y="2182680"/>
                <a:ext cx="154440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6721560" y="2816280"/>
            <a:ext cx="2274840" cy="159372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369800">
            <a:off x="1566720" y="5383080"/>
            <a:ext cx="2003400" cy="781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3895800">
            <a:off x="6808320" y="4744800"/>
            <a:ext cx="1519200" cy="9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839960" y="5592600"/>
            <a:ext cx="1241280" cy="247680"/>
            <a:chOff x="1839960" y="5592600"/>
            <a:chExt cx="1241280" cy="247680"/>
          </a:xfrm>
        </p:grpSpPr>
        <p:sp>
          <p:nvSpPr>
            <p:cNvPr id="440" name=""/>
            <p:cNvSpPr/>
            <p:nvPr/>
          </p:nvSpPr>
          <p:spPr>
            <a:xfrm>
              <a:off x="1950840" y="5657400"/>
              <a:ext cx="1051200" cy="136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39960" y="5592600"/>
              <a:ext cx="110880" cy="10476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70000" y="5735160"/>
              <a:ext cx="111240" cy="10512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2668680" y="591804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262280" y="5011920"/>
            <a:ext cx="599040" cy="779040"/>
            <a:chOff x="7262280" y="5011920"/>
            <a:chExt cx="599040" cy="779040"/>
          </a:xfrm>
        </p:grpSpPr>
        <p:sp>
          <p:nvSpPr>
            <p:cNvPr id="445" name=""/>
            <p:cNvSpPr/>
            <p:nvPr/>
          </p:nvSpPr>
          <p:spPr>
            <a:xfrm flipV="1">
              <a:off x="7353000" y="5087880"/>
              <a:ext cx="443160" cy="6152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7734800">
              <a:off x="7286040" y="5681880"/>
              <a:ext cx="78480" cy="1026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7734800">
              <a:off x="7758000" y="5018040"/>
              <a:ext cx="78840" cy="10296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752400" y="612792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 convex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37320" y="583740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 no-convex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06920" y="5002200"/>
            <a:ext cx="3100320" cy="1465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 conjunto F es convexo si el segmento que une dos puntos cualquiera del mismo esta totalmente contenido en 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216920" y="488160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as de Optimiz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79440" y="2892600"/>
                <a:ext cx="1544760" cy="19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924360" y="2637000"/>
            <a:ext cx="403236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 encontrar una solución al problema es important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udiar las propiedades matemáticas de las funciones que intervienen en el probl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udiar la estructura matemática del problema, los distintos tipos que se presentan y las técnicas de solución particulares para cada uno de ello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5373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blema general NP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junto Convex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50760" y="2544840"/>
            <a:ext cx="37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 es convexo si y solo si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917640" y="3078000"/>
                <a:ext cx="358776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γ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 rot="1369800">
            <a:off x="1370160" y="4678200"/>
            <a:ext cx="2003400" cy="781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643040" y="4888080"/>
            <a:ext cx="1241280" cy="246960"/>
            <a:chOff x="1643040" y="4888080"/>
            <a:chExt cx="1241280" cy="246960"/>
          </a:xfrm>
        </p:grpSpPr>
        <p:sp>
          <p:nvSpPr>
            <p:cNvPr id="457" name=""/>
            <p:cNvSpPr/>
            <p:nvPr/>
          </p:nvSpPr>
          <p:spPr>
            <a:xfrm>
              <a:off x="1753920" y="4952520"/>
              <a:ext cx="1051200" cy="1364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643040" y="4888080"/>
              <a:ext cx="110880" cy="1044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73080" y="5030280"/>
              <a:ext cx="111240" cy="10476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2471760" y="521352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352400">
            <a:off x="5103360" y="4719240"/>
            <a:ext cx="1865520" cy="927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78680" y="4449600"/>
            <a:ext cx="1743120" cy="1346400"/>
          </a:xfrm>
          <a:prstGeom prst="pentagon">
            <a:avLst/>
          </a:prstGeom>
          <a:solidFill>
            <a:srgbClr val="ffff00">
              <a:alpha val="4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140440" y="2681280"/>
            <a:ext cx="342252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intersección de dos conjuntos convexos es convex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64360" y="3559320"/>
            <a:ext cx="198360" cy="1704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60360" y="573408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gión convexa y cerra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ción convex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052960" y="283680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65680" y="427680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261040" y="2728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26040" y="4300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050840" y="2817720"/>
            <a:ext cx="31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a función J(x) es convexa en un conjunto convexo F si no toma valores superiores a los de una interpolación line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672160" y="3087720"/>
            <a:ext cx="1606680" cy="774720"/>
          </a:xfrm>
          <a:custGeom>
            <a:avLst/>
            <a:gdLst/>
            <a:ahLst/>
            <a:rect l="l" t="t" r="r" b="b"/>
            <a:pathLst>
              <a:path w="1012" h="488">
                <a:moveTo>
                  <a:pt x="0" y="0"/>
                </a:moveTo>
                <a:cubicBezTo>
                  <a:pt x="35" y="95"/>
                  <a:pt x="71" y="191"/>
                  <a:pt x="133" y="265"/>
                </a:cubicBezTo>
                <a:cubicBezTo>
                  <a:pt x="195" y="339"/>
                  <a:pt x="309" y="408"/>
                  <a:pt x="374" y="444"/>
                </a:cubicBezTo>
                <a:cubicBezTo>
                  <a:pt x="439" y="480"/>
                  <a:pt x="453" y="488"/>
                  <a:pt x="522" y="483"/>
                </a:cubicBezTo>
                <a:cubicBezTo>
                  <a:pt x="591" y="478"/>
                  <a:pt x="704" y="460"/>
                  <a:pt x="786" y="413"/>
                </a:cubicBezTo>
                <a:cubicBezTo>
                  <a:pt x="868" y="366"/>
                  <a:pt x="980" y="239"/>
                  <a:pt x="1012" y="203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759280" y="3335400"/>
            <a:ext cx="1149480" cy="4204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759280" y="3360600"/>
            <a:ext cx="0" cy="9255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77080" y="3751200"/>
            <a:ext cx="12600" cy="5414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34080" y="422424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64480" y="423072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562720" y="43941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88080" y="43815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167520" y="3483000"/>
            <a:ext cx="11160" cy="7920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34040" y="342576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122880" y="371160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314360" y="4896000"/>
                <a:ext cx="59389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γ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γ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γ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1359000" y="6202440"/>
            <a:ext cx="55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  se cumple con &lt;  es estrictamente convex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unción concav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52960" y="283680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65680" y="427680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61040" y="2728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026040" y="4300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50840" y="2817720"/>
            <a:ext cx="31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a función J(x) es cóncava en un conjunto convexo F si no toma valores inferiores a los de una interpolación line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 rot="762600">
            <a:off x="5475240" y="3074040"/>
            <a:ext cx="1470240" cy="998640"/>
          </a:xfrm>
          <a:custGeom>
            <a:avLst/>
            <a:gdLst/>
            <a:ahLst/>
            <a:rect l="l" t="t" r="r" b="b"/>
            <a:pathLst>
              <a:path w="1012" h="488">
                <a:moveTo>
                  <a:pt x="0" y="0"/>
                </a:moveTo>
                <a:cubicBezTo>
                  <a:pt x="35" y="95"/>
                  <a:pt x="71" y="191"/>
                  <a:pt x="133" y="265"/>
                </a:cubicBezTo>
                <a:cubicBezTo>
                  <a:pt x="195" y="339"/>
                  <a:pt x="309" y="408"/>
                  <a:pt x="374" y="444"/>
                </a:cubicBezTo>
                <a:cubicBezTo>
                  <a:pt x="439" y="480"/>
                  <a:pt x="453" y="488"/>
                  <a:pt x="522" y="483"/>
                </a:cubicBezTo>
                <a:cubicBezTo>
                  <a:pt x="591" y="478"/>
                  <a:pt x="704" y="460"/>
                  <a:pt x="786" y="413"/>
                </a:cubicBezTo>
                <a:cubicBezTo>
                  <a:pt x="868" y="366"/>
                  <a:pt x="980" y="239"/>
                  <a:pt x="1012" y="203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59280" y="3335400"/>
            <a:ext cx="1149480" cy="4204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59280" y="3360600"/>
            <a:ext cx="0" cy="9255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877080" y="3751200"/>
            <a:ext cx="12600" cy="5414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34080" y="422424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64480" y="423072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43941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88080" y="43815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6167520" y="3483000"/>
            <a:ext cx="11160" cy="7920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34040" y="342576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122880" y="305280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314360" y="4896000"/>
                <a:ext cx="59389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γ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γ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γ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1359000" y="6202440"/>
            <a:ext cx="55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  se cumple con &lt;  es estrictamente convex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vex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308240" y="261468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020600" y="405432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515960" y="25066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281320" y="4078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927080" y="2865600"/>
            <a:ext cx="1606680" cy="774360"/>
          </a:xfrm>
          <a:custGeom>
            <a:avLst/>
            <a:gdLst/>
            <a:ahLst/>
            <a:rect l="l" t="t" r="r" b="b"/>
            <a:pathLst>
              <a:path w="1012" h="488">
                <a:moveTo>
                  <a:pt x="0" y="0"/>
                </a:moveTo>
                <a:cubicBezTo>
                  <a:pt x="35" y="95"/>
                  <a:pt x="71" y="191"/>
                  <a:pt x="133" y="265"/>
                </a:cubicBezTo>
                <a:cubicBezTo>
                  <a:pt x="195" y="339"/>
                  <a:pt x="309" y="408"/>
                  <a:pt x="374" y="444"/>
                </a:cubicBezTo>
                <a:cubicBezTo>
                  <a:pt x="439" y="480"/>
                  <a:pt x="453" y="488"/>
                  <a:pt x="522" y="483"/>
                </a:cubicBezTo>
                <a:cubicBezTo>
                  <a:pt x="591" y="478"/>
                  <a:pt x="704" y="460"/>
                  <a:pt x="786" y="413"/>
                </a:cubicBezTo>
                <a:cubicBezTo>
                  <a:pt x="868" y="366"/>
                  <a:pt x="980" y="239"/>
                  <a:pt x="1012" y="203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14560" y="3112920"/>
            <a:ext cx="1149480" cy="4208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014560" y="3138480"/>
            <a:ext cx="0" cy="9255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32000" y="3529080"/>
            <a:ext cx="12960" cy="5414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989000" y="400212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19400" y="4008600"/>
            <a:ext cx="88920" cy="88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817640" y="41720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943360" y="41590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2422440" y="3260880"/>
            <a:ext cx="11160" cy="7920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389320" y="320364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78160" y="348948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040360" y="267660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53080" y="411624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248440" y="25686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13440" y="4140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 rot="762600">
            <a:off x="5462640" y="2914200"/>
            <a:ext cx="1469880" cy="998640"/>
          </a:xfrm>
          <a:custGeom>
            <a:avLst/>
            <a:gdLst/>
            <a:ahLst/>
            <a:rect l="l" t="t" r="r" b="b"/>
            <a:pathLst>
              <a:path w="1012" h="488">
                <a:moveTo>
                  <a:pt x="0" y="0"/>
                </a:moveTo>
                <a:cubicBezTo>
                  <a:pt x="35" y="95"/>
                  <a:pt x="71" y="191"/>
                  <a:pt x="133" y="265"/>
                </a:cubicBezTo>
                <a:cubicBezTo>
                  <a:pt x="195" y="339"/>
                  <a:pt x="309" y="408"/>
                  <a:pt x="374" y="444"/>
                </a:cubicBezTo>
                <a:cubicBezTo>
                  <a:pt x="439" y="480"/>
                  <a:pt x="453" y="488"/>
                  <a:pt x="522" y="483"/>
                </a:cubicBezTo>
                <a:cubicBezTo>
                  <a:pt x="591" y="478"/>
                  <a:pt x="704" y="460"/>
                  <a:pt x="786" y="413"/>
                </a:cubicBezTo>
                <a:cubicBezTo>
                  <a:pt x="868" y="366"/>
                  <a:pt x="980" y="239"/>
                  <a:pt x="1012" y="203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46680" y="3174840"/>
            <a:ext cx="1149480" cy="4208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46680" y="3200400"/>
            <a:ext cx="0" cy="9255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64480" y="3591000"/>
            <a:ext cx="12600" cy="5414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721480" y="406404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851520" y="4070520"/>
            <a:ext cx="88920" cy="88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549760" y="42339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675480" y="4221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6154560" y="3322800"/>
            <a:ext cx="11160" cy="7920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21440" y="326556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10280" y="3551400"/>
            <a:ext cx="88920" cy="88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19240" y="5022720"/>
            <a:ext cx="4809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i J(x) es convexa,   -J(x) es concav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función lineal es convexa y concav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442200" y="468468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154560" y="612468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77120" y="48736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415280" y="6148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148520" y="5183280"/>
            <a:ext cx="1149480" cy="420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148520" y="5208480"/>
            <a:ext cx="0" cy="9255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265960" y="5599080"/>
            <a:ext cx="12960" cy="5414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122960" y="607212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3360" y="607860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951600" y="62420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77320" y="62294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7556400" y="5330880"/>
            <a:ext cx="11160" cy="7920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23280" y="528624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jemplos de funciones convex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19320" y="40356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exp(-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164120" y="2425680"/>
            <a:ext cx="2192400" cy="16430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4572000" y="4078440"/>
            <a:ext cx="16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x log(x)   x &gt;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4135320" y="4460760"/>
            <a:ext cx="2221200" cy="16653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484520" y="624060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GB" sz="1800" spc="-1" strike="noStrike" baseline="30000">
                <a:solidFill>
                  <a:srgbClr val="003366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a </a:t>
            </a:r>
            <a:r>
              <a:rPr b="0" lang="en-GB" sz="1800" spc="-1" strike="noStrike">
                <a:solidFill>
                  <a:srgbClr val="003366"/>
                </a:solidFill>
                <a:latin typeface="Symbol"/>
                <a:ea typeface="Symbol"/>
              </a:rPr>
              <a:t>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1, x &gt;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1187280" y="2443320"/>
            <a:ext cx="2184480" cy="16380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1263600" y="4459320"/>
            <a:ext cx="2171880" cy="1628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727280" y="61531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|x|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5"/>
          <a:stretch/>
        </p:blipFill>
        <p:spPr>
          <a:xfrm>
            <a:off x="6762600" y="2430360"/>
            <a:ext cx="2165400" cy="16225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7343640" y="4253040"/>
            <a:ext cx="108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-25000">
                <a:solidFill>
                  <a:srgbClr val="003366"/>
                </a:solidFill>
                <a:latin typeface="Arial"/>
              </a:rPr>
              <a:t>max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908760" y="4919760"/>
            <a:ext cx="181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odas las normas son convexas.       La media geométrica es cóncav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vexidad de funciones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(una variable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60368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05640" y="6043680"/>
            <a:ext cx="28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200640" y="44956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966000" y="60674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280800">
            <a:off x="6611400" y="4883040"/>
            <a:ext cx="1606680" cy="774720"/>
          </a:xfrm>
          <a:custGeom>
            <a:avLst/>
            <a:gdLst/>
            <a:ahLst/>
            <a:rect l="l" t="t" r="r" b="b"/>
            <a:pathLst>
              <a:path w="1012" h="488">
                <a:moveTo>
                  <a:pt x="0" y="0"/>
                </a:moveTo>
                <a:cubicBezTo>
                  <a:pt x="35" y="95"/>
                  <a:pt x="71" y="191"/>
                  <a:pt x="133" y="265"/>
                </a:cubicBezTo>
                <a:cubicBezTo>
                  <a:pt x="195" y="339"/>
                  <a:pt x="309" y="408"/>
                  <a:pt x="374" y="444"/>
                </a:cubicBezTo>
                <a:cubicBezTo>
                  <a:pt x="439" y="480"/>
                  <a:pt x="453" y="488"/>
                  <a:pt x="522" y="483"/>
                </a:cubicBezTo>
                <a:cubicBezTo>
                  <a:pt x="591" y="478"/>
                  <a:pt x="704" y="460"/>
                  <a:pt x="786" y="413"/>
                </a:cubicBezTo>
                <a:cubicBezTo>
                  <a:pt x="868" y="366"/>
                  <a:pt x="980" y="239"/>
                  <a:pt x="1012" y="203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575400" y="5184720"/>
            <a:ext cx="1146240" cy="7621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699240" y="5127480"/>
            <a:ext cx="0" cy="9255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673680" y="599112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02320" y="611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107120" y="5249880"/>
            <a:ext cx="11160" cy="7920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061040" y="600876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062840" y="547848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661080" y="501660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65760" y="524340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495440" y="4867200"/>
            <a:ext cx="3583080" cy="954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 H es continua y positiva semidefinida la función J(x) es convexa en un entorno de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356600" y="5180040"/>
            <a:ext cx="162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(x</a:t>
            </a:r>
            <a:r>
              <a:rPr b="0" lang="en-GB" sz="14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)+J’(x</a:t>
            </a:r>
            <a:r>
              <a:rPr b="0" lang="en-GB" sz="14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)(x-x</a:t>
            </a:r>
            <a:r>
              <a:rPr b="0" lang="en-GB" sz="14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7620120" y="5513400"/>
            <a:ext cx="527040" cy="318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1523880" y="2494080"/>
                <a:ext cx="5791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J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J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vexidad de funcion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903240" y="2374920"/>
          <a:ext cx="6545160" cy="26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2374920"/>
                    <a:ext cx="6545160" cy="26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6264360" y="474660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977080" y="6186600"/>
            <a:ext cx="28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2080" y="46386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237440" y="6210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280800">
            <a:off x="6883200" y="5025960"/>
            <a:ext cx="1606320" cy="774720"/>
          </a:xfrm>
          <a:custGeom>
            <a:avLst/>
            <a:gdLst/>
            <a:ahLst/>
            <a:rect l="l" t="t" r="r" b="b"/>
            <a:pathLst>
              <a:path w="1012" h="488">
                <a:moveTo>
                  <a:pt x="0" y="0"/>
                </a:moveTo>
                <a:cubicBezTo>
                  <a:pt x="35" y="95"/>
                  <a:pt x="71" y="191"/>
                  <a:pt x="133" y="265"/>
                </a:cubicBezTo>
                <a:cubicBezTo>
                  <a:pt x="195" y="339"/>
                  <a:pt x="309" y="408"/>
                  <a:pt x="374" y="444"/>
                </a:cubicBezTo>
                <a:cubicBezTo>
                  <a:pt x="439" y="480"/>
                  <a:pt x="453" y="488"/>
                  <a:pt x="522" y="483"/>
                </a:cubicBezTo>
                <a:cubicBezTo>
                  <a:pt x="591" y="478"/>
                  <a:pt x="704" y="460"/>
                  <a:pt x="786" y="413"/>
                </a:cubicBezTo>
                <a:cubicBezTo>
                  <a:pt x="868" y="366"/>
                  <a:pt x="980" y="239"/>
                  <a:pt x="1012" y="203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846840" y="5327640"/>
            <a:ext cx="1146240" cy="7621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970680" y="5270400"/>
            <a:ext cx="0" cy="9255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945480" y="6134040"/>
            <a:ext cx="8856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773760" y="625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7378560" y="5392800"/>
            <a:ext cx="11160" cy="7920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32840" y="6151680"/>
            <a:ext cx="8856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334280" y="562140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32520" y="515952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37200" y="538632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450800" y="5318280"/>
            <a:ext cx="3583080" cy="954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a forma cuadrática z’Hz determina si la función J(x) es convexa en un entorno de x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451640" y="5035680"/>
            <a:ext cx="162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(x</a:t>
            </a:r>
            <a:r>
              <a:rPr b="0" lang="en-GB" sz="14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)+J’(x</a:t>
            </a:r>
            <a:r>
              <a:rPr b="0" lang="en-GB" sz="14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)(x-x</a:t>
            </a:r>
            <a:r>
              <a:rPr b="0" lang="en-GB" sz="14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7891200" y="5321160"/>
            <a:ext cx="207720" cy="6541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242120" y="4208400"/>
            <a:ext cx="16700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H   Hessia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s Cuadráticas / Matrices P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47880" y="2622600"/>
            <a:ext cx="77724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forma cuadrática z’Hz es positiva definida (PD) si z’Hz &gt; 0 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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a ello la matriz H debe tener todos sus autovalores &gt;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e dice también que la matriz H es P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forma cuadrática z’Hz es positiva semidefinida (PSD) si z’Hz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≥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 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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a ello la matriz H debe tener todos sus autovalores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≥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forma cuadrática z’Hz es negativa definida (ND) si z’Hz &lt; 0 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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a ello la matriz H debe tener todos sus autovalores &lt;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forma cuadrática z’Hz es indefinida si puede tomar valores positivos o negativos para distintos valores de 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n ese caso la matriz H tiene autovalores positivos y nega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egión  J(x) </a:t>
            </a:r>
            <a:r>
              <a:rPr b="1" lang="en-GB" sz="3600" spc="-1" strike="noStrike">
                <a:solidFill>
                  <a:srgbClr val="006666"/>
                </a:solidFill>
                <a:latin typeface="Symbol"/>
                <a:ea typeface="Symbol"/>
              </a:rPr>
              <a:t>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6666"/>
                </a:solidFill>
                <a:latin typeface="Symbol"/>
                <a:ea typeface="Symbol"/>
              </a:rPr>
              <a:t>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278000" y="2700360"/>
            <a:ext cx="66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Si la función J(x) es convexa en un conjunto F convexo, entonces el conjunt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519360" y="3348000"/>
          <a:ext cx="304668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3348000"/>
                    <a:ext cx="30466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6705720" y="3513240"/>
            <a:ext cx="14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es convex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47760" y="4309920"/>
            <a:ext cx="0" cy="12924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133720" y="5573880"/>
            <a:ext cx="1944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1292400" y="5587920"/>
            <a:ext cx="855360" cy="7254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1797120" y="5123880"/>
            <a:ext cx="2440080" cy="360"/>
          </a:xfrm>
          <a:prstGeom prst="line">
            <a:avLst/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511360" y="4890960"/>
            <a:ext cx="1233720" cy="203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494080" y="5977080"/>
            <a:ext cx="1233360" cy="2030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5849400">
            <a:off x="1841040" y="3212280"/>
            <a:ext cx="2726640" cy="166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26753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267535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41600" y="410688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208400" y="5487840"/>
            <a:ext cx="42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GB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332000" y="6138720"/>
            <a:ext cx="420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GB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841400" y="45450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11360" y="5006880"/>
            <a:ext cx="0" cy="1074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728880" y="5019840"/>
            <a:ext cx="0" cy="10746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92480" y="6097680"/>
            <a:ext cx="11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J(x) </a:t>
            </a:r>
            <a:r>
              <a:rPr b="0" lang="en-GB" sz="1800" spc="-1" strike="noStrike">
                <a:solidFill>
                  <a:srgbClr val="003366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3222720" y="6109920"/>
            <a:ext cx="971280" cy="160200"/>
          </a:xfrm>
          <a:prstGeom prst="line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onjunto f(x)=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262160" y="2612880"/>
            <a:ext cx="507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En general, el conjunto definido por la restricción no-lineal de igualdad   f(x) = 0  es no convex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584520" y="3468600"/>
            <a:ext cx="0" cy="2424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19320" y="5472000"/>
            <a:ext cx="4106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106880" y="4027320"/>
            <a:ext cx="3106800" cy="790920"/>
          </a:xfrm>
          <a:custGeom>
            <a:avLst/>
            <a:gdLst/>
            <a:ahLst/>
            <a:rect l="l" t="t" r="r" b="b"/>
            <a:pathLst>
              <a:path w="1957" h="498">
                <a:moveTo>
                  <a:pt x="0" y="498"/>
                </a:moveTo>
                <a:cubicBezTo>
                  <a:pt x="4" y="355"/>
                  <a:pt x="9" y="212"/>
                  <a:pt x="119" y="133"/>
                </a:cubicBezTo>
                <a:cubicBezTo>
                  <a:pt x="229" y="54"/>
                  <a:pt x="440" y="0"/>
                  <a:pt x="659" y="23"/>
                </a:cubicBezTo>
                <a:cubicBezTo>
                  <a:pt x="878" y="46"/>
                  <a:pt x="1220" y="246"/>
                  <a:pt x="1436" y="270"/>
                </a:cubicBezTo>
                <a:cubicBezTo>
                  <a:pt x="1652" y="294"/>
                  <a:pt x="1867" y="189"/>
                  <a:pt x="1957" y="169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246720" y="3384720"/>
            <a:ext cx="2214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njunto de puntos que verifican f(x</a:t>
            </a:r>
            <a:r>
              <a:rPr b="0" lang="en-GB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,x</a:t>
            </a:r>
            <a:r>
              <a:rPr b="0" lang="en-GB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)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748560" y="5559480"/>
            <a:ext cx="420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GB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073320" y="3511440"/>
            <a:ext cx="42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GB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078440" y="4470480"/>
            <a:ext cx="11556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773680" y="4235400"/>
            <a:ext cx="115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4137120" y="4281480"/>
            <a:ext cx="1697040" cy="262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ceptos Gener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ormul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ptimos locales y glob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act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piedades matemát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tinu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vex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problemas de opti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vexidad de funciones line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082520" y="2530440"/>
            <a:ext cx="75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giones definidas por desigualdades o igualdades lineales son convexas. Se denominan politop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733400" y="3706920"/>
            <a:ext cx="0" cy="1981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428840" y="5383080"/>
            <a:ext cx="2743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256280" y="53132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208520" y="36273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19518600">
            <a:off x="1716120" y="4061880"/>
            <a:ext cx="1239840" cy="1219320"/>
          </a:xfrm>
          <a:prstGeom prst="pentagon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996920" y="46846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770120" y="4159080"/>
            <a:ext cx="1522440" cy="47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693880" y="3965400"/>
            <a:ext cx="370080" cy="1217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646280" y="3905280"/>
            <a:ext cx="426960" cy="1271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4740120"/>
            <a:ext cx="1067040" cy="822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2163600" y="4770360"/>
            <a:ext cx="1113120" cy="746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998960" y="3627360"/>
            <a:ext cx="33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gualmente, las funciones lineales son convexas (y concava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13360" y="4740120"/>
            <a:ext cx="0" cy="13096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516640" y="5837400"/>
            <a:ext cx="28954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465040" y="56055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86680" y="46497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202440" y="4876560"/>
            <a:ext cx="1981080" cy="517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583320" y="524196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848720" y="489276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ciones cuadrátic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1279440" y="2612880"/>
          <a:ext cx="2976480" cy="24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612880"/>
                    <a:ext cx="2976480" cy="24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4900680" y="3332160"/>
          <a:ext cx="3332160" cy="9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0680" y="3332160"/>
                    <a:ext cx="33321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5140440" y="4981680"/>
          <a:ext cx="2830320" cy="88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0440" y="4981680"/>
                    <a:ext cx="283032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"/>
          <p:cNvSpPr/>
          <p:nvPr/>
        </p:nvSpPr>
        <p:spPr>
          <a:xfrm>
            <a:off x="5014800" y="5959440"/>
            <a:ext cx="35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cribe una región en R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838760" y="4341960"/>
            <a:ext cx="37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unción (forma) cuadrática en R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057320" y="5359320"/>
            <a:ext cx="27590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matriz H define el tipo de forma cuadrá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convexidad es glob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vexidad de regiones cuadrátic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rot="1564200">
            <a:off x="1383840" y="2854440"/>
            <a:ext cx="2063880" cy="82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140360" y="2583000"/>
            <a:ext cx="303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l conjunto x’Hx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≤ 1 es convexo si la matriz H es real simétrica positiva semidefini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979560" y="4197240"/>
            <a:ext cx="790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 es positiva semidefinida si Q(x) = x’Hx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≥ 0 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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x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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 0   , autovalores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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 es positiva definida si Q(x) = x’Hx &gt; 0 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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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           , autovalores &gt;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 es negativa semidefinida si Q(x) = x’Hx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≤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 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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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  , autovalores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 es negativa definida si Q(x) = x’Hx &lt; 0 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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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          , autovalores &lt;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95440" y="607860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a función cuadratica Q(x) es PD si H es PD,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vexidad de regiones cuadrátic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911160" y="2652840"/>
                <a:ext cx="3171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4556160" y="27129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tovalores 1.5, 0.5  P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5551560" y="3537000"/>
            <a:ext cx="3211560" cy="240804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1420920" y="3459240"/>
            <a:ext cx="3211560" cy="240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5" name=""/>
          <p:cNvGraphicFramePr/>
          <p:nvPr/>
        </p:nvGraphicFramePr>
        <p:xfrm>
          <a:off x="1857240" y="5907240"/>
          <a:ext cx="248616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5907240"/>
                    <a:ext cx="24861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"/>
          <p:cNvSpPr/>
          <p:nvPr/>
        </p:nvSpPr>
        <p:spPr>
          <a:xfrm>
            <a:off x="525600" y="5999040"/>
            <a:ext cx="12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Fun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6270480" y="5977080"/>
          <a:ext cx="20289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70480" y="5977080"/>
                    <a:ext cx="20289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4932360" y="5929200"/>
            <a:ext cx="13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urvas de ni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vexidad de regiones cuadrátic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839880" y="2652840"/>
                <a:ext cx="33145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4556160" y="271296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tovalores 5.02, -2.02  Indefini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5154480" y="399240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1085760" y="3794040"/>
            <a:ext cx="3760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252360" y="2276640"/>
            <a:ext cx="3987720" cy="299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941640" y="4081320"/>
                <a:ext cx="4792680" cy="23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'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i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4870440" y="633240"/>
            <a:ext cx="4006800" cy="300528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unción cuadratica</a:t>
            </a:r>
            <a:br>
              <a:rPr sz="3600"/>
            </a:b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 P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unción cuadratica</a:t>
            </a:r>
            <a:br>
              <a:rPr sz="3600"/>
            </a:b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 indefinid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514440" y="2394000"/>
            <a:ext cx="3779640" cy="28353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5148360" y="414360"/>
            <a:ext cx="3695760" cy="2771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3903840" y="4081320"/>
                <a:ext cx="4868640" cy="23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'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i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4" name=""/>
          <p:cNvSpPr/>
          <p:nvPr/>
        </p:nvSpPr>
        <p:spPr>
          <a:xfrm>
            <a:off x="5894280" y="3298680"/>
            <a:ext cx="27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unto de sil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vex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968400" y="2316240"/>
            <a:ext cx="769284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i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y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son funciones convexas en el conjunto convexo F, entonces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+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también es convexa en 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i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y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son funciones convexas y acotadas superiormente en el conjunto convexo F, entonces  J(x) = max {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,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} también es convexa en 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i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y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son funciones cóncavas y acotadas inferiormente en el conjunto convexo F, entonces  J(x) = min {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,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} también es cóncava en 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i J(x) es convexa en el conjunto convexo F, entonces J(Ax+b) es convex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i J(x) es una función convexa en el conjunto convexo F, y si V(.) es una función convexa (definida en el rango de J) y no decreciente, entonces V[J(x)] es también convexa en F. O bien J(x) es concava y V convexa y no crecient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vex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992920" y="1628640"/>
                <a:ext cx="17701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884160" y="2438280"/>
            <a:ext cx="48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 el intervalo (0,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] ver la convexidad d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3884760" y="4208400"/>
          <a:ext cx="279072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4760" y="4208400"/>
                    <a:ext cx="279072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6718320" y="3957480"/>
          <a:ext cx="215100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8320" y="3957480"/>
                    <a:ext cx="21510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7283520" y="6046920"/>
          <a:ext cx="1039680" cy="74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83520" y="6046920"/>
                    <a:ext cx="10396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6" name="" descr=""/>
          <p:cNvPicPr/>
          <p:nvPr/>
        </p:nvPicPr>
        <p:blipFill>
          <a:blip r:embed="rId7"/>
          <a:stretch/>
        </p:blipFill>
        <p:spPr>
          <a:xfrm>
            <a:off x="6051600" y="179280"/>
            <a:ext cx="1833480" cy="137484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8"/>
          <a:stretch/>
        </p:blipFill>
        <p:spPr>
          <a:xfrm>
            <a:off x="6792840" y="2567160"/>
            <a:ext cx="1903320" cy="142704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9"/>
          <a:stretch/>
        </p:blipFill>
        <p:spPr>
          <a:xfrm>
            <a:off x="3930480" y="2774880"/>
            <a:ext cx="2140200" cy="149544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10"/>
          <a:stretch/>
        </p:blipFill>
        <p:spPr>
          <a:xfrm>
            <a:off x="1158840" y="2787480"/>
            <a:ext cx="1903320" cy="142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0" name=""/>
          <p:cNvGraphicFramePr/>
          <p:nvPr/>
        </p:nvGraphicFramePr>
        <p:xfrm>
          <a:off x="868320" y="4205160"/>
          <a:ext cx="2851200" cy="463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68320" y="4205160"/>
                    <a:ext cx="285120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2" name="" descr=""/>
          <p:cNvPicPr/>
          <p:nvPr/>
        </p:nvPicPr>
        <p:blipFill>
          <a:blip r:embed="rId13"/>
          <a:stretch/>
        </p:blipFill>
        <p:spPr>
          <a:xfrm>
            <a:off x="1087560" y="4627440"/>
            <a:ext cx="1962000" cy="14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3" name=""/>
          <p:cNvGraphicFramePr/>
          <p:nvPr/>
        </p:nvGraphicFramePr>
        <p:xfrm>
          <a:off x="1216080" y="6049800"/>
          <a:ext cx="1560600" cy="532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16080" y="6049800"/>
                    <a:ext cx="156060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5" name="" descr=""/>
          <p:cNvPicPr/>
          <p:nvPr/>
        </p:nvPicPr>
        <p:blipFill>
          <a:blip r:embed="rId16"/>
          <a:stretch/>
        </p:blipFill>
        <p:spPr>
          <a:xfrm>
            <a:off x="3859200" y="4660920"/>
            <a:ext cx="203364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6" name=""/>
          <p:cNvGraphicFramePr/>
          <p:nvPr/>
        </p:nvGraphicFramePr>
        <p:xfrm>
          <a:off x="4241880" y="6149880"/>
          <a:ext cx="1311120" cy="532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41880" y="6149880"/>
                    <a:ext cx="13111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" descr=""/>
          <p:cNvPicPr/>
          <p:nvPr/>
        </p:nvPicPr>
        <p:blipFill>
          <a:blip r:embed="rId19"/>
          <a:stretch/>
        </p:blipFill>
        <p:spPr>
          <a:xfrm>
            <a:off x="6791400" y="4705200"/>
            <a:ext cx="197316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ja convexa  (Convex hull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1676400">
            <a:off x="1373040" y="2965320"/>
            <a:ext cx="2087640" cy="113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1676400">
            <a:off x="4443120" y="3009960"/>
            <a:ext cx="209700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743120" y="5213520"/>
            <a:ext cx="38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caja convexa H de F es el mínimo conjunto convexo que contiene a 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766880" y="316404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rot="1538400">
            <a:off x="6054480" y="3429000"/>
            <a:ext cx="384120" cy="1122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1676400">
            <a:off x="4443480" y="3008160"/>
            <a:ext cx="2087640" cy="113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695920" y="365760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problema de optimización NL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936720" y="2496960"/>
                <a:ext cx="1544400" cy="24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2944800" y="2352600"/>
            <a:ext cx="554508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Arial"/>
              </a:rPr>
              <a:t>x = (x</a:t>
            </a:r>
            <a:r>
              <a:rPr b="0" lang="es-ES" sz="22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</a:rPr>
              <a:t>, x</a:t>
            </a:r>
            <a:r>
              <a:rPr b="0" lang="es-ES" sz="2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</a:rPr>
              <a:t>, ...., x</a:t>
            </a:r>
            <a:r>
              <a:rPr b="0" lang="es-ES" sz="2200" spc="-1" strike="noStrike" baseline="-25000">
                <a:solidFill>
                  <a:srgbClr val="003366"/>
                </a:solidFill>
                <a:latin typeface="Arial"/>
              </a:rPr>
              <a:t>n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</a:rPr>
              <a:t>)’ vector de variables de decisió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Arial"/>
              </a:rPr>
              <a:t>J(x)   función de costo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Arial"/>
              </a:rPr>
              <a:t>h(x) = 0  i = 1,2,...,l      restricciones de igualda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s-ES" sz="22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</a:rPr>
              <a:t>(x)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  <a:ea typeface="Arial"/>
              </a:rPr>
              <a:t>≤ 0   j = 1,2,...,m    restricciones de desigualda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20840" y="5570640"/>
            <a:ext cx="7068960" cy="875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i no existen h</a:t>
            </a:r>
            <a:r>
              <a:rPr b="0" lang="es-ES" sz="2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ni g</a:t>
            </a:r>
            <a:r>
              <a:rPr b="0" lang="es-ES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el problema se denomina sin restric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esu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ara estudiar su convexidad en un punto puede estudiarse el correspondiente  Hessi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na funcion con hessiano continuo, definida sobre un conjunto F convexo (con al menos un punto interior) es convexa si, y solo si, el hessiano es una matriz positiva semi-definida en 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n conjunto definido por las expresiones g</a:t>
            </a:r>
            <a:r>
              <a:rPr b="0" lang="en-GB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(x)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0 y h</a:t>
            </a:r>
            <a:r>
              <a:rPr b="0" lang="en-GB" sz="2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(x)=0 es convexo si las g</a:t>
            </a:r>
            <a:r>
              <a:rPr b="0" lang="en-GB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son convexas y las h</a:t>
            </a:r>
            <a:r>
              <a:rPr b="0" lang="en-GB" sz="2400" spc="-1" strike="noStrike" baseline="-25000">
                <a:solidFill>
                  <a:srgbClr val="003366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ine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timización en un conjunto convex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941640" y="2732040"/>
            <a:ext cx="340992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 J es convexa y el conjunto F es también convexo, un mínimo local es también un mínimo glob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1222200" y="2565360"/>
                <a:ext cx="1544760" cy="19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2" name=""/>
          <p:cNvSpPr/>
          <p:nvPr/>
        </p:nvSpPr>
        <p:spPr>
          <a:xfrm>
            <a:off x="3867120" y="4495680"/>
            <a:ext cx="49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 todas las restricciones de desigualdad son convexas contribuirán a generar un conjunto convexo. Las restricciones de igualdad, si no son lineales, no serán en general convexas con lo que el problema puede tener varios mínimos locale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ipos de problemas de optimiz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768320" y="2575080"/>
                <a:ext cx="1152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5" name=""/>
          <p:cNvSpPr/>
          <p:nvPr/>
        </p:nvSpPr>
        <p:spPr>
          <a:xfrm>
            <a:off x="3498840" y="2643120"/>
            <a:ext cx="289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timización sin restric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593720" y="4351320"/>
                <a:ext cx="11304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3552840" y="4241880"/>
            <a:ext cx="2890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ptimización con restricciones de igual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ultiplicadores de Lagr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ipos de problemas de optimiz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1347840" y="2678040"/>
                <a:ext cx="1063440" cy="13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≤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3868560" y="2730600"/>
            <a:ext cx="37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gramación lineal (LP) función de coste y restricciones line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1182600" y="4626000"/>
                <a:ext cx="197496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H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≤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2" name=""/>
          <p:cNvSpPr/>
          <p:nvPr/>
        </p:nvSpPr>
        <p:spPr>
          <a:xfrm>
            <a:off x="3851280" y="4678200"/>
            <a:ext cx="434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gramación cuadrática (QP) función de coste cuadrática y restricciones line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ipos de problemas de optimiz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1297080" y="2355840"/>
                <a:ext cx="132876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3868560" y="2730600"/>
            <a:ext cx="44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gramación no  lineal (NLP) función de coste y / o restricciones no-line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1206360" y="4392720"/>
                <a:ext cx="1895760" cy="22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7" name=""/>
          <p:cNvSpPr/>
          <p:nvPr/>
        </p:nvSpPr>
        <p:spPr>
          <a:xfrm>
            <a:off x="3911760" y="4602240"/>
            <a:ext cx="441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gramación mixta entera (MINLP) algunas de las variables son reales y otras enter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ipos de problemas de optimiz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1247760" y="2411280"/>
                <a:ext cx="1752480" cy="257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3657600" y="2422440"/>
            <a:ext cx="441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timización dinám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te de las restricciones vienen dadas por ecuaciones diferenc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144440" y="5283360"/>
                <a:ext cx="371160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176800" y="51037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ptimización multiobjetivo Hay varias funciones de costo a minimizar simultáneam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quivalenc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900000" y="2492280"/>
                <a:ext cx="154476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942160" y="2652840"/>
            <a:ext cx="0" cy="1726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409248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427080" y="3530520"/>
            <a:ext cx="1568520" cy="695520"/>
          </a:xfrm>
          <a:custGeom>
            <a:avLst/>
            <a:gdLst/>
            <a:ahLst/>
            <a:rect l="l" t="t" r="r" b="b"/>
            <a:pathLst>
              <a:path w="1230" h="383">
                <a:moveTo>
                  <a:pt x="0" y="343"/>
                </a:moveTo>
                <a:cubicBezTo>
                  <a:pt x="11" y="282"/>
                  <a:pt x="23" y="304"/>
                  <a:pt x="46" y="258"/>
                </a:cubicBezTo>
                <a:cubicBezTo>
                  <a:pt x="63" y="223"/>
                  <a:pt x="74" y="192"/>
                  <a:pt x="101" y="164"/>
                </a:cubicBezTo>
                <a:cubicBezTo>
                  <a:pt x="119" y="96"/>
                  <a:pt x="94" y="163"/>
                  <a:pt x="132" y="118"/>
                </a:cubicBezTo>
                <a:cubicBezTo>
                  <a:pt x="140" y="109"/>
                  <a:pt x="141" y="96"/>
                  <a:pt x="148" y="87"/>
                </a:cubicBezTo>
                <a:cubicBezTo>
                  <a:pt x="164" y="68"/>
                  <a:pt x="174" y="73"/>
                  <a:pt x="194" y="63"/>
                </a:cubicBezTo>
                <a:cubicBezTo>
                  <a:pt x="202" y="59"/>
                  <a:pt x="210" y="53"/>
                  <a:pt x="218" y="48"/>
                </a:cubicBezTo>
                <a:cubicBezTo>
                  <a:pt x="229" y="40"/>
                  <a:pt x="237" y="30"/>
                  <a:pt x="249" y="24"/>
                </a:cubicBezTo>
                <a:cubicBezTo>
                  <a:pt x="275" y="11"/>
                  <a:pt x="323" y="6"/>
                  <a:pt x="350" y="1"/>
                </a:cubicBezTo>
                <a:cubicBezTo>
                  <a:pt x="407" y="4"/>
                  <a:pt x="465" y="0"/>
                  <a:pt x="521" y="9"/>
                </a:cubicBezTo>
                <a:cubicBezTo>
                  <a:pt x="544" y="13"/>
                  <a:pt x="561" y="33"/>
                  <a:pt x="583" y="40"/>
                </a:cubicBezTo>
                <a:cubicBezTo>
                  <a:pt x="634" y="57"/>
                  <a:pt x="695" y="87"/>
                  <a:pt x="739" y="118"/>
                </a:cubicBezTo>
                <a:cubicBezTo>
                  <a:pt x="777" y="145"/>
                  <a:pt x="798" y="183"/>
                  <a:pt x="840" y="203"/>
                </a:cubicBezTo>
                <a:cubicBezTo>
                  <a:pt x="873" y="236"/>
                  <a:pt x="912" y="281"/>
                  <a:pt x="957" y="297"/>
                </a:cubicBezTo>
                <a:cubicBezTo>
                  <a:pt x="1008" y="371"/>
                  <a:pt x="931" y="270"/>
                  <a:pt x="1004" y="328"/>
                </a:cubicBezTo>
                <a:cubicBezTo>
                  <a:pt x="1010" y="333"/>
                  <a:pt x="1006" y="345"/>
                  <a:pt x="1012" y="351"/>
                </a:cubicBezTo>
                <a:cubicBezTo>
                  <a:pt x="1044" y="383"/>
                  <a:pt x="1204" y="382"/>
                  <a:pt x="1230" y="38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4880" y="25081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75600" y="40924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89800" y="2857680"/>
            <a:ext cx="0" cy="122544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86760" y="41911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87480" y="3094200"/>
            <a:ext cx="288000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Minimizar /  Maximizar min J(x)  =  max –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1720" y="4630680"/>
            <a:ext cx="4773600" cy="17697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≤ a puede escribirse como g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– a ≤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≤ 0  es equivalente a  -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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≤ 0 es equivalente a g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+ 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  <a:ea typeface="Arial"/>
              </a:rPr>
              <a:t>ε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 =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, 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ε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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= 0 es equivalente a h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- 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ε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≤ 0, 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ε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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8280" y="470844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61000" y="614844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434280" y="5784120"/>
            <a:ext cx="1568160" cy="695160"/>
          </a:xfrm>
          <a:custGeom>
            <a:avLst/>
            <a:gdLst/>
            <a:ahLst/>
            <a:rect l="l" t="t" r="r" b="b"/>
            <a:pathLst>
              <a:path w="1230" h="383">
                <a:moveTo>
                  <a:pt x="0" y="343"/>
                </a:moveTo>
                <a:cubicBezTo>
                  <a:pt x="11" y="282"/>
                  <a:pt x="23" y="304"/>
                  <a:pt x="46" y="258"/>
                </a:cubicBezTo>
                <a:cubicBezTo>
                  <a:pt x="63" y="223"/>
                  <a:pt x="74" y="192"/>
                  <a:pt x="101" y="164"/>
                </a:cubicBezTo>
                <a:cubicBezTo>
                  <a:pt x="119" y="96"/>
                  <a:pt x="94" y="163"/>
                  <a:pt x="132" y="118"/>
                </a:cubicBezTo>
                <a:cubicBezTo>
                  <a:pt x="140" y="109"/>
                  <a:pt x="141" y="96"/>
                  <a:pt x="148" y="87"/>
                </a:cubicBezTo>
                <a:cubicBezTo>
                  <a:pt x="164" y="68"/>
                  <a:pt x="174" y="73"/>
                  <a:pt x="194" y="63"/>
                </a:cubicBezTo>
                <a:cubicBezTo>
                  <a:pt x="202" y="59"/>
                  <a:pt x="210" y="53"/>
                  <a:pt x="218" y="48"/>
                </a:cubicBezTo>
                <a:cubicBezTo>
                  <a:pt x="229" y="40"/>
                  <a:pt x="237" y="30"/>
                  <a:pt x="249" y="24"/>
                </a:cubicBezTo>
                <a:cubicBezTo>
                  <a:pt x="275" y="11"/>
                  <a:pt x="323" y="6"/>
                  <a:pt x="350" y="1"/>
                </a:cubicBezTo>
                <a:cubicBezTo>
                  <a:pt x="407" y="4"/>
                  <a:pt x="465" y="0"/>
                  <a:pt x="521" y="9"/>
                </a:cubicBezTo>
                <a:cubicBezTo>
                  <a:pt x="544" y="13"/>
                  <a:pt x="561" y="33"/>
                  <a:pt x="583" y="40"/>
                </a:cubicBezTo>
                <a:cubicBezTo>
                  <a:pt x="634" y="57"/>
                  <a:pt x="695" y="87"/>
                  <a:pt x="739" y="118"/>
                </a:cubicBezTo>
                <a:cubicBezTo>
                  <a:pt x="777" y="145"/>
                  <a:pt x="798" y="183"/>
                  <a:pt x="840" y="203"/>
                </a:cubicBezTo>
                <a:cubicBezTo>
                  <a:pt x="873" y="236"/>
                  <a:pt x="912" y="281"/>
                  <a:pt x="957" y="297"/>
                </a:cubicBezTo>
                <a:cubicBezTo>
                  <a:pt x="1008" y="371"/>
                  <a:pt x="931" y="270"/>
                  <a:pt x="1004" y="328"/>
                </a:cubicBezTo>
                <a:cubicBezTo>
                  <a:pt x="1010" y="333"/>
                  <a:pt x="1006" y="345"/>
                  <a:pt x="1012" y="351"/>
                </a:cubicBezTo>
                <a:cubicBezTo>
                  <a:pt x="1044" y="383"/>
                  <a:pt x="1204" y="382"/>
                  <a:pt x="1230" y="38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21360" y="4564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82080" y="6148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96280" y="5381640"/>
            <a:ext cx="0" cy="122544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32600" y="57895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ornos / Curvas de niv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4572000"/>
            <a:ext cx="266724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2438280"/>
            <a:ext cx="0" cy="21337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80880" y="4572000"/>
            <a:ext cx="1371600" cy="10666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876920"/>
            <a:ext cx="0" cy="533160"/>
          </a:xfrm>
          <a:prstGeom prst="line">
            <a:avLst/>
          </a:prstGeom>
          <a:ln w="1260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048120" y="4572000"/>
            <a:ext cx="761760" cy="838080"/>
          </a:xfrm>
          <a:prstGeom prst="line">
            <a:avLst/>
          </a:prstGeom>
          <a:ln w="1260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5800" y="5410080"/>
            <a:ext cx="2362320" cy="0"/>
          </a:xfrm>
          <a:prstGeom prst="line">
            <a:avLst/>
          </a:prstGeom>
          <a:ln w="1260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J(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800" y="55688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5105520"/>
            <a:ext cx="1600200" cy="53316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4952880"/>
            <a:ext cx="2361960" cy="9144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5257800"/>
            <a:ext cx="1066680" cy="2286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03840" y="2778120"/>
            <a:ext cx="0" cy="1981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8920" y="4454640"/>
            <a:ext cx="2743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26720" y="4384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78600" y="24033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7360" y="3083040"/>
            <a:ext cx="2133360" cy="9144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65960" y="3235320"/>
            <a:ext cx="1676160" cy="6858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70520" y="3387600"/>
            <a:ext cx="685800" cy="38124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99400" y="4121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3080" y="2544840"/>
            <a:ext cx="1360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 = (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 rot="21555000">
            <a:off x="1547280" y="4164840"/>
            <a:ext cx="2372040" cy="42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0840" y="3532320"/>
            <a:ext cx="1643040" cy="350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8120" y="4125960"/>
            <a:ext cx="1067040" cy="12996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62800" y="344808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12080" y="320688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97840" y="362736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85880" y="370044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ctibilida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00000" y="2492280"/>
                <a:ext cx="154476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20840" y="3151080"/>
            <a:ext cx="2447640" cy="1594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9880" y="4967280"/>
            <a:ext cx="224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finen la región de busqueda o conjunto factible 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5280" y="4708440"/>
            <a:ext cx="26668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5280" y="2575080"/>
            <a:ext cx="0" cy="21333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703680" y="4708440"/>
            <a:ext cx="1371600" cy="10670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27560" y="2575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J(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64240" y="5705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08800" y="5241960"/>
            <a:ext cx="1600200" cy="53352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27560" y="5089680"/>
            <a:ext cx="2362320" cy="9144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37400" y="5394240"/>
            <a:ext cx="1066680" cy="2286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21840" y="4257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79920" y="3286080"/>
            <a:ext cx="1828800" cy="609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32200" y="4844880"/>
            <a:ext cx="1347840" cy="779760"/>
          </a:xfrm>
          <a:prstGeom prst="pentagon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40280" y="4149720"/>
            <a:ext cx="0" cy="1054080"/>
          </a:xfrm>
          <a:prstGeom prst="line">
            <a:avLst/>
          </a:prstGeom>
          <a:ln w="1260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65640" y="515304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ctibi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900000" y="2492280"/>
                <a:ext cx="154476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420840" y="3151080"/>
            <a:ext cx="2447640" cy="1594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9880" y="4967280"/>
            <a:ext cx="224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finen la región de busqueda o conjunto factible 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95880" y="2655720"/>
            <a:ext cx="0" cy="1981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0960" y="4332240"/>
            <a:ext cx="2743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18760" y="4262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70640" y="25765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43360" y="4992840"/>
            <a:ext cx="427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 no hay ningún punto x que satisfaga todas las restricciones, o sea si el conjunto factible F es vacío, el problema es no-factible y no existe solució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518600">
            <a:off x="4278240" y="3011040"/>
            <a:ext cx="1239840" cy="1219320"/>
          </a:xfrm>
          <a:prstGeom prst="pentagon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29040" y="2960640"/>
            <a:ext cx="2133720" cy="9144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57640" y="3112920"/>
            <a:ext cx="1676520" cy="6858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24480" y="3252960"/>
            <a:ext cx="685800" cy="38088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332568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04120" y="308448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89880" y="350532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59400" y="36338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jemp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9120" y="456732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70000" y="599436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30360" y="4410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78120" y="56116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346040" y="2475000"/>
                <a:ext cx="315468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422360" y="5349960"/>
            <a:ext cx="1690560" cy="644400"/>
          </a:xfrm>
          <a:prstGeom prst="rtTriangl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50760" y="5153040"/>
            <a:ext cx="2732400" cy="1074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55880" y="6227640"/>
            <a:ext cx="145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 2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788080" y="2465280"/>
                <a:ext cx="3152880" cy="21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531800" y="5610240"/>
            <a:ext cx="4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75400" y="4662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54880" y="60148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5065560" y="5337000"/>
            <a:ext cx="126036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38880" y="627228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88000" y="484488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19640" y="5430960"/>
            <a:ext cx="2732040" cy="1074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89440" y="5691240"/>
            <a:ext cx="4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6330960"/>
            <a:ext cx="145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 2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54640" y="4935600"/>
            <a:ext cx="145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≤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84760" y="5610240"/>
            <a:ext cx="406440" cy="1476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7000200">
            <a:off x="3250080" y="6301440"/>
            <a:ext cx="296640" cy="136440"/>
          </a:xfrm>
          <a:prstGeom prst="rightArrow">
            <a:avLst>
              <a:gd name="adj1" fmla="val 50000"/>
              <a:gd name="adj2" fmla="val 54354"/>
            </a:avLst>
          </a:prstGeom>
          <a:solidFill>
            <a:srgbClr val="cc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33520" y="6165720"/>
            <a:ext cx="297000" cy="136800"/>
          </a:xfrm>
          <a:prstGeom prst="rightArrow">
            <a:avLst>
              <a:gd name="adj1" fmla="val 50000"/>
              <a:gd name="adj2" fmla="val 54276"/>
            </a:avLst>
          </a:prstGeom>
          <a:solidFill>
            <a:srgbClr val="cc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3088080" y="5646960"/>
            <a:ext cx="358920" cy="147600"/>
          </a:xfrm>
          <a:prstGeom prst="rightArrow">
            <a:avLst>
              <a:gd name="adj1" fmla="val 50000"/>
              <a:gd name="adj2" fmla="val 60793"/>
            </a:avLst>
          </a:prstGeom>
          <a:solidFill>
            <a:srgbClr val="cc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82760" y="5160960"/>
            <a:ext cx="2133720" cy="9144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11360" y="5313240"/>
            <a:ext cx="1676520" cy="6858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76480" y="5452920"/>
            <a:ext cx="685800" cy="38124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84280" y="483552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19600" y="5430960"/>
            <a:ext cx="2133720" cy="9144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6840" y="5608800"/>
            <a:ext cx="1577880" cy="66024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51400" y="5772240"/>
            <a:ext cx="798840" cy="29376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5545080"/>
            <a:ext cx="425520" cy="15876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41880" y="5695920"/>
            <a:ext cx="88920" cy="11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0440" y="5611680"/>
            <a:ext cx="88920" cy="11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48440" y="510048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23:22:49Z</dcterms:created>
  <dc:creator>Dpto. de Ing. de Sistemas y Automatica</dc:creator>
  <dc:description/>
  <dc:language>en-US</dc:language>
  <cp:lastModifiedBy>isa</cp:lastModifiedBy>
  <dcterms:modified xsi:type="dcterms:W3CDTF">2008-02-17T22:10:58Z</dcterms:modified>
  <cp:revision>33</cp:revision>
  <dc:subject/>
  <dc:title>Conceptos básicos de optimización</dc:title>
</cp:coreProperties>
</file>