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D0B-F2E8-4DE4-B55B-9388C43D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B6B-3B11-4FDD-BA01-647E1D7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FF2-8C3F-481D-9FA0-4E18867F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C97-0997-4968-A257-E06A9B5B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7CD2-31E3-4EAE-AB54-714172F2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CCBF-1B96-4F4B-B997-811A3D1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6483-1A93-4CB6-8E69-6F9E843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F712-7451-43FF-8A5F-50D5504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D61A-537F-448D-B64E-EBE99E90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2A50-DB41-4621-B541-F5F23036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D825-30C3-4B3C-B481-4046CF1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F25-3708-42B5-86EB-97DC776B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E95C-8AD9-4AB4-858F-820BD8B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C487-2F85-4C05-A89B-52DBFF0E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E6C-E4BD-4AAF-A6D4-DD67F0F4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5F4C-5D98-4177-9451-81857564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1928-A12E-47F0-86E0-21B6B681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B84-6759-425D-A0CC-23304A78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9FA-9F38-46B7-8166-A4EDF82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A04-5989-4E64-BEAF-75499E6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76D-2223-4820-ABA6-B822C65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9FB-3C65-402C-B072-AD10028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7D1-0F90-41FF-B9CC-234B5E3A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AA8-C275-448A-80F2-DE93701C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551B-B674-4F8D-B04C-70368E3E6C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B590-1438-4521-BAAA-BEF9DD0498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  (2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9051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o p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ab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2819520"/>
            <a:ext cx="815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Tabl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d(i,j)          distancia en cientos de kiló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eón         Bilbao        Mad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urgos                  2.5            1.7            1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alamanca                  2.5            1.8            1.4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  (3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1337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o p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signació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35268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Parameter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(i,j)     coste de transporte en miles por caso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(i,j) = f*d(i,j)/1000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352680"/>
            <a:ext cx="380880" cy="38124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ri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1905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da variable tiene que tener un nombre, un dominio y un comentario (op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666880"/>
            <a:ext cx="685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(i,j)           cantidades de mercanc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               coste total de transporte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95280" y="4038480"/>
            <a:ext cx="5181480" cy="2438280"/>
            <a:chOff x="1295280" y="4038480"/>
            <a:chExt cx="5181480" cy="243828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647960" y="4572000"/>
                  <a:ext cx="6476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800240" y="495288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724280" y="5333760"/>
                  <a:ext cx="482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1295280" y="4038480"/>
              <a:ext cx="5181480" cy="243828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41936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5280" y="487656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525780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563868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95280" y="601956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33560" y="4038480"/>
              <a:ext cx="0" cy="2438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3880" y="4038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po de 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480" y="403848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ango permit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3880" y="441936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487656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5257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56386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i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1640" y="5638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ó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3880" y="6095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1640" y="60958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1,...,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u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claración de Ecu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666880"/>
            <a:ext cx="7696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st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fine la función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inistro(i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arantiza el límite de suministro en la planta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manda(j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manda para satisfacer al supermercado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j 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62120" y="4648320"/>
            <a:ext cx="7391160" cy="1447560"/>
            <a:chOff x="762120" y="4648320"/>
            <a:chExt cx="7391160" cy="1447560"/>
          </a:xfrm>
        </p:grpSpPr>
        <p:sp>
          <p:nvSpPr>
            <p:cNvPr id="207" name=""/>
            <p:cNvSpPr/>
            <p:nvPr/>
          </p:nvSpPr>
          <p:spPr>
            <a:xfrm>
              <a:off x="990720" y="4648320"/>
              <a:ext cx="7162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costo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z =e= sum ((i,j), c(i,j)*x(i,j)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inistro(i)..      sum(j, x(i,j)) =l= a(i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demanda(j)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(i, x(i,j)) =g= b(j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4648320"/>
              <a:ext cx="5638680" cy="144756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5530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tación de SUMA (PRODUCTO) en GA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 (índice de sumatoria ,  suman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514600" y="3200400"/>
                <a:ext cx="5461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962520" y="3124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(j, x(i,j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81080" y="4038480"/>
                <a:ext cx="9525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52680" y="41911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38098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((i,j), c(i,j)*x(i,j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343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(i,  Sum(j, c(i,j)*x(i,j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733920"/>
            <a:ext cx="3048120" cy="1143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62320" y="5334120"/>
                <a:ext cx="5713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4191120" y="5334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(j, x(i,j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5486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finición de Ecu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981080"/>
            <a:ext cx="7543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 componentes de la definición de una ecuación son, por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nombre de la ecuación que se está defini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domi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ción de restricción del dominio (op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símbolo ‘..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e izquierda de la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dores de relación: =l=, =e=, =g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e derecha de la ec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62120" y="5410080"/>
            <a:ext cx="7391160" cy="1219320"/>
            <a:chOff x="762120" y="5410080"/>
            <a:chExt cx="7391160" cy="1219320"/>
          </a:xfrm>
        </p:grpSpPr>
        <p:sp>
          <p:nvSpPr>
            <p:cNvPr id="227" name=""/>
            <p:cNvSpPr/>
            <p:nvPr/>
          </p:nvSpPr>
          <p:spPr>
            <a:xfrm>
              <a:off x="990720" y="5410080"/>
              <a:ext cx="7162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costo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z =e= sum ((i,j), c(i,j)*x(i,j)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inistro(i)..      sum(j, x(i,j)) =l= a(i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demanda(j)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(i, x(i,j)) =g= b(j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5410080"/>
              <a:ext cx="5638680" cy="121932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nción Objeti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057400"/>
            <a:ext cx="77724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GAMS no existe una entidad que se llame explícitamente “Función Objetiv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specificar la función que se quiere optimizar, hay que crear una variable de tipo “Free” (sin restricciones sobre el signo), y su valor tiene que ser un “escalar”, o sea, sin domin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 variable debe ser igualada en la sección de “Definición de ecuaciones” a la función que se quiere optimi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4920" y="4800600"/>
            <a:ext cx="8381880" cy="1523520"/>
            <a:chOff x="304920" y="4800600"/>
            <a:chExt cx="8381880" cy="1523520"/>
          </a:xfrm>
        </p:grpSpPr>
        <p:sp>
          <p:nvSpPr>
            <p:cNvPr id="232" name=""/>
            <p:cNvSpPr/>
            <p:nvPr/>
          </p:nvSpPr>
          <p:spPr>
            <a:xfrm>
              <a:off x="1729800" y="4876560"/>
              <a:ext cx="48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costo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z =e= sum ((i,j), c(i,j)*x(i,j)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4800" y="4800600"/>
              <a:ext cx="2667240" cy="609480"/>
            </a:xfrm>
            <a:prstGeom prst="ellipse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640" y="5333760"/>
              <a:ext cx="0" cy="3805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24640" y="5714640"/>
              <a:ext cx="45720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556236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ta es la ecuación que se quiere optimiz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4800600"/>
              <a:ext cx="533520" cy="609480"/>
            </a:xfrm>
            <a:prstGeom prst="ellipse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520" y="5638680"/>
              <a:ext cx="35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ta es la variable que se iguala a la función obje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666880" y="5333760"/>
              <a:ext cx="609480" cy="304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5638680"/>
              <a:ext cx="3733920" cy="6854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840" y="5562360"/>
              <a:ext cx="3429000" cy="68544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ntencia “Model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981080"/>
            <a:ext cx="7925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GAMS,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s una colección de ecu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formato para declarar un modelo es, 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, seguida de su nombre, y seguida de la lista de nombres de las ecuaciones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 lo componen entre barras //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90720" y="3809880"/>
            <a:ext cx="6933960" cy="1431360"/>
            <a:chOff x="990720" y="3809880"/>
            <a:chExt cx="6933960" cy="1431360"/>
          </a:xfrm>
        </p:grpSpPr>
        <p:sp>
          <p:nvSpPr>
            <p:cNvPr id="245" name=""/>
            <p:cNvSpPr/>
            <p:nvPr/>
          </p:nvSpPr>
          <p:spPr>
            <a:xfrm>
              <a:off x="990720" y="4038480"/>
              <a:ext cx="67816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model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  transporte  /all/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model 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 transporte /costo, suministro, demanda/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6200" y="4190760"/>
              <a:ext cx="10666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520" y="3809880"/>
              <a:ext cx="2819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 este caso se incluyen todas las ecuaciones defin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5638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hora se debe llamar al Solver para la solución del modelo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ntencia “Solve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057400"/>
            <a:ext cx="71629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formato de la sentencia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olv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s el siguiente (por orden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solv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nombre del modelo que se desea re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us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procedimiento de solución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minimizing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miximiz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nombre de la variable que se va a optim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4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solv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transporte 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using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lp 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minimizing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z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257800"/>
            <a:ext cx="6858000" cy="6858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cedimientos disponi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133720"/>
            <a:ext cx="7696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para Programación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l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para Programación N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i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para Programación Mixta E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mi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para Programación Mixta Entera Relaj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inl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ara Programación No Lineal Mixta E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c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para Problemas Complementari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n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para Sistemas No lineales con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teni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828800"/>
            <a:ext cx="807732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 de un modelo en GAMS. Ejemplo a través del cual se ilustra el lengu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ju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cu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umatoria y Produc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finición de escu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ntencias “Model” y “Solv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cedimientos dispon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isualización de sen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Bases de datos en G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ignación de límites y valores in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ización de Sentenci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133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ando el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 está ejecutando ocurren cosa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74320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generan instancias específicas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crean las estructuras de datos de entrada al 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salidas del solver se guardan a un arch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2670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 obtener los valores óptimos de las variables, o visualizar los resultados podemos hace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display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x.l , x.m 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53341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or final y marginal de x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Las bases de datos: “.LO, .L, .UP, .M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AMS ha sido diseñada con un pequeño sistema de bases de datos, en el cual los “records” se mantienen para las ecuaciones y las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335268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l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=  límite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= valor de nivel o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u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límite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= valor marginal o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31240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formato para hacer referencia a estas cantidades es poner el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mbre de la varia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 de 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cuació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eguido del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ampo del nomb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y si es necesario tambié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l domini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 de uno de los elementos del domin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play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m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signación de límites y valores inici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133720"/>
            <a:ext cx="75438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unque los límites de las variables se toman automáticamente dependiendo del tipo de la variable, el usuario puede especificar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u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i,j)   =  capacity(i,j) 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l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i,j)    =  10.0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u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‘Burgos’, ‘Leon’)  = 1.2*capacity(‘Burgos’ , ‘Leon’) 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3581280"/>
            <a:ext cx="1447560" cy="53352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4191120"/>
            <a:ext cx="3200400" cy="838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3200400"/>
            <a:ext cx="17524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2819520"/>
            <a:ext cx="350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estos casos capacity(i,j) es un parámetro que ha sido declarado y cuyos valores han sido asignados prev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819520"/>
            <a:ext cx="3352680" cy="990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19520" y="3200400"/>
            <a:ext cx="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410080" y="3809520"/>
            <a:ext cx="0" cy="3812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181480"/>
            <a:ext cx="7391520" cy="580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as sentencias tienen que aparecer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despué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de la zona de declaración de las variables,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ante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de la sentencia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943600"/>
            <a:ext cx="8305920" cy="580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s campos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up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lo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están bajo el control del usuario, mientras qu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l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m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pueden ser inicializados por el usuario, pero son controlados por el sol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ructura de un modelo GAMS (1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ignación de  miemb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Parámetros, tablas, escala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ignación de val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ignación de ti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signación de límites y/o valores iniciale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(opcion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cu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entencias del modelo y del Sol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mpresión de sentenci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opcion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ructura de un modelo GAMS (2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e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as de Refer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Ecu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ortes de est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ructura de un modelo GAMS (3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 modelo es una colección de sentencias en el lenguaje de G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permiten varias sentencias en una misma línea, o varias líneas para una misma sentencia, líneas en blan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nombre de una entidad tiene que comenzar con una letra y puede tener hasta 9 dígitos o let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da sentencia termina con un punto y c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compilador no distingue entre mayúsculas y minúscu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línea que comience con un asterisco en la primera columna se considera coment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creación de una entidad en GAMS lleva dos pas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. Declaración (declarar la existencia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. Asignación o Definición (asignar un val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1905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gunas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jemplo de un modelo de Transporte (1/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2860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tiene el suministro de una cierta mercancía proporcionado por algunas plantas y las demandas de ciertos supermercados de dicha mercancía. Se conoce el costo por unidad del reparto de esta mercancía de las plantas a los supermercados. La cuestión económica es: ¿Cómo debería ser el reparto, de manera que el costo total de transporte sea mínimo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18288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lanteamiento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9480" y="3962520"/>
            <a:ext cx="7772400" cy="2514600"/>
            <a:chOff x="609480" y="3962520"/>
            <a:chExt cx="7772400" cy="2514600"/>
          </a:xfrm>
        </p:grpSpPr>
        <p:sp>
          <p:nvSpPr>
            <p:cNvPr id="116" name=""/>
            <p:cNvSpPr/>
            <p:nvPr/>
          </p:nvSpPr>
          <p:spPr>
            <a:xfrm>
              <a:off x="609480" y="3962520"/>
              <a:ext cx="7696440" cy="251460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480" y="4343760"/>
              <a:ext cx="76964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4724640"/>
              <a:ext cx="76964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5105520"/>
              <a:ext cx="76964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3962520"/>
              <a:ext cx="0" cy="251460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0" y="3962520"/>
              <a:ext cx="0" cy="251460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sta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0" y="396252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uministr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43437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uper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47246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lan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3920" y="4724640"/>
              <a:ext cx="0" cy="17524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4724640"/>
              <a:ext cx="0" cy="17524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5258160"/>
              <a:ext cx="13716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urg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alaman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48009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38480" y="48009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lba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48009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d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609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man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66880" y="52581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56390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6880" y="60962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1120" y="5181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55627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60962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5181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55627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60962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8880" y="5181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55627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jemplo de un modelo de Transporte (2/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905120"/>
            <a:ext cx="2057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Índic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pla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super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1828800"/>
            <a:ext cx="533376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Da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= suministro de mercancía de la planta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= demanda de la mercancía en el supermercado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= costo por unidad del transporte entre la planta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y el supermercado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657600"/>
            <a:ext cx="792504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Variables de Decisión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= cantidad de mercancía que se transporta de la planta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al supermercado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. Donde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&gt;= 0, para todas las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,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09480" y="4724280"/>
            <a:ext cx="7543800" cy="1495080"/>
            <a:chOff x="609480" y="4724280"/>
            <a:chExt cx="7543800" cy="1495080"/>
          </a:xfrm>
        </p:grpSpPr>
        <p:sp>
          <p:nvSpPr>
            <p:cNvPr id="149" name=""/>
            <p:cNvSpPr/>
            <p:nvPr/>
          </p:nvSpPr>
          <p:spPr>
            <a:xfrm>
              <a:off x="609480" y="4800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estriccion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85440" y="5334120"/>
                  <a:ext cx="12067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  <m:e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∀</m:t>
                              </m:r>
                              <m:r>
                                <m:t xml:space="preserve">j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1981080" y="5486400"/>
              <a:ext cx="76176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61960" y="5181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ímite de suminist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4760" y="5943600"/>
              <a:ext cx="76212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1960" y="563868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atisfacer la dema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240" y="47242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Función Objetiv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6248160" y="5257800"/>
                  <a:ext cx="1384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n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0574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sponde a los índices en la representación algebraica de un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590920"/>
            <a:ext cx="5334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   plantas                  /Burgos, Salamanc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   supermercados     /León, Bilbao, Madrid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819520"/>
            <a:ext cx="1828800" cy="11430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49568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  = {Burgos, Salamanca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  = {León, Bilbao, Madrid}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514600"/>
            <a:ext cx="4952880" cy="16002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343400"/>
            <a:ext cx="3352680" cy="160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9880" y="4648320"/>
            <a:ext cx="5029200" cy="1218960"/>
            <a:chOff x="3809880" y="4648320"/>
            <a:chExt cx="5029200" cy="1218960"/>
          </a:xfrm>
        </p:grpSpPr>
        <p:sp>
          <p:nvSpPr>
            <p:cNvPr id="165" name=""/>
            <p:cNvSpPr/>
            <p:nvPr/>
          </p:nvSpPr>
          <p:spPr>
            <a:xfrm>
              <a:off x="3809880" y="4800240"/>
              <a:ext cx="50292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i   plantas         /Burgos, Salamanca/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j   supermercados  /León, Bilbao, Madrid/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4648320"/>
              <a:ext cx="5029200" cy="12189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638680" y="266688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t      /1991*2000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m    /mach1*mach2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514600"/>
            <a:ext cx="3048120" cy="11430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 (1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9810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sten tres formatos de entrada de datos: Listas, tablas y asignaciones direc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743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rada con formato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200400"/>
            <a:ext cx="63244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(i) capacidad de la pla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/Burgos      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alamanca 600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(i) demanda de los supermercados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/León         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ilbao      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drid      275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5:17:36Z</dcterms:created>
  <dc:creator>gloria</dc:creator>
  <dc:description/>
  <dc:language>en-US</dc:language>
  <cp:lastModifiedBy>gloria</cp:lastModifiedBy>
  <dcterms:modified xsi:type="dcterms:W3CDTF">2003-10-06T11:36:06Z</dcterms:modified>
  <cp:revision>14</cp:revision>
  <dc:subject/>
  <dc:title>GAMS</dc:title>
</cp:coreProperties>
</file>