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ldImg"/>
          </p:nvPr>
        </p:nvSpPr>
        <p:spPr>
          <a:xfrm>
            <a:off x="1144440" y="852480"/>
            <a:ext cx="4569120" cy="342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6046200" y="9374040"/>
            <a:ext cx="99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3373-E461-43AF-86FE-AB4D08F72191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3884760" y="79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884760" y="9304200"/>
            <a:ext cx="29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-1440" y="930420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-1440" y="79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ldImg"/>
          </p:nvPr>
        </p:nvSpPr>
        <p:spPr>
          <a:xfrm>
            <a:off x="1144440" y="852480"/>
            <a:ext cx="4569120" cy="3425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3884760" y="79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884760" y="9304200"/>
            <a:ext cx="29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-1440" y="930420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-1440" y="79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4440" y="852480"/>
            <a:ext cx="4569120" cy="342576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3884760" y="79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884760" y="9304200"/>
            <a:ext cx="29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-1440" y="930420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-1440" y="79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4440" y="852480"/>
            <a:ext cx="4569120" cy="342576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D5B9-D374-4430-B408-1239F59C4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AD14-3D02-4ABC-9734-6017F0D3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A1D9-1059-49A4-84E9-4745D3953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7003-B730-4280-B60B-4FDD2F9DE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D0C0-59A3-4164-B51F-E64D6E4F8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E3F2-499F-4CDC-B048-E94CC8D7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DC93-31C3-4445-969F-46790AAB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134A-A3D3-4D88-AFA6-CE8C8E98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8182-EAF6-4EF5-9F88-28E97A4B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BE94-0881-4306-9A3D-FA5762BC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156B-2CDA-42C3-B64C-9C3BC382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D819-28BE-47B4-AEBA-D8F53756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CBE4-5A4E-47F4-AC9E-A913102F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6749-872D-4BC0-B96E-6A775E4A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091F-A729-431D-8AFA-20D1C0DF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5541-359B-46E0-A5EA-C35CAB2A6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03EE-8279-4CB8-A275-50B55F3DE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7372-EAF2-4E84-B841-0C205452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A944-E1E2-4A02-8392-70A72A69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296E-C038-4EF0-9F31-37CDE271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D0BC-8F47-44CC-A432-ABA6AAA1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0DF7-5A9B-40E6-811A-AB06C420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D463-C06F-4494-91F9-037EA5B5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2E6C-3CA2-4E29-934C-5F1BB219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F33D-5B15-41DA-A72B-62A78DA0563B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3262-99D1-4341-913D-29675175BDBE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1905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rol Predic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3276720"/>
            <a:ext cx="6400800" cy="15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f. Cesar de Pra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pto. Ingenieria de Sistemas y Automá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acultad de Ci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niversidad de Valladol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</a:rPr>
              <a:t>e-mail: prada@autom.uva.es</a:t>
            </a:r>
            <a:br>
              <a:rPr sz="2000"/>
            </a:br>
            <a:r>
              <a:rPr b="0" lang="es-ES_tradnl" sz="2000" spc="-1" strike="noStrike">
                <a:solidFill>
                  <a:srgbClr val="333399"/>
                </a:solidFill>
                <a:latin typeface="Times New Roman"/>
              </a:rPr>
              <a:t>web:http//www.isa.cie.uva.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irámide de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79280" y="2276640"/>
            <a:ext cx="4392720" cy="388908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11280" y="5445000"/>
            <a:ext cx="352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116000" y="4581360"/>
            <a:ext cx="2519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547640" y="3789360"/>
            <a:ext cx="165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403280" y="55897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stru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900000" y="48690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gulación conven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979640" y="4005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M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258920" y="321300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Optimización lo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908000" y="3068640"/>
            <a:ext cx="93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140360" y="4653000"/>
            <a:ext cx="12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ID, DCS,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643280" y="544500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Válvulas, Transmis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35280" y="350028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ntrol Predic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364000" y="2060640"/>
            <a:ext cx="3384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l control avanzado opera sobre el control convencional, aplicado al funcionamiento de una unidad de proceso y añade nuevas fucionalidades teniendo en cuenta la interacción entre las variables, las restricciones y la optimización continua de su oper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JERARQUIA DE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9" name=""/>
          <p:cNvSpPr/>
          <p:nvPr/>
        </p:nvSpPr>
        <p:spPr>
          <a:xfrm>
            <a:off x="4561920" y="1886040"/>
            <a:ext cx="45828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 poder aborda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un nivel, los niveles inferi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 de funcionar correctam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511880" y="3357720"/>
            <a:ext cx="4090680" cy="1551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concreto, la optim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ómica exige que el ni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control func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ecuadam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852640" y="2881440"/>
            <a:ext cx="1800" cy="318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844720" y="2881440"/>
            <a:ext cx="15840" cy="318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852640" y="3852720"/>
            <a:ext cx="1800" cy="3175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844720" y="3852720"/>
            <a:ext cx="15840" cy="317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843280" y="5013360"/>
            <a:ext cx="1440" cy="390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844720" y="5076720"/>
            <a:ext cx="15840" cy="319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065320" y="5402160"/>
            <a:ext cx="1574640" cy="892440"/>
          </a:xfrm>
          <a:prstGeom prst="rect">
            <a:avLst/>
          </a:prstGeom>
          <a:solidFill>
            <a:srgbClr val="ffff6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548080" y="5467320"/>
            <a:ext cx="588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ivel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132280" y="5721480"/>
            <a:ext cx="1445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stru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370240" y="5975280"/>
            <a:ext cx="93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 Ca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835280" y="4149720"/>
            <a:ext cx="2057400" cy="893880"/>
          </a:xfrm>
          <a:prstGeom prst="rect">
            <a:avLst/>
          </a:prstGeom>
          <a:solidFill>
            <a:srgbClr val="ffff6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527200" y="42433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ive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92160" y="4497480"/>
            <a:ext cx="194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trol Conve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398320" y="4749840"/>
            <a:ext cx="88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ID, D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835280" y="3213000"/>
            <a:ext cx="2057400" cy="639720"/>
          </a:xfrm>
          <a:prstGeom prst="rect">
            <a:avLst/>
          </a:prstGeom>
          <a:solidFill>
            <a:srgbClr val="00e4a8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533680" y="327168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ivel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021760" y="3525840"/>
            <a:ext cx="1614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trol Avanz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547640" y="1989000"/>
            <a:ext cx="2540160" cy="892440"/>
          </a:xfrm>
          <a:prstGeom prst="rect">
            <a:avLst/>
          </a:prstGeom>
          <a:solidFill>
            <a:srgbClr val="dddddd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527200" y="204804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ivel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16520" y="2301840"/>
            <a:ext cx="1175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ptim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973160" y="2554200"/>
            <a:ext cx="166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teres econó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62120" y="1981080"/>
            <a:ext cx="76960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rategia de control basada en el uso explícito de un modelo del proceso para predecir el comportamiento futuro de la variable controlada sobre un horizonte temp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factible por los cambios tecnológicos en computadores, técnicas de modelado, métodos numéricos,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ersos algoritmos: DMC, GPC, 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692280" y="4292640"/>
                <a:ext cx="7530840" cy="17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96" name=""/>
          <p:cNvSpPr/>
          <p:nvPr/>
        </p:nvSpPr>
        <p:spPr>
          <a:xfrm>
            <a:off x="4710240" y="4849920"/>
            <a:ext cx="1820880" cy="42696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608120" y="4849920"/>
            <a:ext cx="1814400" cy="42696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ptimiz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543720" y="5079960"/>
            <a:ext cx="1257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313760" y="508644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2378160" y="5276880"/>
            <a:ext cx="0" cy="41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903240" y="5079960"/>
            <a:ext cx="69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549760" y="4443480"/>
            <a:ext cx="0" cy="393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859200" y="4843440"/>
            <a:ext cx="352440" cy="168120"/>
          </a:xfrm>
          <a:custGeom>
            <a:avLst/>
            <a:gdLst>
              <a:gd name="textAreaLeft" fmla="*/ 12960 w 352440"/>
              <a:gd name="textAreaRight" fmla="*/ 339480 w 352440"/>
              <a:gd name="textAreaTop" fmla="*/ 6120 h 168120"/>
              <a:gd name="textAreaBottom" fmla="*/ 134280 h 1681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03520" y="465300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313760" y="4843440"/>
            <a:ext cx="49356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762520" y="4503600"/>
            <a:ext cx="563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106600" y="44337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665520" y="5535720"/>
            <a:ext cx="1609920" cy="42696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di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267080" y="51116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5250960" y="5715000"/>
            <a:ext cx="207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2355840" y="5715000"/>
            <a:ext cx="13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435480" y="5105520"/>
            <a:ext cx="1282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431000" y="5465880"/>
            <a:ext cx="880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(t+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Control Predictivo MP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2554920" y="2562120"/>
            <a:ext cx="29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u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181040" y="2354400"/>
            <a:ext cx="60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u(t+k|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6774840" y="4584600"/>
            <a:ext cx="607320" cy="362880"/>
            <a:chOff x="6774840" y="4584600"/>
            <a:chExt cx="607320" cy="362880"/>
          </a:xfrm>
        </p:grpSpPr>
        <p:sp>
          <p:nvSpPr>
            <p:cNvPr id="618" name=""/>
            <p:cNvSpPr/>
            <p:nvPr/>
          </p:nvSpPr>
          <p:spPr>
            <a:xfrm>
              <a:off x="6774840" y="4703760"/>
              <a:ext cx="607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y(t+k|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834240" y="4584600"/>
              <a:ext cx="9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^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2863800" y="5700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3413160" y="2500200"/>
            <a:ext cx="1440" cy="313848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265200" y="5684760"/>
            <a:ext cx="273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t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722400" y="5700600"/>
            <a:ext cx="273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t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377240" y="5626080"/>
            <a:ext cx="151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58880" y="2619360"/>
            <a:ext cx="2192400" cy="952560"/>
          </a:xfrm>
          <a:custGeom>
            <a:avLst/>
            <a:gdLst/>
            <a:ahLst/>
            <a:rect l="l" t="t" r="r" b="b"/>
            <a:pathLst>
              <a:path w="1381" h="600">
                <a:moveTo>
                  <a:pt x="0" y="600"/>
                </a:moveTo>
                <a:lnTo>
                  <a:pt x="828" y="600"/>
                </a:lnTo>
                <a:lnTo>
                  <a:pt x="828" y="150"/>
                </a:lnTo>
                <a:lnTo>
                  <a:pt x="1012" y="150"/>
                </a:lnTo>
                <a:lnTo>
                  <a:pt x="1105" y="150"/>
                </a:lnTo>
                <a:lnTo>
                  <a:pt x="1105" y="375"/>
                </a:lnTo>
                <a:lnTo>
                  <a:pt x="1381" y="375"/>
                </a:lnTo>
                <a:lnTo>
                  <a:pt x="1381" y="0"/>
                </a:lnTo>
              </a:path>
            </a:pathLst>
          </a:custGeom>
          <a:noFill/>
          <a:ln w="49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851280" y="2619360"/>
            <a:ext cx="2630520" cy="714240"/>
          </a:xfrm>
          <a:custGeom>
            <a:avLst/>
            <a:gdLst/>
            <a:ahLst/>
            <a:rect l="l" t="t" r="r" b="b"/>
            <a:pathLst>
              <a:path w="1657" h="450">
                <a:moveTo>
                  <a:pt x="0" y="0"/>
                </a:moveTo>
                <a:lnTo>
                  <a:pt x="276" y="0"/>
                </a:lnTo>
                <a:lnTo>
                  <a:pt x="276" y="450"/>
                </a:lnTo>
                <a:lnTo>
                  <a:pt x="552" y="450"/>
                </a:lnTo>
                <a:lnTo>
                  <a:pt x="552" y="225"/>
                </a:lnTo>
                <a:lnTo>
                  <a:pt x="736" y="225"/>
                </a:lnTo>
                <a:lnTo>
                  <a:pt x="828" y="225"/>
                </a:lnTo>
                <a:lnTo>
                  <a:pt x="828" y="75"/>
                </a:lnTo>
                <a:lnTo>
                  <a:pt x="1657" y="75"/>
                </a:lnTo>
              </a:path>
            </a:pathLst>
          </a:custGeom>
          <a:noFill/>
          <a:ln w="49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973240" y="2023920"/>
            <a:ext cx="1800" cy="36896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658880" y="4284720"/>
            <a:ext cx="6284880" cy="1440"/>
          </a:xfrm>
          <a:prstGeom prst="line">
            <a:avLst/>
          </a:prstGeom>
          <a:ln w="28440">
            <a:solidFill>
              <a:srgbClr val="00e4a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828800" y="3200400"/>
            <a:ext cx="628488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505640" y="3125880"/>
            <a:ext cx="255600" cy="177840"/>
          </a:xfrm>
          <a:custGeom>
            <a:avLst/>
            <a:gdLst/>
            <a:ahLst/>
            <a:rect l="l" t="t" r="r" b="b"/>
            <a:pathLst>
              <a:path w="161" h="112">
                <a:moveTo>
                  <a:pt x="0" y="0"/>
                </a:moveTo>
                <a:lnTo>
                  <a:pt x="0" y="112"/>
                </a:lnTo>
                <a:lnTo>
                  <a:pt x="161" y="5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827440" y="1905120"/>
            <a:ext cx="291960" cy="237960"/>
          </a:xfrm>
          <a:custGeom>
            <a:avLst/>
            <a:gdLst/>
            <a:ahLst/>
            <a:rect l="l" t="t" r="r" b="b"/>
            <a:pathLst>
              <a:path w="184" h="150">
                <a:moveTo>
                  <a:pt x="184" y="150"/>
                </a:moveTo>
                <a:lnTo>
                  <a:pt x="0" y="150"/>
                </a:lnTo>
                <a:lnTo>
                  <a:pt x="92" y="0"/>
                </a:lnTo>
                <a:lnTo>
                  <a:pt x="184" y="150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506720" y="336564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804680" y="3753000"/>
            <a:ext cx="56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p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19760" y="3753000"/>
            <a:ext cx="49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futu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658880" y="5475240"/>
            <a:ext cx="628488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414560" y="558180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828800" y="4343400"/>
            <a:ext cx="5407200" cy="714240"/>
          </a:xfrm>
          <a:custGeom>
            <a:avLst/>
            <a:gdLst/>
            <a:ahLst/>
            <a:rect l="l" t="t" r="r" b="b"/>
            <a:pathLst>
              <a:path w="3406" h="450">
                <a:moveTo>
                  <a:pt x="0" y="412"/>
                </a:moveTo>
                <a:lnTo>
                  <a:pt x="34" y="421"/>
                </a:lnTo>
                <a:lnTo>
                  <a:pt x="161" y="412"/>
                </a:lnTo>
                <a:lnTo>
                  <a:pt x="184" y="412"/>
                </a:lnTo>
                <a:lnTo>
                  <a:pt x="207" y="421"/>
                </a:lnTo>
                <a:lnTo>
                  <a:pt x="230" y="421"/>
                </a:lnTo>
                <a:lnTo>
                  <a:pt x="253" y="421"/>
                </a:lnTo>
                <a:lnTo>
                  <a:pt x="276" y="431"/>
                </a:lnTo>
                <a:lnTo>
                  <a:pt x="299" y="431"/>
                </a:lnTo>
                <a:lnTo>
                  <a:pt x="368" y="431"/>
                </a:lnTo>
                <a:lnTo>
                  <a:pt x="403" y="431"/>
                </a:lnTo>
                <a:lnTo>
                  <a:pt x="426" y="440"/>
                </a:lnTo>
                <a:lnTo>
                  <a:pt x="449" y="450"/>
                </a:lnTo>
                <a:lnTo>
                  <a:pt x="472" y="450"/>
                </a:lnTo>
                <a:lnTo>
                  <a:pt x="495" y="450"/>
                </a:lnTo>
                <a:lnTo>
                  <a:pt x="575" y="450"/>
                </a:lnTo>
                <a:lnTo>
                  <a:pt x="598" y="450"/>
                </a:lnTo>
                <a:lnTo>
                  <a:pt x="621" y="450"/>
                </a:lnTo>
                <a:lnTo>
                  <a:pt x="644" y="450"/>
                </a:lnTo>
                <a:lnTo>
                  <a:pt x="713" y="450"/>
                </a:lnTo>
                <a:lnTo>
                  <a:pt x="748" y="450"/>
                </a:lnTo>
                <a:lnTo>
                  <a:pt x="771" y="450"/>
                </a:lnTo>
                <a:lnTo>
                  <a:pt x="794" y="450"/>
                </a:lnTo>
                <a:lnTo>
                  <a:pt x="863" y="440"/>
                </a:lnTo>
                <a:lnTo>
                  <a:pt x="886" y="440"/>
                </a:lnTo>
                <a:lnTo>
                  <a:pt x="909" y="431"/>
                </a:lnTo>
                <a:lnTo>
                  <a:pt x="932" y="431"/>
                </a:lnTo>
                <a:lnTo>
                  <a:pt x="1013" y="421"/>
                </a:lnTo>
                <a:lnTo>
                  <a:pt x="1036" y="412"/>
                </a:lnTo>
                <a:lnTo>
                  <a:pt x="1070" y="403"/>
                </a:lnTo>
                <a:lnTo>
                  <a:pt x="1093" y="403"/>
                </a:lnTo>
                <a:lnTo>
                  <a:pt x="1116" y="393"/>
                </a:lnTo>
                <a:lnTo>
                  <a:pt x="1185" y="384"/>
                </a:lnTo>
                <a:lnTo>
                  <a:pt x="1266" y="375"/>
                </a:lnTo>
                <a:lnTo>
                  <a:pt x="1300" y="356"/>
                </a:lnTo>
                <a:lnTo>
                  <a:pt x="1323" y="337"/>
                </a:lnTo>
                <a:lnTo>
                  <a:pt x="1404" y="318"/>
                </a:lnTo>
                <a:lnTo>
                  <a:pt x="1473" y="300"/>
                </a:lnTo>
                <a:lnTo>
                  <a:pt x="1496" y="290"/>
                </a:lnTo>
                <a:lnTo>
                  <a:pt x="1519" y="281"/>
                </a:lnTo>
                <a:lnTo>
                  <a:pt x="1542" y="262"/>
                </a:lnTo>
                <a:lnTo>
                  <a:pt x="1565" y="253"/>
                </a:lnTo>
                <a:lnTo>
                  <a:pt x="1588" y="243"/>
                </a:lnTo>
                <a:lnTo>
                  <a:pt x="1611" y="234"/>
                </a:lnTo>
                <a:lnTo>
                  <a:pt x="1634" y="225"/>
                </a:lnTo>
                <a:lnTo>
                  <a:pt x="1646" y="206"/>
                </a:lnTo>
                <a:lnTo>
                  <a:pt x="1669" y="187"/>
                </a:lnTo>
                <a:lnTo>
                  <a:pt x="1692" y="187"/>
                </a:lnTo>
                <a:lnTo>
                  <a:pt x="1703" y="169"/>
                </a:lnTo>
                <a:lnTo>
                  <a:pt x="1726" y="169"/>
                </a:lnTo>
                <a:lnTo>
                  <a:pt x="1749" y="150"/>
                </a:lnTo>
                <a:lnTo>
                  <a:pt x="1772" y="140"/>
                </a:lnTo>
                <a:lnTo>
                  <a:pt x="1795" y="131"/>
                </a:lnTo>
                <a:lnTo>
                  <a:pt x="1807" y="112"/>
                </a:lnTo>
                <a:lnTo>
                  <a:pt x="1830" y="112"/>
                </a:lnTo>
                <a:lnTo>
                  <a:pt x="1853" y="94"/>
                </a:lnTo>
                <a:lnTo>
                  <a:pt x="1876" y="94"/>
                </a:lnTo>
                <a:lnTo>
                  <a:pt x="1887" y="75"/>
                </a:lnTo>
                <a:lnTo>
                  <a:pt x="1968" y="75"/>
                </a:lnTo>
                <a:lnTo>
                  <a:pt x="2002" y="56"/>
                </a:lnTo>
                <a:lnTo>
                  <a:pt x="2025" y="56"/>
                </a:lnTo>
                <a:lnTo>
                  <a:pt x="2048" y="47"/>
                </a:lnTo>
                <a:lnTo>
                  <a:pt x="2071" y="37"/>
                </a:lnTo>
                <a:lnTo>
                  <a:pt x="2094" y="37"/>
                </a:lnTo>
                <a:lnTo>
                  <a:pt x="2117" y="37"/>
                </a:lnTo>
                <a:lnTo>
                  <a:pt x="2140" y="37"/>
                </a:lnTo>
                <a:lnTo>
                  <a:pt x="2163" y="28"/>
                </a:lnTo>
                <a:lnTo>
                  <a:pt x="2186" y="28"/>
                </a:lnTo>
                <a:lnTo>
                  <a:pt x="2209" y="19"/>
                </a:lnTo>
                <a:lnTo>
                  <a:pt x="2232" y="19"/>
                </a:lnTo>
                <a:lnTo>
                  <a:pt x="2255" y="19"/>
                </a:lnTo>
                <a:lnTo>
                  <a:pt x="2279" y="9"/>
                </a:lnTo>
                <a:lnTo>
                  <a:pt x="2302" y="9"/>
                </a:lnTo>
                <a:lnTo>
                  <a:pt x="2325" y="9"/>
                </a:lnTo>
                <a:lnTo>
                  <a:pt x="2348" y="9"/>
                </a:lnTo>
                <a:lnTo>
                  <a:pt x="2371" y="9"/>
                </a:lnTo>
                <a:lnTo>
                  <a:pt x="2451" y="9"/>
                </a:lnTo>
                <a:lnTo>
                  <a:pt x="2474" y="0"/>
                </a:lnTo>
                <a:lnTo>
                  <a:pt x="2497" y="0"/>
                </a:lnTo>
                <a:lnTo>
                  <a:pt x="2520" y="0"/>
                </a:lnTo>
                <a:lnTo>
                  <a:pt x="2543" y="0"/>
                </a:lnTo>
                <a:lnTo>
                  <a:pt x="2566" y="0"/>
                </a:lnTo>
                <a:lnTo>
                  <a:pt x="2589" y="0"/>
                </a:lnTo>
                <a:lnTo>
                  <a:pt x="2612" y="0"/>
                </a:lnTo>
                <a:lnTo>
                  <a:pt x="2635" y="9"/>
                </a:lnTo>
                <a:lnTo>
                  <a:pt x="2658" y="9"/>
                </a:lnTo>
                <a:lnTo>
                  <a:pt x="2681" y="9"/>
                </a:lnTo>
                <a:lnTo>
                  <a:pt x="2704" y="9"/>
                </a:lnTo>
                <a:lnTo>
                  <a:pt x="2727" y="9"/>
                </a:lnTo>
                <a:lnTo>
                  <a:pt x="2762" y="9"/>
                </a:lnTo>
                <a:lnTo>
                  <a:pt x="2785" y="9"/>
                </a:lnTo>
                <a:lnTo>
                  <a:pt x="2819" y="19"/>
                </a:lnTo>
                <a:lnTo>
                  <a:pt x="2842" y="19"/>
                </a:lnTo>
                <a:lnTo>
                  <a:pt x="2865" y="19"/>
                </a:lnTo>
                <a:lnTo>
                  <a:pt x="2888" y="19"/>
                </a:lnTo>
                <a:lnTo>
                  <a:pt x="2958" y="19"/>
                </a:lnTo>
                <a:lnTo>
                  <a:pt x="2981" y="19"/>
                </a:lnTo>
                <a:lnTo>
                  <a:pt x="3004" y="19"/>
                </a:lnTo>
                <a:lnTo>
                  <a:pt x="3038" y="19"/>
                </a:lnTo>
                <a:lnTo>
                  <a:pt x="3061" y="19"/>
                </a:lnTo>
                <a:lnTo>
                  <a:pt x="3084" y="19"/>
                </a:lnTo>
                <a:lnTo>
                  <a:pt x="3107" y="19"/>
                </a:lnTo>
                <a:lnTo>
                  <a:pt x="3130" y="19"/>
                </a:lnTo>
                <a:lnTo>
                  <a:pt x="3153" y="19"/>
                </a:lnTo>
                <a:lnTo>
                  <a:pt x="3176" y="19"/>
                </a:lnTo>
                <a:lnTo>
                  <a:pt x="3211" y="19"/>
                </a:lnTo>
                <a:lnTo>
                  <a:pt x="3234" y="19"/>
                </a:lnTo>
                <a:lnTo>
                  <a:pt x="3257" y="19"/>
                </a:lnTo>
                <a:lnTo>
                  <a:pt x="3280" y="19"/>
                </a:lnTo>
                <a:lnTo>
                  <a:pt x="3314" y="19"/>
                </a:lnTo>
                <a:lnTo>
                  <a:pt x="3337" y="19"/>
                </a:lnTo>
                <a:lnTo>
                  <a:pt x="3360" y="19"/>
                </a:lnTo>
                <a:lnTo>
                  <a:pt x="3383" y="19"/>
                </a:lnTo>
                <a:lnTo>
                  <a:pt x="3406" y="9"/>
                </a:lnTo>
              </a:path>
            </a:pathLst>
          </a:custGeom>
          <a:noFill/>
          <a:ln w="49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225400" y="4064040"/>
            <a:ext cx="1553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eñal de refer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385520" y="4734000"/>
            <a:ext cx="188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Predicción de la sali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3083040" y="3957480"/>
            <a:ext cx="676080" cy="119160"/>
            <a:chOff x="3083040" y="3957480"/>
            <a:chExt cx="676080" cy="119160"/>
          </a:xfrm>
        </p:grpSpPr>
        <p:sp>
          <p:nvSpPr>
            <p:cNvPr id="641" name=""/>
            <p:cNvSpPr/>
            <p:nvPr/>
          </p:nvSpPr>
          <p:spPr>
            <a:xfrm>
              <a:off x="3613320" y="3957480"/>
              <a:ext cx="145800" cy="119160"/>
            </a:xfrm>
            <a:custGeom>
              <a:avLst/>
              <a:gdLst/>
              <a:ahLst/>
              <a:rect l="l" t="t" r="r" b="b"/>
              <a:pathLst>
                <a:path w="92" h="75">
                  <a:moveTo>
                    <a:pt x="0" y="0"/>
                  </a:moveTo>
                  <a:lnTo>
                    <a:pt x="0" y="75"/>
                  </a:lnTo>
                  <a:lnTo>
                    <a:pt x="92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083040" y="4017960"/>
              <a:ext cx="58572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1841400" y="3973680"/>
            <a:ext cx="676080" cy="118800"/>
            <a:chOff x="1841400" y="3973680"/>
            <a:chExt cx="676080" cy="118800"/>
          </a:xfrm>
        </p:grpSpPr>
        <p:sp>
          <p:nvSpPr>
            <p:cNvPr id="644" name=""/>
            <p:cNvSpPr/>
            <p:nvPr/>
          </p:nvSpPr>
          <p:spPr>
            <a:xfrm>
              <a:off x="1841400" y="3973680"/>
              <a:ext cx="146160" cy="118800"/>
            </a:xfrm>
            <a:custGeom>
              <a:avLst/>
              <a:gdLst/>
              <a:ahLst/>
              <a:rect l="l" t="t" r="r" b="b"/>
              <a:pathLst>
                <a:path w="92" h="75">
                  <a:moveTo>
                    <a:pt x="92" y="75"/>
                  </a:moveTo>
                  <a:lnTo>
                    <a:pt x="92" y="0"/>
                  </a:lnTo>
                  <a:lnTo>
                    <a:pt x="0" y="37"/>
                  </a:lnTo>
                  <a:lnTo>
                    <a:pt x="92" y="75"/>
                  </a:lnTo>
                  <a:close/>
                </a:path>
              </a:pathLst>
            </a:custGeom>
            <a:solidFill>
              <a:srgbClr val="000000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1931760" y="4032360"/>
              <a:ext cx="58572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 flipV="1">
            <a:off x="3851280" y="2486160"/>
            <a:ext cx="1440" cy="313848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431120" y="5386320"/>
            <a:ext cx="257040" cy="177840"/>
          </a:xfrm>
          <a:custGeom>
            <a:avLst/>
            <a:gdLst/>
            <a:ahLst/>
            <a:rect l="l" t="t" r="r" b="b"/>
            <a:pathLst>
              <a:path w="162" h="112">
                <a:moveTo>
                  <a:pt x="0" y="0"/>
                </a:moveTo>
                <a:lnTo>
                  <a:pt x="0" y="112"/>
                </a:lnTo>
                <a:lnTo>
                  <a:pt x="162" y="5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854360" y="4989600"/>
            <a:ext cx="1089000" cy="83880"/>
          </a:xfrm>
          <a:custGeom>
            <a:avLst/>
            <a:gdLst/>
            <a:ahLst/>
            <a:rect l="l" t="t" r="r" b="b"/>
            <a:pathLst>
              <a:path w="686" h="53">
                <a:moveTo>
                  <a:pt x="0" y="5"/>
                </a:moveTo>
                <a:cubicBezTo>
                  <a:pt x="72" y="30"/>
                  <a:pt x="31" y="23"/>
                  <a:pt x="126" y="13"/>
                </a:cubicBezTo>
                <a:cubicBezTo>
                  <a:pt x="166" y="0"/>
                  <a:pt x="229" y="17"/>
                  <a:pt x="268" y="21"/>
                </a:cubicBezTo>
                <a:cubicBezTo>
                  <a:pt x="292" y="26"/>
                  <a:pt x="315" y="39"/>
                  <a:pt x="339" y="37"/>
                </a:cubicBezTo>
                <a:cubicBezTo>
                  <a:pt x="355" y="35"/>
                  <a:pt x="386" y="21"/>
                  <a:pt x="386" y="21"/>
                </a:cubicBezTo>
                <a:cubicBezTo>
                  <a:pt x="483" y="53"/>
                  <a:pt x="585" y="45"/>
                  <a:pt x="686" y="45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692360" y="3573360"/>
            <a:ext cx="1295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3352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80880" y="2590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8001000" y="4038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Control Predictiv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triz Dinámic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1523880" y="2597040"/>
            <a:ext cx="0" cy="97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301760" y="342900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523880" y="2847960"/>
            <a:ext cx="1144800" cy="582480"/>
          </a:xfrm>
          <a:custGeom>
            <a:avLst/>
            <a:gdLst/>
            <a:ahLst/>
            <a:rect l="l" t="t" r="r" b="b"/>
            <a:pathLst>
              <a:path w="721" h="367">
                <a:moveTo>
                  <a:pt x="0" y="366"/>
                </a:moveTo>
                <a:lnTo>
                  <a:pt x="47" y="351"/>
                </a:lnTo>
                <a:lnTo>
                  <a:pt x="105" y="351"/>
                </a:lnTo>
                <a:lnTo>
                  <a:pt x="135" y="293"/>
                </a:lnTo>
                <a:lnTo>
                  <a:pt x="193" y="264"/>
                </a:lnTo>
                <a:lnTo>
                  <a:pt x="222" y="205"/>
                </a:lnTo>
                <a:lnTo>
                  <a:pt x="281" y="146"/>
                </a:lnTo>
                <a:lnTo>
                  <a:pt x="310" y="88"/>
                </a:lnTo>
                <a:lnTo>
                  <a:pt x="369" y="29"/>
                </a:lnTo>
                <a:lnTo>
                  <a:pt x="427" y="29"/>
                </a:lnTo>
                <a:lnTo>
                  <a:pt x="486" y="0"/>
                </a:lnTo>
                <a:lnTo>
                  <a:pt x="544" y="0"/>
                </a:lnTo>
                <a:lnTo>
                  <a:pt x="603" y="0"/>
                </a:lnTo>
                <a:lnTo>
                  <a:pt x="661" y="0"/>
                </a:lnTo>
                <a:lnTo>
                  <a:pt x="72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499480" y="3414600"/>
            <a:ext cx="266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585800" y="24242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943600" y="2657520"/>
            <a:ext cx="0" cy="9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721480" y="348948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943600" y="3124080"/>
            <a:ext cx="1220760" cy="366840"/>
          </a:xfrm>
          <a:custGeom>
            <a:avLst/>
            <a:gdLst/>
            <a:ahLst/>
            <a:rect l="l" t="t" r="r" b="b"/>
            <a:pathLst>
              <a:path w="769" h="231">
                <a:moveTo>
                  <a:pt x="0" y="230"/>
                </a:moveTo>
                <a:lnTo>
                  <a:pt x="50" y="221"/>
                </a:lnTo>
                <a:lnTo>
                  <a:pt x="112" y="221"/>
                </a:lnTo>
                <a:lnTo>
                  <a:pt x="144" y="184"/>
                </a:lnTo>
                <a:lnTo>
                  <a:pt x="206" y="166"/>
                </a:lnTo>
                <a:lnTo>
                  <a:pt x="237" y="129"/>
                </a:lnTo>
                <a:lnTo>
                  <a:pt x="300" y="92"/>
                </a:lnTo>
                <a:lnTo>
                  <a:pt x="331" y="55"/>
                </a:lnTo>
                <a:lnTo>
                  <a:pt x="394" y="18"/>
                </a:lnTo>
                <a:lnTo>
                  <a:pt x="455" y="18"/>
                </a:lnTo>
                <a:lnTo>
                  <a:pt x="518" y="0"/>
                </a:lnTo>
                <a:lnTo>
                  <a:pt x="580" y="0"/>
                </a:lnTo>
                <a:lnTo>
                  <a:pt x="643" y="0"/>
                </a:lnTo>
                <a:lnTo>
                  <a:pt x="705" y="0"/>
                </a:lnTo>
                <a:lnTo>
                  <a:pt x="76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929200" y="25383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733920" y="2657520"/>
            <a:ext cx="0" cy="9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587760" y="284148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338640" y="29192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733920" y="2819520"/>
            <a:ext cx="1374480" cy="541080"/>
          </a:xfrm>
          <a:custGeom>
            <a:avLst/>
            <a:gdLst/>
            <a:ahLst/>
            <a:rect l="l" t="t" r="r" b="b"/>
            <a:pathLst>
              <a:path w="866" h="341">
                <a:moveTo>
                  <a:pt x="0" y="0"/>
                </a:moveTo>
                <a:lnTo>
                  <a:pt x="45" y="18"/>
                </a:lnTo>
                <a:lnTo>
                  <a:pt x="104" y="47"/>
                </a:lnTo>
                <a:lnTo>
                  <a:pt x="162" y="47"/>
                </a:lnTo>
                <a:lnTo>
                  <a:pt x="221" y="77"/>
                </a:lnTo>
                <a:lnTo>
                  <a:pt x="279" y="106"/>
                </a:lnTo>
                <a:lnTo>
                  <a:pt x="308" y="164"/>
                </a:lnTo>
                <a:lnTo>
                  <a:pt x="367" y="194"/>
                </a:lnTo>
                <a:lnTo>
                  <a:pt x="396" y="252"/>
                </a:lnTo>
                <a:lnTo>
                  <a:pt x="455" y="282"/>
                </a:lnTo>
                <a:lnTo>
                  <a:pt x="484" y="340"/>
                </a:lnTo>
                <a:lnTo>
                  <a:pt x="543" y="311"/>
                </a:lnTo>
                <a:lnTo>
                  <a:pt x="601" y="311"/>
                </a:lnTo>
                <a:lnTo>
                  <a:pt x="660" y="340"/>
                </a:lnTo>
                <a:lnTo>
                  <a:pt x="718" y="340"/>
                </a:lnTo>
                <a:lnTo>
                  <a:pt x="777" y="340"/>
                </a:lnTo>
                <a:lnTo>
                  <a:pt x="835" y="340"/>
                </a:lnTo>
                <a:lnTo>
                  <a:pt x="865" y="28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861800" y="2728800"/>
            <a:ext cx="266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919200" y="3490920"/>
            <a:ext cx="266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733920" y="4197240"/>
            <a:ext cx="0" cy="97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511440" y="502920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709520" y="5014800"/>
            <a:ext cx="266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795840" y="40244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943600" y="4197240"/>
            <a:ext cx="0" cy="97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721480" y="502920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919200" y="5014800"/>
            <a:ext cx="266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005520" y="40244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523880" y="4197240"/>
            <a:ext cx="0" cy="97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301760" y="502920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499480" y="5014800"/>
            <a:ext cx="266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585800" y="40244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600200" y="4521240"/>
            <a:ext cx="1074600" cy="509400"/>
          </a:xfrm>
          <a:custGeom>
            <a:avLst/>
            <a:gdLst/>
            <a:ahLst/>
            <a:rect l="l" t="t" r="r" b="b"/>
            <a:pathLst>
              <a:path w="677" h="321">
                <a:moveTo>
                  <a:pt x="0" y="320"/>
                </a:moveTo>
                <a:lnTo>
                  <a:pt x="3" y="263"/>
                </a:lnTo>
                <a:lnTo>
                  <a:pt x="3" y="205"/>
                </a:lnTo>
                <a:lnTo>
                  <a:pt x="32" y="146"/>
                </a:lnTo>
                <a:lnTo>
                  <a:pt x="32" y="88"/>
                </a:lnTo>
                <a:lnTo>
                  <a:pt x="61" y="29"/>
                </a:lnTo>
                <a:lnTo>
                  <a:pt x="120" y="0"/>
                </a:lnTo>
                <a:lnTo>
                  <a:pt x="179" y="0"/>
                </a:lnTo>
                <a:lnTo>
                  <a:pt x="208" y="58"/>
                </a:lnTo>
                <a:lnTo>
                  <a:pt x="237" y="117"/>
                </a:lnTo>
                <a:lnTo>
                  <a:pt x="296" y="88"/>
                </a:lnTo>
                <a:lnTo>
                  <a:pt x="325" y="29"/>
                </a:lnTo>
                <a:lnTo>
                  <a:pt x="383" y="58"/>
                </a:lnTo>
                <a:lnTo>
                  <a:pt x="442" y="88"/>
                </a:lnTo>
                <a:lnTo>
                  <a:pt x="500" y="88"/>
                </a:lnTo>
                <a:lnTo>
                  <a:pt x="559" y="88"/>
                </a:lnTo>
                <a:lnTo>
                  <a:pt x="618" y="88"/>
                </a:lnTo>
                <a:lnTo>
                  <a:pt x="676" y="8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943600" y="4521240"/>
            <a:ext cx="1301760" cy="652320"/>
          </a:xfrm>
          <a:custGeom>
            <a:avLst/>
            <a:gdLst/>
            <a:ahLst/>
            <a:rect l="l" t="t" r="r" b="b"/>
            <a:pathLst>
              <a:path w="820" h="411">
                <a:moveTo>
                  <a:pt x="0" y="320"/>
                </a:moveTo>
                <a:lnTo>
                  <a:pt x="58" y="322"/>
                </a:lnTo>
                <a:lnTo>
                  <a:pt x="87" y="380"/>
                </a:lnTo>
                <a:lnTo>
                  <a:pt x="146" y="410"/>
                </a:lnTo>
                <a:lnTo>
                  <a:pt x="204" y="410"/>
                </a:lnTo>
                <a:lnTo>
                  <a:pt x="234" y="351"/>
                </a:lnTo>
                <a:lnTo>
                  <a:pt x="292" y="322"/>
                </a:lnTo>
                <a:lnTo>
                  <a:pt x="321" y="263"/>
                </a:lnTo>
                <a:lnTo>
                  <a:pt x="351" y="205"/>
                </a:lnTo>
                <a:lnTo>
                  <a:pt x="409" y="146"/>
                </a:lnTo>
                <a:lnTo>
                  <a:pt x="468" y="88"/>
                </a:lnTo>
                <a:lnTo>
                  <a:pt x="526" y="58"/>
                </a:lnTo>
                <a:lnTo>
                  <a:pt x="585" y="29"/>
                </a:lnTo>
                <a:lnTo>
                  <a:pt x="643" y="29"/>
                </a:lnTo>
                <a:lnTo>
                  <a:pt x="702" y="29"/>
                </a:lnTo>
                <a:lnTo>
                  <a:pt x="760" y="29"/>
                </a:lnTo>
                <a:lnTo>
                  <a:pt x="81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733920" y="4475160"/>
            <a:ext cx="1189080" cy="558720"/>
          </a:xfrm>
          <a:custGeom>
            <a:avLst/>
            <a:gdLst/>
            <a:ahLst/>
            <a:rect l="l" t="t" r="r" b="b"/>
            <a:pathLst>
              <a:path w="749" h="352">
                <a:moveTo>
                  <a:pt x="0" y="349"/>
                </a:moveTo>
                <a:lnTo>
                  <a:pt x="45" y="321"/>
                </a:lnTo>
                <a:lnTo>
                  <a:pt x="104" y="351"/>
                </a:lnTo>
                <a:lnTo>
                  <a:pt x="162" y="321"/>
                </a:lnTo>
                <a:lnTo>
                  <a:pt x="221" y="292"/>
                </a:lnTo>
                <a:lnTo>
                  <a:pt x="279" y="263"/>
                </a:lnTo>
                <a:lnTo>
                  <a:pt x="338" y="234"/>
                </a:lnTo>
                <a:lnTo>
                  <a:pt x="367" y="175"/>
                </a:lnTo>
                <a:lnTo>
                  <a:pt x="426" y="146"/>
                </a:lnTo>
                <a:lnTo>
                  <a:pt x="484" y="117"/>
                </a:lnTo>
                <a:lnTo>
                  <a:pt x="543" y="117"/>
                </a:lnTo>
                <a:lnTo>
                  <a:pt x="572" y="58"/>
                </a:lnTo>
                <a:lnTo>
                  <a:pt x="630" y="58"/>
                </a:lnTo>
                <a:lnTo>
                  <a:pt x="689" y="0"/>
                </a:lnTo>
                <a:lnTo>
                  <a:pt x="74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920880" y="2216160"/>
            <a:ext cx="6769080" cy="3568680"/>
          </a:xfrm>
          <a:prstGeom prst="rect">
            <a:avLst/>
          </a:prstGeom>
          <a:noFill/>
          <a:ln w="12600">
            <a:solidFill>
              <a:srgbClr val="dc008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048120" y="2216160"/>
            <a:ext cx="0" cy="3568680"/>
          </a:xfrm>
          <a:prstGeom prst="line">
            <a:avLst/>
          </a:prstGeom>
          <a:ln w="12600">
            <a:solidFill>
              <a:srgbClr val="dc008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34120" y="2216160"/>
            <a:ext cx="0" cy="3568680"/>
          </a:xfrm>
          <a:prstGeom prst="line">
            <a:avLst/>
          </a:prstGeom>
          <a:ln w="12600">
            <a:solidFill>
              <a:srgbClr val="dc008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920880" y="4038480"/>
            <a:ext cx="6769080" cy="0"/>
          </a:xfrm>
          <a:prstGeom prst="line">
            <a:avLst/>
          </a:prstGeom>
          <a:ln w="12600">
            <a:solidFill>
              <a:srgbClr val="dc008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90880" y="30337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90880" y="46339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738440" y="1662120"/>
            <a:ext cx="50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48120" y="1662120"/>
            <a:ext cx="50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234120" y="1662120"/>
            <a:ext cx="50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436040" y="6081840"/>
            <a:ext cx="6297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uesta salto entre cada par entrada/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Optimización de consig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"/>
          <p:cNvSpPr/>
          <p:nvPr/>
        </p:nvSpPr>
        <p:spPr>
          <a:xfrm>
            <a:off x="2749680" y="3879720"/>
            <a:ext cx="919080" cy="67644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681360" y="404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681360" y="4389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976480" y="3363840"/>
            <a:ext cx="0" cy="50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724120" y="3960720"/>
            <a:ext cx="1015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B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414520" y="350532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459200" y="4106880"/>
            <a:ext cx="295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655800" y="3591000"/>
            <a:ext cx="486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4379760" y="3879720"/>
            <a:ext cx="3014640" cy="946440"/>
            <a:chOff x="4379760" y="3879720"/>
            <a:chExt cx="3014640" cy="946440"/>
          </a:xfrm>
        </p:grpSpPr>
        <p:sp>
          <p:nvSpPr>
            <p:cNvPr id="705" name=""/>
            <p:cNvSpPr/>
            <p:nvPr/>
          </p:nvSpPr>
          <p:spPr>
            <a:xfrm>
              <a:off x="5233680" y="3879720"/>
              <a:ext cx="1306800" cy="67644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379760" y="3879720"/>
              <a:ext cx="530280" cy="67644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922640" y="4046400"/>
              <a:ext cx="29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922640" y="4389480"/>
              <a:ext cx="29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553080" y="4046400"/>
              <a:ext cx="84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553080" y="4389480"/>
              <a:ext cx="84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208840" y="4021200"/>
              <a:ext cx="1018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848200" y="4568760"/>
              <a:ext cx="0" cy="24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4600440" y="4819680"/>
              <a:ext cx="125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4606920" y="455616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6780240" y="4395960"/>
            <a:ext cx="0" cy="67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3358800" y="5078520"/>
            <a:ext cx="342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3365640" y="4556160"/>
            <a:ext cx="0" cy="52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012080" y="4052880"/>
            <a:ext cx="0" cy="11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2970360" y="5249880"/>
            <a:ext cx="404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2976480" y="4555800"/>
            <a:ext cx="0" cy="7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365640" y="3363840"/>
            <a:ext cx="0" cy="50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62320" y="2590920"/>
            <a:ext cx="1539720" cy="847440"/>
          </a:xfrm>
          <a:prstGeom prst="rect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ó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187280" y="2781360"/>
            <a:ext cx="11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59280" y="227664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ptimización en linea del punto de trabajo con criterios econó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ndencias en la indust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igencias crecientes de optimización de costos, mejor calidad, productividad, seguridad, respeto al medio ambiente, funcionamiento de las plantas en un amplio rango de condiciones de operación,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ere una mejora de los sistemas de control para cumplir especifica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cesidad de racionalizar las decisiones de nivel superior con significado económico y de integrar todas las decisiones a diversos nive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 flipH="1" rot="16200000">
            <a:off x="3929400" y="3625920"/>
            <a:ext cx="596880" cy="67284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436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Book Antiqua"/>
              </a:rPr>
              <a:t>Regulación automática conven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82840" y="4654440"/>
            <a:ext cx="1968480" cy="113040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54240" y="4807080"/>
            <a:ext cx="216000" cy="97776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64280" y="4807080"/>
            <a:ext cx="215640" cy="97776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01760" y="525780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57400" y="518796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063880" y="5175360"/>
            <a:ext cx="21564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63880" y="5187960"/>
            <a:ext cx="2156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518796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171880" y="503352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28960" y="4933800"/>
            <a:ext cx="284040" cy="7956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92480" y="525780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111640" y="3943440"/>
            <a:ext cx="1739880" cy="406080"/>
            <a:chOff x="5111640" y="3943440"/>
            <a:chExt cx="1739880" cy="406080"/>
          </a:xfrm>
        </p:grpSpPr>
        <p:sp>
          <p:nvSpPr>
            <p:cNvPr id="122" name=""/>
            <p:cNvSpPr/>
            <p:nvPr/>
          </p:nvSpPr>
          <p:spPr>
            <a:xfrm>
              <a:off x="5111640" y="4267080"/>
              <a:ext cx="74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867280" y="419724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5873760" y="4184280"/>
              <a:ext cx="21600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73760" y="4197240"/>
              <a:ext cx="2160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95880" y="419724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5981760" y="404352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38840" y="3943440"/>
              <a:ext cx="284040" cy="79200"/>
            </a:xfrm>
            <a:prstGeom prst="ellipse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02360" y="426708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5105520" y="42735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67080" y="57974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54040" y="4807080"/>
            <a:ext cx="292320" cy="291960"/>
          </a:xfrm>
          <a:prstGeom prst="ellipse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51116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559560" y="3816360"/>
            <a:ext cx="291960" cy="291960"/>
          </a:xfrm>
          <a:prstGeom prst="ellipse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05720" y="41212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63880" y="4349880"/>
            <a:ext cx="291960" cy="291960"/>
          </a:xfrm>
          <a:prstGeom prst="ellipse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600200" y="44895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6680" y="4495680"/>
            <a:ext cx="44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6544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3435480"/>
            <a:ext cx="0" cy="90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7440" y="3435480"/>
            <a:ext cx="292320" cy="291960"/>
          </a:xfrm>
          <a:prstGeom prst="ellipse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37400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02360" y="358128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43600" y="30542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35480" y="4121280"/>
            <a:ext cx="291960" cy="291960"/>
          </a:xfrm>
          <a:prstGeom prst="ellipse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5867280"/>
            <a:ext cx="291960" cy="292320"/>
          </a:xfrm>
          <a:prstGeom prst="ellipse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81280" y="4425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581280" y="3498480"/>
            <a:ext cx="0" cy="62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280" y="29019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41440" y="2646360"/>
            <a:ext cx="96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8160" y="5943600"/>
            <a:ext cx="977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53720" y="5389560"/>
            <a:ext cx="1857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39400" y="4322880"/>
            <a:ext cx="1400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35480" y="3282840"/>
            <a:ext cx="291960" cy="292320"/>
          </a:xfrm>
          <a:prstGeom prst="ellipse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203560" y="3429000"/>
            <a:ext cx="1231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266720" y="6019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 lazo de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692280" y="1987560"/>
                <a:ext cx="8140680" cy="410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5035680" y="3282840"/>
            <a:ext cx="1968480" cy="97812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82640" y="3282840"/>
            <a:ext cx="1739880" cy="97812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35480" y="3809880"/>
            <a:ext cx="1587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016760" y="3809880"/>
            <a:ext cx="1359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848720" y="3816360"/>
            <a:ext cx="0" cy="135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508120" y="5181480"/>
            <a:ext cx="534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514600" y="4260600"/>
            <a:ext cx="0" cy="92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20880" y="380988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43600" y="23684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3276720"/>
            <a:ext cx="380880" cy="380880"/>
          </a:xfrm>
          <a:custGeom>
            <a:avLst/>
            <a:gdLst>
              <a:gd name="textAreaLeft" fmla="*/ 14040 w 380880"/>
              <a:gd name="textAreaRight" fmla="*/ 366840 w 380880"/>
              <a:gd name="textAreaTop" fmla="*/ 14040 h 380880"/>
              <a:gd name="textAreaBottom" fmla="*/ 304200 h 380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01800" y="325584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48720" y="3276720"/>
            <a:ext cx="533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25146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01800" y="3865680"/>
            <a:ext cx="586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987320" y="3865680"/>
            <a:ext cx="60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72000" y="24192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01840" y="3865680"/>
            <a:ext cx="63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1200" y="2435400"/>
            <a:ext cx="61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Intera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4654440"/>
            <a:ext cx="1968480" cy="113040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35480" y="4807080"/>
            <a:ext cx="215640" cy="97776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45160" y="4807080"/>
            <a:ext cx="216000" cy="97776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82640" y="5257800"/>
            <a:ext cx="74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38280" y="518796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444760" y="5175360"/>
            <a:ext cx="21600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44760" y="5187960"/>
            <a:ext cx="21600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66880" y="518796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552760" y="503352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09840" y="4933800"/>
            <a:ext cx="284040" cy="7956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73360" y="525780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492880" y="3943440"/>
            <a:ext cx="1739880" cy="406080"/>
            <a:chOff x="5492880" y="3943440"/>
            <a:chExt cx="1739880" cy="406080"/>
          </a:xfrm>
        </p:grpSpPr>
        <p:sp>
          <p:nvSpPr>
            <p:cNvPr id="193" name=""/>
            <p:cNvSpPr/>
            <p:nvPr/>
          </p:nvSpPr>
          <p:spPr>
            <a:xfrm>
              <a:off x="5492880" y="426708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48520" y="419724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6254640" y="4184280"/>
              <a:ext cx="21600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254640" y="4197240"/>
              <a:ext cx="2160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77120" y="419724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362640" y="404352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219720" y="3943440"/>
              <a:ext cx="284400" cy="79200"/>
            </a:xfrm>
            <a:prstGeom prst="ellipse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483240" y="4267080"/>
              <a:ext cx="74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5486400" y="42735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48320" y="57974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35280" y="4807080"/>
            <a:ext cx="291960" cy="29196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81080" y="51116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940440" y="3816360"/>
            <a:ext cx="292320" cy="29196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086600" y="41212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44760" y="4349880"/>
            <a:ext cx="291960" cy="29196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981080" y="44895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87560" y="44956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90920" y="46544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3130560"/>
            <a:ext cx="0" cy="120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8680" y="3435480"/>
            <a:ext cx="291960" cy="29196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324480" y="37400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83240" y="358128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08660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324480" y="30542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16360" y="4121280"/>
            <a:ext cx="291960" cy="29196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30760" y="4121280"/>
            <a:ext cx="291960" cy="29196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4425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76920" y="4425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9160" y="2673360"/>
            <a:ext cx="2044800" cy="825480"/>
          </a:xfrm>
          <a:prstGeom prst="rect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962520" y="3498480"/>
            <a:ext cx="0" cy="62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876920" y="3498480"/>
            <a:ext cx="0" cy="62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2584440" y="3124080"/>
            <a:ext cx="77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16560" y="304812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962520" y="22161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00600" y="22161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32000" y="1844640"/>
            <a:ext cx="96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788360" y="1916280"/>
            <a:ext cx="977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25960" y="5389560"/>
            <a:ext cx="1583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rige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7400" y="5943600"/>
            <a:ext cx="1200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00240" y="2571840"/>
            <a:ext cx="435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77600" y="2495520"/>
            <a:ext cx="435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527960" y="412596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72360" y="476280"/>
            <a:ext cx="237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l control avanzado tiene en cuenta la interacción entre las variables y tata de controlar la unidad  de proceso como un t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Book Antiqua"/>
              </a:rPr>
              <a:t>Procesos multivariables (MIM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4040" y="2112840"/>
            <a:ext cx="407196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procesos multi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interacción crea problemas de control. Además cuando hay restricciones en las variables, perturbaciones, etc.  las llamadas estructura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no siempre dan buenos resultados y son difíciles de mante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consecuencia, a menudo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dad se regula manu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 un oper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4267080" y="1371600"/>
            <a:ext cx="4650120" cy="5003280"/>
            <a:chOff x="4267080" y="1371600"/>
            <a:chExt cx="4650120" cy="5003280"/>
          </a:xfrm>
        </p:grpSpPr>
        <p:grpSp>
          <p:nvGrpSpPr>
            <p:cNvPr id="239" name=""/>
            <p:cNvGrpSpPr/>
            <p:nvPr/>
          </p:nvGrpSpPr>
          <p:grpSpPr>
            <a:xfrm>
              <a:off x="4817520" y="5088600"/>
              <a:ext cx="183240" cy="285480"/>
              <a:chOff x="4817520" y="5088600"/>
              <a:chExt cx="183240" cy="285480"/>
            </a:xfrm>
          </p:grpSpPr>
          <p:sp>
            <p:nvSpPr>
              <p:cNvPr id="240" name=""/>
              <p:cNvSpPr/>
              <p:nvPr/>
            </p:nvSpPr>
            <p:spPr>
              <a:xfrm>
                <a:off x="4838760" y="525996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4840920" y="5254920"/>
                <a:ext cx="13644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840920" y="5259960"/>
                <a:ext cx="13644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979520" y="525996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4908960" y="5169600"/>
                <a:ext cx="0" cy="14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17520" y="5088600"/>
                <a:ext cx="183240" cy="81000"/>
              </a:xfrm>
              <a:prstGeom prst="ellipse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5689080" y="2157840"/>
              <a:ext cx="458640" cy="3216240"/>
            </a:xfrm>
            <a:custGeom>
              <a:avLst/>
              <a:gdLst>
                <a:gd name="textAreaLeft" fmla="*/ 22320 w 458640"/>
                <a:gd name="textAreaRight" fmla="*/ 436320 w 458640"/>
                <a:gd name="textAreaTop" fmla="*/ 22320 h 3216240"/>
                <a:gd name="textAreaBottom" fmla="*/ 3193920 h 3216240"/>
              </a:gdLst>
              <a:ahLst/>
              <a:rect l="textAreaLeft" t="textAreaTop" r="textAreaRight" b="textAreaBottom"/>
              <a:pathLst>
                <a:path w="21600" h="151369">
                  <a:moveTo>
                    <a:pt x="3600" y="0"/>
                  </a:moveTo>
                  <a:arcTo wR="3600" hR="3600" stAng="16200000" swAng="-5400000"/>
                  <a:lnTo>
                    <a:pt x="0" y="147769"/>
                  </a:lnTo>
                  <a:arcTo wR="3600" hR="3600" stAng="10800000" swAng="-5400000"/>
                  <a:lnTo>
                    <a:pt x="18000" y="1513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4267080" y="3724200"/>
              <a:ext cx="1414440" cy="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5185800" y="5159880"/>
              <a:ext cx="273960" cy="430200"/>
            </a:xfrm>
            <a:prstGeom prst="ellipse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5277240" y="5304240"/>
              <a:ext cx="9144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77240" y="5375880"/>
              <a:ext cx="9144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 flipV="1">
              <a:off x="4977000" y="5302440"/>
              <a:ext cx="391680" cy="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flipV="1">
              <a:off x="5322240" y="5590080"/>
              <a:ext cx="72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5000760" y="5445720"/>
              <a:ext cx="36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918760" y="5374440"/>
              <a:ext cx="0" cy="53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5689080" y="4945680"/>
              <a:ext cx="32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826600" y="4516560"/>
              <a:ext cx="32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5689080" y="4087800"/>
              <a:ext cx="32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5826600" y="3659040"/>
              <a:ext cx="32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5689080" y="3230280"/>
              <a:ext cx="32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5826600" y="2801160"/>
              <a:ext cx="32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22240" y="5731920"/>
              <a:ext cx="59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5873040" y="5874480"/>
              <a:ext cx="183240" cy="285840"/>
              <a:chOff x="5873040" y="5874480"/>
              <a:chExt cx="183240" cy="285840"/>
            </a:xfrm>
          </p:grpSpPr>
          <p:sp>
            <p:nvSpPr>
              <p:cNvPr id="263" name=""/>
              <p:cNvSpPr/>
              <p:nvPr/>
            </p:nvSpPr>
            <p:spPr>
              <a:xfrm flipH="1">
                <a:off x="5875920" y="5907600"/>
                <a:ext cx="70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873040" y="5910840"/>
                <a:ext cx="76320" cy="21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5875920" y="5910840"/>
                <a:ext cx="70200" cy="21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5875920" y="6126840"/>
                <a:ext cx="70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910120" y="6017400"/>
                <a:ext cx="9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5400000">
                <a:off x="5887440" y="5991480"/>
                <a:ext cx="285840" cy="51840"/>
              </a:xfrm>
              <a:prstGeom prst="ellipse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5918760" y="6126480"/>
              <a:ext cx="0" cy="24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85600" y="5874480"/>
              <a:ext cx="175680" cy="27396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85600" y="5159880"/>
              <a:ext cx="175680" cy="27360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6148080" y="5302800"/>
              <a:ext cx="13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377400" y="5445720"/>
              <a:ext cx="0" cy="428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6055920" y="6017760"/>
              <a:ext cx="229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6469200" y="6017760"/>
              <a:ext cx="13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697000" y="5170680"/>
              <a:ext cx="446040" cy="51840"/>
            </a:xfrm>
            <a:custGeom>
              <a:avLst/>
              <a:gdLst/>
              <a:ahLst/>
              <a:rect l="l" t="t" r="r" b="b"/>
              <a:pathLst>
                <a:path w="467" h="35">
                  <a:moveTo>
                    <a:pt x="0" y="11"/>
                  </a:moveTo>
                  <a:cubicBezTo>
                    <a:pt x="98" y="0"/>
                    <a:pt x="78" y="8"/>
                    <a:pt x="155" y="35"/>
                  </a:cubicBezTo>
                  <a:cubicBezTo>
                    <a:pt x="187" y="14"/>
                    <a:pt x="195" y="9"/>
                    <a:pt x="233" y="19"/>
                  </a:cubicBezTo>
                  <a:cubicBezTo>
                    <a:pt x="256" y="16"/>
                    <a:pt x="339" y="3"/>
                    <a:pt x="358" y="3"/>
                  </a:cubicBezTo>
                  <a:cubicBezTo>
                    <a:pt x="377" y="3"/>
                    <a:pt x="394" y="17"/>
                    <a:pt x="413" y="19"/>
                  </a:cubicBezTo>
                  <a:cubicBezTo>
                    <a:pt x="431" y="21"/>
                    <a:pt x="449" y="19"/>
                    <a:pt x="467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5322240" y="5016600"/>
              <a:ext cx="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322240" y="5016960"/>
              <a:ext cx="366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50320" y="5302800"/>
              <a:ext cx="3880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000760" y="544572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50320" y="4671360"/>
              <a:ext cx="175680" cy="2739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816440" y="4659480"/>
              <a:ext cx="175680" cy="273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4542120" y="4945680"/>
              <a:ext cx="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33920" y="4802400"/>
              <a:ext cx="183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09320" y="494568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4903200" y="4373640"/>
              <a:ext cx="5400" cy="285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6154200" y="2461680"/>
              <a:ext cx="41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340760" y="2657880"/>
              <a:ext cx="642240" cy="50040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6885720" y="3487680"/>
              <a:ext cx="183600" cy="285120"/>
              <a:chOff x="6885720" y="3487680"/>
              <a:chExt cx="183600" cy="285120"/>
            </a:xfrm>
          </p:grpSpPr>
          <p:sp>
            <p:nvSpPr>
              <p:cNvPr id="290" name=""/>
              <p:cNvSpPr/>
              <p:nvPr/>
            </p:nvSpPr>
            <p:spPr>
              <a:xfrm flipV="1">
                <a:off x="6906960" y="349200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909120" y="3487680"/>
                <a:ext cx="136800" cy="11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6909120" y="3492000"/>
                <a:ext cx="13680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>
                <a:off x="7047720" y="349200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977520" y="3545280"/>
                <a:ext cx="0" cy="14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6885720" y="3692160"/>
                <a:ext cx="183600" cy="80640"/>
              </a:xfrm>
              <a:prstGeom prst="ellipse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 flipV="1">
              <a:off x="5918760" y="1872000"/>
              <a:ext cx="0" cy="2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918760" y="1872000"/>
              <a:ext cx="151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32920" y="1514520"/>
              <a:ext cx="451080" cy="64296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7707960" y="1371600"/>
              <a:ext cx="275040" cy="35748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707960" y="1729080"/>
              <a:ext cx="0" cy="14256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7570440" y="1888560"/>
              <a:ext cx="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 flipV="1">
              <a:off x="7570440" y="1729080"/>
              <a:ext cx="137520" cy="14256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570440" y="1729080"/>
              <a:ext cx="0" cy="15912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6914880" y="2131200"/>
              <a:ext cx="280800" cy="326880"/>
              <a:chOff x="6914880" y="2131200"/>
              <a:chExt cx="280800" cy="326880"/>
            </a:xfrm>
          </p:grpSpPr>
          <p:sp>
            <p:nvSpPr>
              <p:cNvPr id="305" name=""/>
              <p:cNvSpPr/>
              <p:nvPr/>
            </p:nvSpPr>
            <p:spPr>
              <a:xfrm>
                <a:off x="7019280" y="2360880"/>
                <a:ext cx="54720" cy="9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7078320" y="2286720"/>
                <a:ext cx="58320" cy="17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021080" y="2359800"/>
                <a:ext cx="173160" cy="25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140960" y="2289960"/>
                <a:ext cx="5472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 flipV="1">
                <a:off x="7034400" y="2246400"/>
                <a:ext cx="74160" cy="127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19791000">
                <a:off x="6922440" y="2171520"/>
                <a:ext cx="183600" cy="80640"/>
              </a:xfrm>
              <a:prstGeom prst="ellipse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6285600" y="2014560"/>
              <a:ext cx="175680" cy="27396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607080" y="2014560"/>
              <a:ext cx="175680" cy="27396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102000" y="2157840"/>
              <a:ext cx="18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69200" y="2157840"/>
              <a:ext cx="137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90320" y="2157840"/>
              <a:ext cx="229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157520" y="1871640"/>
              <a:ext cx="412920" cy="42876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662240" y="2157840"/>
              <a:ext cx="0" cy="50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662240" y="3158640"/>
              <a:ext cx="0" cy="35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8396280" y="3301200"/>
              <a:ext cx="183240" cy="285480"/>
              <a:chOff x="8396280" y="3301200"/>
              <a:chExt cx="183240" cy="285480"/>
            </a:xfrm>
          </p:grpSpPr>
          <p:sp>
            <p:nvSpPr>
              <p:cNvPr id="320" name=""/>
              <p:cNvSpPr/>
              <p:nvPr/>
            </p:nvSpPr>
            <p:spPr>
              <a:xfrm>
                <a:off x="8417520" y="347256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8419680" y="3467520"/>
                <a:ext cx="13644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419680" y="3472560"/>
                <a:ext cx="13644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558280" y="347256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8487720" y="3382200"/>
                <a:ext cx="0" cy="14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396280" y="3301200"/>
                <a:ext cx="183240" cy="81000"/>
              </a:xfrm>
              <a:prstGeom prst="ellipse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8075160" y="2872440"/>
              <a:ext cx="175680" cy="27396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396280" y="2872440"/>
              <a:ext cx="175680" cy="27396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579880" y="3515760"/>
              <a:ext cx="22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069320" y="3535560"/>
              <a:ext cx="1347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983360" y="3015720"/>
              <a:ext cx="9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258760" y="3015720"/>
              <a:ext cx="137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488080" y="315864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488080" y="2657880"/>
              <a:ext cx="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516880" y="3714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350480" y="2874240"/>
              <a:ext cx="624960" cy="69840"/>
            </a:xfrm>
            <a:custGeom>
              <a:avLst/>
              <a:gdLst/>
              <a:ahLst/>
              <a:rect l="l" t="t" r="r" b="b"/>
              <a:pathLst>
                <a:path w="654" h="47">
                  <a:moveTo>
                    <a:pt x="0" y="10"/>
                  </a:moveTo>
                  <a:cubicBezTo>
                    <a:pt x="52" y="28"/>
                    <a:pt x="118" y="10"/>
                    <a:pt x="179" y="18"/>
                  </a:cubicBezTo>
                  <a:cubicBezTo>
                    <a:pt x="238" y="39"/>
                    <a:pt x="169" y="18"/>
                    <a:pt x="296" y="18"/>
                  </a:cubicBezTo>
                  <a:cubicBezTo>
                    <a:pt x="332" y="18"/>
                    <a:pt x="369" y="23"/>
                    <a:pt x="405" y="26"/>
                  </a:cubicBezTo>
                  <a:cubicBezTo>
                    <a:pt x="474" y="47"/>
                    <a:pt x="521" y="7"/>
                    <a:pt x="584" y="2"/>
                  </a:cubicBezTo>
                  <a:cubicBezTo>
                    <a:pt x="607" y="0"/>
                    <a:pt x="631" y="2"/>
                    <a:pt x="654" y="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6882120" y="2443680"/>
              <a:ext cx="137520" cy="14292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568560" y="2473560"/>
              <a:ext cx="0" cy="107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6567480" y="3550320"/>
              <a:ext cx="32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890760" y="3911760"/>
              <a:ext cx="175680" cy="2739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41760" y="3935880"/>
              <a:ext cx="175680" cy="273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27800" y="3539880"/>
              <a:ext cx="0" cy="39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7059960" y="4060800"/>
              <a:ext cx="178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6969960" y="3759840"/>
              <a:ext cx="7560" cy="15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244840" y="3197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357520" y="5082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524640" y="29041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379480" y="4618080"/>
              <a:ext cx="175680" cy="27360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378400" y="4223160"/>
              <a:ext cx="175680" cy="27360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5555520" y="478008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5467320" y="449136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4906800" y="4375080"/>
              <a:ext cx="468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65520" y="3968640"/>
              <a:ext cx="0" cy="26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3480" y="2552400"/>
              <a:ext cx="175680" cy="27396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43480" y="3922560"/>
              <a:ext cx="175680" cy="27396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6150960" y="2692440"/>
              <a:ext cx="9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29520" y="2831040"/>
              <a:ext cx="0" cy="1101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423480" y="4087800"/>
              <a:ext cx="458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698520" y="230076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6331680" y="4172400"/>
              <a:ext cx="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404600" y="3873600"/>
              <a:ext cx="175680" cy="273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817520" y="3873600"/>
              <a:ext cx="175680" cy="273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4496400" y="372996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587840" y="4016160"/>
              <a:ext cx="229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863240" y="4302360"/>
              <a:ext cx="91800" cy="142560"/>
            </a:xfrm>
            <a:prstGeom prst="flowChar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909320" y="415908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Book Antiqua"/>
              </a:rPr>
              <a:t>Control Multivari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84040" y="2112840"/>
            <a:ext cx="3856320" cy="41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control multivariable, y en particular el MPC, tiene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enta la interacción entre 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, sus restriccion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 perturbaciones, etc. 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mite realizar un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iciente de forma automáti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riendo las puertas a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ción de su punt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4818240" y="5087880"/>
            <a:ext cx="182520" cy="286920"/>
            <a:chOff x="4818240" y="5087880"/>
            <a:chExt cx="182520" cy="286920"/>
          </a:xfrm>
        </p:grpSpPr>
        <p:sp>
          <p:nvSpPr>
            <p:cNvPr id="369" name=""/>
            <p:cNvSpPr/>
            <p:nvPr/>
          </p:nvSpPr>
          <p:spPr>
            <a:xfrm>
              <a:off x="4839480" y="5260320"/>
              <a:ext cx="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4841280" y="5255280"/>
              <a:ext cx="135720" cy="11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841280" y="5260320"/>
              <a:ext cx="13572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79520" y="5260320"/>
              <a:ext cx="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4909320" y="5169240"/>
              <a:ext cx="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818240" y="5087880"/>
              <a:ext cx="182520" cy="81360"/>
            </a:xfrm>
            <a:prstGeom prst="ellipse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5689440" y="2157480"/>
            <a:ext cx="459000" cy="3217680"/>
          </a:xfrm>
          <a:custGeom>
            <a:avLst/>
            <a:gdLst>
              <a:gd name="textAreaLeft" fmla="*/ 22320 w 459000"/>
              <a:gd name="textAreaRight" fmla="*/ 436680 w 459000"/>
              <a:gd name="textAreaTop" fmla="*/ 22320 h 3217680"/>
              <a:gd name="textAreaBottom" fmla="*/ 3195360 h 3217680"/>
            </a:gdLst>
            <a:ahLst/>
            <a:rect l="textAreaLeft" t="textAreaTop" r="textAreaRight" b="textAreaBottom"/>
            <a:pathLst>
              <a:path w="21600" h="151318">
                <a:moveTo>
                  <a:pt x="3600" y="0"/>
                </a:moveTo>
                <a:arcTo wR="3600" hR="3600" stAng="16200000" swAng="-5400000"/>
                <a:lnTo>
                  <a:pt x="0" y="147718"/>
                </a:lnTo>
                <a:arcTo wR="3600" hR="3600" stAng="10800000" swAng="-5400000"/>
                <a:lnTo>
                  <a:pt x="18000" y="1513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4267080" y="3724200"/>
            <a:ext cx="1414440" cy="6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5186520" y="5160960"/>
            <a:ext cx="274320" cy="430200"/>
          </a:xfrm>
          <a:prstGeom prst="ellipse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5276880" y="5305320"/>
            <a:ext cx="92160" cy="7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276880" y="5376960"/>
            <a:ext cx="9216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4976640" y="5303880"/>
            <a:ext cx="3924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5322960" y="55908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5000400" y="544680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918040" y="5375160"/>
            <a:ext cx="0" cy="532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5689080" y="494496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5827320" y="451656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5689080" y="408780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5827320" y="365904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5689080" y="323064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5827320" y="280188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322960" y="5732640"/>
            <a:ext cx="595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873760" y="5875200"/>
            <a:ext cx="182160" cy="285840"/>
            <a:chOff x="5873760" y="5875200"/>
            <a:chExt cx="182160" cy="285840"/>
          </a:xfrm>
        </p:grpSpPr>
        <p:sp>
          <p:nvSpPr>
            <p:cNvPr id="392" name=""/>
            <p:cNvSpPr/>
            <p:nvPr/>
          </p:nvSpPr>
          <p:spPr>
            <a:xfrm flipH="1">
              <a:off x="5876640" y="5908320"/>
              <a:ext cx="6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873760" y="5911560"/>
              <a:ext cx="7596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5876640" y="5911560"/>
              <a:ext cx="6984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5876640" y="6127560"/>
              <a:ext cx="6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910120" y="6018120"/>
              <a:ext cx="94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5400000">
              <a:off x="5887080" y="5992200"/>
              <a:ext cx="285840" cy="51480"/>
            </a:xfrm>
            <a:prstGeom prst="ellipse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5918040" y="6126120"/>
            <a:ext cx="0" cy="249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286680" y="5875200"/>
            <a:ext cx="174600" cy="2732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286680" y="5160960"/>
            <a:ext cx="174600" cy="2728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6148440" y="5303880"/>
            <a:ext cx="138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377040" y="5446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6056280" y="6018120"/>
            <a:ext cx="23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6468840" y="6018120"/>
            <a:ext cx="137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697360" y="5170320"/>
            <a:ext cx="446400" cy="52560"/>
          </a:xfrm>
          <a:custGeom>
            <a:avLst/>
            <a:gdLst/>
            <a:ahLst/>
            <a:rect l="l" t="t" r="r" b="b"/>
            <a:pathLst>
              <a:path w="467" h="35">
                <a:moveTo>
                  <a:pt x="0" y="11"/>
                </a:moveTo>
                <a:cubicBezTo>
                  <a:pt x="98" y="0"/>
                  <a:pt x="78" y="8"/>
                  <a:pt x="155" y="35"/>
                </a:cubicBezTo>
                <a:cubicBezTo>
                  <a:pt x="187" y="14"/>
                  <a:pt x="195" y="9"/>
                  <a:pt x="233" y="19"/>
                </a:cubicBezTo>
                <a:cubicBezTo>
                  <a:pt x="256" y="16"/>
                  <a:pt x="339" y="3"/>
                  <a:pt x="358" y="3"/>
                </a:cubicBezTo>
                <a:cubicBezTo>
                  <a:pt x="377" y="3"/>
                  <a:pt x="394" y="17"/>
                  <a:pt x="413" y="19"/>
                </a:cubicBezTo>
                <a:cubicBezTo>
                  <a:pt x="431" y="21"/>
                  <a:pt x="449" y="19"/>
                  <a:pt x="467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5322960" y="50162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322960" y="5016600"/>
            <a:ext cx="366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51400" y="5303880"/>
            <a:ext cx="387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00760" y="54468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51400" y="4672080"/>
            <a:ext cx="174600" cy="272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16440" y="4659480"/>
            <a:ext cx="176400" cy="274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4541760" y="494460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633920" y="4802040"/>
            <a:ext cx="184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910040" y="49449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00680" y="4416480"/>
            <a:ext cx="3240" cy="243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6154200" y="2462040"/>
            <a:ext cx="412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340760" y="2658960"/>
            <a:ext cx="642600" cy="50004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6886440" y="3488040"/>
            <a:ext cx="182520" cy="285480"/>
            <a:chOff x="6886440" y="3488040"/>
            <a:chExt cx="182520" cy="285480"/>
          </a:xfrm>
        </p:grpSpPr>
        <p:sp>
          <p:nvSpPr>
            <p:cNvPr id="419" name=""/>
            <p:cNvSpPr/>
            <p:nvPr/>
          </p:nvSpPr>
          <p:spPr>
            <a:xfrm flipV="1">
              <a:off x="6907680" y="3492720"/>
              <a:ext cx="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09480" y="3488040"/>
              <a:ext cx="13572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6909480" y="3492720"/>
              <a:ext cx="13572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7047720" y="3492720"/>
              <a:ext cx="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977520" y="3544920"/>
              <a:ext cx="0" cy="1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6886440" y="3692160"/>
              <a:ext cx="182520" cy="81000"/>
            </a:xfrm>
            <a:prstGeom prst="ellipse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 flipV="1">
            <a:off x="5918040" y="1871640"/>
            <a:ext cx="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918040" y="1871640"/>
            <a:ext cx="1514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32560" y="1514520"/>
            <a:ext cx="451080" cy="64296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7709040" y="1371600"/>
            <a:ext cx="274320" cy="35712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709040" y="1728720"/>
            <a:ext cx="0" cy="14292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570800" y="1889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7570800" y="1728360"/>
            <a:ext cx="138240" cy="14292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570800" y="1728720"/>
            <a:ext cx="0" cy="16056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6914520" y="2130480"/>
            <a:ext cx="281520" cy="327600"/>
            <a:chOff x="6914520" y="2130480"/>
            <a:chExt cx="281520" cy="327600"/>
          </a:xfrm>
        </p:grpSpPr>
        <p:sp>
          <p:nvSpPr>
            <p:cNvPr id="434" name=""/>
            <p:cNvSpPr/>
            <p:nvPr/>
          </p:nvSpPr>
          <p:spPr>
            <a:xfrm>
              <a:off x="7018920" y="2360520"/>
              <a:ext cx="5508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078320" y="2286360"/>
              <a:ext cx="58320" cy="17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20720" y="2359440"/>
              <a:ext cx="173520" cy="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0960" y="2289600"/>
              <a:ext cx="5508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flipV="1">
              <a:off x="7034760" y="2246760"/>
              <a:ext cx="74160" cy="12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19791000">
              <a:off x="6922080" y="2171160"/>
              <a:ext cx="183960" cy="81000"/>
            </a:xfrm>
            <a:prstGeom prst="ellipse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6286680" y="2014560"/>
            <a:ext cx="174600" cy="2746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607080" y="2014560"/>
            <a:ext cx="176400" cy="2746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102360" y="2157480"/>
            <a:ext cx="18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469200" y="2157480"/>
            <a:ext cx="137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791400" y="2157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7157880" y="1871280"/>
            <a:ext cx="412920" cy="42876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62960" y="2157480"/>
            <a:ext cx="0" cy="501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62960" y="3159000"/>
            <a:ext cx="0" cy="35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8396280" y="3301920"/>
            <a:ext cx="184320" cy="285480"/>
            <a:chOff x="8396280" y="3301920"/>
            <a:chExt cx="184320" cy="285480"/>
          </a:xfrm>
        </p:grpSpPr>
        <p:sp>
          <p:nvSpPr>
            <p:cNvPr id="449" name=""/>
            <p:cNvSpPr/>
            <p:nvPr/>
          </p:nvSpPr>
          <p:spPr>
            <a:xfrm>
              <a:off x="8417520" y="3473280"/>
              <a:ext cx="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8419680" y="3468240"/>
              <a:ext cx="13716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419680" y="3473280"/>
              <a:ext cx="13716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559000" y="3473280"/>
              <a:ext cx="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8488440" y="3382920"/>
              <a:ext cx="0" cy="1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396280" y="3301920"/>
              <a:ext cx="184320" cy="81000"/>
            </a:xfrm>
            <a:prstGeom prst="ellipse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8075520" y="2873520"/>
            <a:ext cx="176400" cy="2728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396280" y="2873520"/>
            <a:ext cx="176400" cy="2728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580600" y="3516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068960" y="3535200"/>
            <a:ext cx="1347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983360" y="3016080"/>
            <a:ext cx="9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258040" y="3016080"/>
            <a:ext cx="138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488440" y="31590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488440" y="2658960"/>
            <a:ext cx="0" cy="21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517600" y="3715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350120" y="2874960"/>
            <a:ext cx="625320" cy="69840"/>
          </a:xfrm>
          <a:custGeom>
            <a:avLst/>
            <a:gdLst/>
            <a:ahLst/>
            <a:rect l="l" t="t" r="r" b="b"/>
            <a:pathLst>
              <a:path w="654" h="47">
                <a:moveTo>
                  <a:pt x="0" y="10"/>
                </a:moveTo>
                <a:cubicBezTo>
                  <a:pt x="52" y="28"/>
                  <a:pt x="118" y="10"/>
                  <a:pt x="179" y="18"/>
                </a:cubicBezTo>
                <a:cubicBezTo>
                  <a:pt x="238" y="39"/>
                  <a:pt x="169" y="18"/>
                  <a:pt x="296" y="18"/>
                </a:cubicBezTo>
                <a:cubicBezTo>
                  <a:pt x="332" y="18"/>
                  <a:pt x="369" y="23"/>
                  <a:pt x="405" y="26"/>
                </a:cubicBezTo>
                <a:cubicBezTo>
                  <a:pt x="474" y="47"/>
                  <a:pt x="521" y="7"/>
                  <a:pt x="584" y="2"/>
                </a:cubicBezTo>
                <a:cubicBezTo>
                  <a:pt x="607" y="0"/>
                  <a:pt x="631" y="2"/>
                  <a:pt x="654" y="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6881760" y="2443320"/>
            <a:ext cx="138240" cy="142560"/>
          </a:xfrm>
          <a:prstGeom prst="line">
            <a:avLst/>
          </a:prstGeom>
          <a:ln w="28440">
            <a:solidFill>
              <a:srgbClr val="00e4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568920" y="2473200"/>
            <a:ext cx="0" cy="107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6567120" y="3549600"/>
            <a:ext cx="32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91480" y="3911760"/>
            <a:ext cx="176040" cy="274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242120" y="3935520"/>
            <a:ext cx="176400" cy="274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327800" y="354024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7059600" y="406080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6970680" y="3760920"/>
            <a:ext cx="7920" cy="14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245560" y="3197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358240" y="5083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525000" y="2904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00800" y="4883040"/>
            <a:ext cx="176040" cy="27468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6576480" y="5045040"/>
            <a:ext cx="716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4917600" y="4417920"/>
            <a:ext cx="2691000" cy="9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243480" y="2552760"/>
            <a:ext cx="176400" cy="27468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6151320" y="2692440"/>
            <a:ext cx="9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324480" y="2819520"/>
            <a:ext cx="0" cy="1858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6699240" y="23000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405320" y="3873600"/>
            <a:ext cx="174600" cy="2746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4497480" y="37303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587840" y="4016520"/>
            <a:ext cx="1633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315200" y="4572000"/>
            <a:ext cx="106668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6315120" y="4667400"/>
            <a:ext cx="97776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6156360" y="5029200"/>
            <a:ext cx="23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8186760" y="4307040"/>
            <a:ext cx="0" cy="2649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6985080" y="4307040"/>
            <a:ext cx="12016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6975360" y="4199040"/>
            <a:ext cx="0" cy="108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7612200" y="4422600"/>
            <a:ext cx="1440" cy="1382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8378640" y="4699080"/>
            <a:ext cx="371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8367480" y="4986360"/>
            <a:ext cx="41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208560" y="4019400"/>
            <a:ext cx="0" cy="82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208560" y="4848120"/>
            <a:ext cx="1086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rol y optim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0" name=""/>
          <p:cNvSpPr/>
          <p:nvPr/>
        </p:nvSpPr>
        <p:spPr>
          <a:xfrm>
            <a:off x="4724280" y="22161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676520" y="2584440"/>
            <a:ext cx="2896920" cy="1096920"/>
          </a:xfrm>
          <a:custGeom>
            <a:avLst/>
            <a:gdLst/>
            <a:ahLst/>
            <a:rect l="l" t="t" r="r" b="b"/>
            <a:pathLst>
              <a:path w="1825" h="691">
                <a:moveTo>
                  <a:pt x="0" y="580"/>
                </a:moveTo>
                <a:lnTo>
                  <a:pt x="24" y="532"/>
                </a:lnTo>
                <a:lnTo>
                  <a:pt x="35" y="498"/>
                </a:lnTo>
                <a:lnTo>
                  <a:pt x="35" y="464"/>
                </a:lnTo>
                <a:lnTo>
                  <a:pt x="57" y="430"/>
                </a:lnTo>
                <a:lnTo>
                  <a:pt x="80" y="396"/>
                </a:lnTo>
                <a:lnTo>
                  <a:pt x="103" y="441"/>
                </a:lnTo>
                <a:lnTo>
                  <a:pt x="103" y="475"/>
                </a:lnTo>
                <a:lnTo>
                  <a:pt x="103" y="509"/>
                </a:lnTo>
                <a:lnTo>
                  <a:pt x="125" y="543"/>
                </a:lnTo>
                <a:lnTo>
                  <a:pt x="159" y="577"/>
                </a:lnTo>
                <a:lnTo>
                  <a:pt x="193" y="566"/>
                </a:lnTo>
                <a:lnTo>
                  <a:pt x="216" y="532"/>
                </a:lnTo>
                <a:lnTo>
                  <a:pt x="227" y="498"/>
                </a:lnTo>
                <a:lnTo>
                  <a:pt x="273" y="532"/>
                </a:lnTo>
                <a:lnTo>
                  <a:pt x="273" y="498"/>
                </a:lnTo>
                <a:lnTo>
                  <a:pt x="284" y="464"/>
                </a:lnTo>
                <a:lnTo>
                  <a:pt x="284" y="430"/>
                </a:lnTo>
                <a:lnTo>
                  <a:pt x="295" y="396"/>
                </a:lnTo>
                <a:lnTo>
                  <a:pt x="295" y="362"/>
                </a:lnTo>
                <a:lnTo>
                  <a:pt x="307" y="328"/>
                </a:lnTo>
                <a:lnTo>
                  <a:pt x="318" y="238"/>
                </a:lnTo>
                <a:lnTo>
                  <a:pt x="329" y="204"/>
                </a:lnTo>
                <a:lnTo>
                  <a:pt x="341" y="170"/>
                </a:lnTo>
                <a:lnTo>
                  <a:pt x="375" y="147"/>
                </a:lnTo>
                <a:lnTo>
                  <a:pt x="375" y="215"/>
                </a:lnTo>
                <a:lnTo>
                  <a:pt x="397" y="294"/>
                </a:lnTo>
                <a:lnTo>
                  <a:pt x="409" y="340"/>
                </a:lnTo>
                <a:lnTo>
                  <a:pt x="409" y="374"/>
                </a:lnTo>
                <a:lnTo>
                  <a:pt x="409" y="407"/>
                </a:lnTo>
                <a:lnTo>
                  <a:pt x="431" y="475"/>
                </a:lnTo>
                <a:lnTo>
                  <a:pt x="443" y="509"/>
                </a:lnTo>
                <a:lnTo>
                  <a:pt x="454" y="543"/>
                </a:lnTo>
                <a:lnTo>
                  <a:pt x="465" y="577"/>
                </a:lnTo>
                <a:lnTo>
                  <a:pt x="476" y="657"/>
                </a:lnTo>
                <a:lnTo>
                  <a:pt x="510" y="623"/>
                </a:lnTo>
                <a:lnTo>
                  <a:pt x="522" y="589"/>
                </a:lnTo>
                <a:lnTo>
                  <a:pt x="533" y="555"/>
                </a:lnTo>
                <a:lnTo>
                  <a:pt x="556" y="589"/>
                </a:lnTo>
                <a:lnTo>
                  <a:pt x="590" y="555"/>
                </a:lnTo>
                <a:lnTo>
                  <a:pt x="601" y="521"/>
                </a:lnTo>
                <a:lnTo>
                  <a:pt x="601" y="475"/>
                </a:lnTo>
                <a:lnTo>
                  <a:pt x="601" y="396"/>
                </a:lnTo>
                <a:lnTo>
                  <a:pt x="612" y="362"/>
                </a:lnTo>
                <a:lnTo>
                  <a:pt x="624" y="317"/>
                </a:lnTo>
                <a:lnTo>
                  <a:pt x="635" y="283"/>
                </a:lnTo>
                <a:lnTo>
                  <a:pt x="646" y="249"/>
                </a:lnTo>
                <a:lnTo>
                  <a:pt x="646" y="215"/>
                </a:lnTo>
                <a:lnTo>
                  <a:pt x="646" y="181"/>
                </a:lnTo>
                <a:lnTo>
                  <a:pt x="646" y="147"/>
                </a:lnTo>
                <a:lnTo>
                  <a:pt x="646" y="113"/>
                </a:lnTo>
                <a:lnTo>
                  <a:pt x="646" y="68"/>
                </a:lnTo>
                <a:lnTo>
                  <a:pt x="658" y="34"/>
                </a:lnTo>
                <a:lnTo>
                  <a:pt x="680" y="0"/>
                </a:lnTo>
                <a:lnTo>
                  <a:pt x="714" y="0"/>
                </a:lnTo>
                <a:lnTo>
                  <a:pt x="737" y="34"/>
                </a:lnTo>
                <a:lnTo>
                  <a:pt x="771" y="57"/>
                </a:lnTo>
                <a:lnTo>
                  <a:pt x="805" y="91"/>
                </a:lnTo>
                <a:lnTo>
                  <a:pt x="839" y="125"/>
                </a:lnTo>
                <a:lnTo>
                  <a:pt x="850" y="192"/>
                </a:lnTo>
                <a:lnTo>
                  <a:pt x="884" y="226"/>
                </a:lnTo>
                <a:lnTo>
                  <a:pt x="895" y="260"/>
                </a:lnTo>
                <a:lnTo>
                  <a:pt x="895" y="294"/>
                </a:lnTo>
                <a:lnTo>
                  <a:pt x="884" y="385"/>
                </a:lnTo>
                <a:lnTo>
                  <a:pt x="884" y="453"/>
                </a:lnTo>
                <a:lnTo>
                  <a:pt x="884" y="487"/>
                </a:lnTo>
                <a:lnTo>
                  <a:pt x="918" y="521"/>
                </a:lnTo>
                <a:lnTo>
                  <a:pt x="941" y="555"/>
                </a:lnTo>
                <a:lnTo>
                  <a:pt x="963" y="600"/>
                </a:lnTo>
                <a:lnTo>
                  <a:pt x="975" y="566"/>
                </a:lnTo>
                <a:lnTo>
                  <a:pt x="986" y="532"/>
                </a:lnTo>
                <a:lnTo>
                  <a:pt x="1020" y="453"/>
                </a:lnTo>
                <a:lnTo>
                  <a:pt x="1031" y="407"/>
                </a:lnTo>
                <a:lnTo>
                  <a:pt x="1043" y="374"/>
                </a:lnTo>
                <a:lnTo>
                  <a:pt x="1054" y="340"/>
                </a:lnTo>
                <a:lnTo>
                  <a:pt x="1054" y="306"/>
                </a:lnTo>
                <a:lnTo>
                  <a:pt x="1065" y="260"/>
                </a:lnTo>
                <a:lnTo>
                  <a:pt x="1077" y="226"/>
                </a:lnTo>
                <a:lnTo>
                  <a:pt x="1088" y="192"/>
                </a:lnTo>
                <a:lnTo>
                  <a:pt x="1088" y="158"/>
                </a:lnTo>
                <a:lnTo>
                  <a:pt x="1099" y="125"/>
                </a:lnTo>
                <a:lnTo>
                  <a:pt x="1111" y="91"/>
                </a:lnTo>
                <a:lnTo>
                  <a:pt x="1133" y="136"/>
                </a:lnTo>
                <a:lnTo>
                  <a:pt x="1145" y="249"/>
                </a:lnTo>
                <a:lnTo>
                  <a:pt x="1145" y="317"/>
                </a:lnTo>
                <a:lnTo>
                  <a:pt x="1156" y="453"/>
                </a:lnTo>
                <a:lnTo>
                  <a:pt x="1190" y="487"/>
                </a:lnTo>
                <a:lnTo>
                  <a:pt x="1201" y="577"/>
                </a:lnTo>
                <a:lnTo>
                  <a:pt x="1224" y="690"/>
                </a:lnTo>
                <a:lnTo>
                  <a:pt x="1246" y="600"/>
                </a:lnTo>
                <a:lnTo>
                  <a:pt x="1269" y="532"/>
                </a:lnTo>
                <a:lnTo>
                  <a:pt x="1269" y="577"/>
                </a:lnTo>
                <a:lnTo>
                  <a:pt x="1303" y="543"/>
                </a:lnTo>
                <a:lnTo>
                  <a:pt x="1314" y="577"/>
                </a:lnTo>
                <a:lnTo>
                  <a:pt x="1326" y="543"/>
                </a:lnTo>
                <a:lnTo>
                  <a:pt x="1337" y="509"/>
                </a:lnTo>
                <a:lnTo>
                  <a:pt x="1371" y="611"/>
                </a:lnTo>
                <a:lnTo>
                  <a:pt x="1405" y="600"/>
                </a:lnTo>
                <a:lnTo>
                  <a:pt x="1416" y="566"/>
                </a:lnTo>
                <a:lnTo>
                  <a:pt x="1428" y="475"/>
                </a:lnTo>
                <a:lnTo>
                  <a:pt x="1439" y="441"/>
                </a:lnTo>
                <a:lnTo>
                  <a:pt x="1439" y="407"/>
                </a:lnTo>
                <a:lnTo>
                  <a:pt x="1439" y="362"/>
                </a:lnTo>
                <a:lnTo>
                  <a:pt x="1439" y="328"/>
                </a:lnTo>
                <a:lnTo>
                  <a:pt x="1439" y="294"/>
                </a:lnTo>
                <a:lnTo>
                  <a:pt x="1450" y="215"/>
                </a:lnTo>
                <a:lnTo>
                  <a:pt x="1462" y="147"/>
                </a:lnTo>
                <a:lnTo>
                  <a:pt x="1473" y="113"/>
                </a:lnTo>
                <a:lnTo>
                  <a:pt x="1507" y="147"/>
                </a:lnTo>
                <a:lnTo>
                  <a:pt x="1552" y="260"/>
                </a:lnTo>
                <a:lnTo>
                  <a:pt x="1620" y="328"/>
                </a:lnTo>
                <a:lnTo>
                  <a:pt x="1688" y="419"/>
                </a:lnTo>
                <a:lnTo>
                  <a:pt x="1711" y="385"/>
                </a:lnTo>
                <a:lnTo>
                  <a:pt x="1722" y="351"/>
                </a:lnTo>
                <a:lnTo>
                  <a:pt x="1756" y="340"/>
                </a:lnTo>
                <a:lnTo>
                  <a:pt x="1790" y="362"/>
                </a:lnTo>
                <a:lnTo>
                  <a:pt x="1824" y="396"/>
                </a:lnTo>
                <a:lnTo>
                  <a:pt x="1824" y="38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073160" y="3200400"/>
            <a:ext cx="364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682640" y="2590920"/>
            <a:ext cx="5931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82640" y="3809880"/>
            <a:ext cx="5931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710240" y="2571840"/>
            <a:ext cx="2976480" cy="199800"/>
          </a:xfrm>
          <a:custGeom>
            <a:avLst/>
            <a:gdLst/>
            <a:ahLst/>
            <a:rect l="l" t="t" r="r" b="b"/>
            <a:pathLst>
              <a:path w="1875" h="126">
                <a:moveTo>
                  <a:pt x="0" y="89"/>
                </a:moveTo>
                <a:lnTo>
                  <a:pt x="51" y="68"/>
                </a:lnTo>
                <a:lnTo>
                  <a:pt x="85" y="57"/>
                </a:lnTo>
                <a:lnTo>
                  <a:pt x="130" y="23"/>
                </a:lnTo>
                <a:lnTo>
                  <a:pt x="164" y="12"/>
                </a:lnTo>
                <a:lnTo>
                  <a:pt x="187" y="46"/>
                </a:lnTo>
                <a:lnTo>
                  <a:pt x="221" y="80"/>
                </a:lnTo>
                <a:lnTo>
                  <a:pt x="255" y="91"/>
                </a:lnTo>
                <a:lnTo>
                  <a:pt x="289" y="80"/>
                </a:lnTo>
                <a:lnTo>
                  <a:pt x="323" y="80"/>
                </a:lnTo>
                <a:lnTo>
                  <a:pt x="346" y="114"/>
                </a:lnTo>
                <a:lnTo>
                  <a:pt x="380" y="102"/>
                </a:lnTo>
                <a:lnTo>
                  <a:pt x="414" y="91"/>
                </a:lnTo>
                <a:lnTo>
                  <a:pt x="436" y="57"/>
                </a:lnTo>
                <a:lnTo>
                  <a:pt x="470" y="23"/>
                </a:lnTo>
                <a:lnTo>
                  <a:pt x="504" y="12"/>
                </a:lnTo>
                <a:lnTo>
                  <a:pt x="538" y="34"/>
                </a:lnTo>
                <a:lnTo>
                  <a:pt x="572" y="57"/>
                </a:lnTo>
                <a:lnTo>
                  <a:pt x="606" y="68"/>
                </a:lnTo>
                <a:lnTo>
                  <a:pt x="651" y="57"/>
                </a:lnTo>
                <a:lnTo>
                  <a:pt x="685" y="34"/>
                </a:lnTo>
                <a:lnTo>
                  <a:pt x="719" y="23"/>
                </a:lnTo>
                <a:lnTo>
                  <a:pt x="753" y="12"/>
                </a:lnTo>
                <a:lnTo>
                  <a:pt x="787" y="0"/>
                </a:lnTo>
                <a:lnTo>
                  <a:pt x="821" y="23"/>
                </a:lnTo>
                <a:lnTo>
                  <a:pt x="855" y="57"/>
                </a:lnTo>
                <a:lnTo>
                  <a:pt x="878" y="91"/>
                </a:lnTo>
                <a:lnTo>
                  <a:pt x="912" y="102"/>
                </a:lnTo>
                <a:lnTo>
                  <a:pt x="946" y="102"/>
                </a:lnTo>
                <a:lnTo>
                  <a:pt x="980" y="102"/>
                </a:lnTo>
                <a:lnTo>
                  <a:pt x="1014" y="91"/>
                </a:lnTo>
                <a:lnTo>
                  <a:pt x="1048" y="125"/>
                </a:lnTo>
                <a:lnTo>
                  <a:pt x="1082" y="114"/>
                </a:lnTo>
                <a:lnTo>
                  <a:pt x="1116" y="91"/>
                </a:lnTo>
                <a:lnTo>
                  <a:pt x="1150" y="80"/>
                </a:lnTo>
                <a:lnTo>
                  <a:pt x="1184" y="57"/>
                </a:lnTo>
                <a:lnTo>
                  <a:pt x="1206" y="91"/>
                </a:lnTo>
                <a:lnTo>
                  <a:pt x="1240" y="68"/>
                </a:lnTo>
                <a:lnTo>
                  <a:pt x="1274" y="57"/>
                </a:lnTo>
                <a:lnTo>
                  <a:pt x="1308" y="57"/>
                </a:lnTo>
                <a:lnTo>
                  <a:pt x="1342" y="46"/>
                </a:lnTo>
                <a:lnTo>
                  <a:pt x="1365" y="12"/>
                </a:lnTo>
                <a:lnTo>
                  <a:pt x="1399" y="0"/>
                </a:lnTo>
                <a:lnTo>
                  <a:pt x="1489" y="46"/>
                </a:lnTo>
                <a:lnTo>
                  <a:pt x="1523" y="68"/>
                </a:lnTo>
                <a:lnTo>
                  <a:pt x="1557" y="57"/>
                </a:lnTo>
                <a:lnTo>
                  <a:pt x="1591" y="68"/>
                </a:lnTo>
                <a:lnTo>
                  <a:pt x="1625" y="91"/>
                </a:lnTo>
                <a:lnTo>
                  <a:pt x="1671" y="80"/>
                </a:lnTo>
                <a:lnTo>
                  <a:pt x="1704" y="68"/>
                </a:lnTo>
                <a:lnTo>
                  <a:pt x="1738" y="57"/>
                </a:lnTo>
                <a:lnTo>
                  <a:pt x="1772" y="46"/>
                </a:lnTo>
                <a:lnTo>
                  <a:pt x="1806" y="57"/>
                </a:lnTo>
                <a:lnTo>
                  <a:pt x="1840" y="80"/>
                </a:lnTo>
                <a:lnTo>
                  <a:pt x="1874" y="68"/>
                </a:lnTo>
                <a:lnTo>
                  <a:pt x="1872" y="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716360" y="2637000"/>
            <a:ext cx="3264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682640" y="4495680"/>
            <a:ext cx="615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527240" y="4476600"/>
            <a:ext cx="1030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41720" y="2951280"/>
            <a:ext cx="521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041320" y="2389320"/>
            <a:ext cx="521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809720" y="2114640"/>
            <a:ext cx="197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ímite sup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979920" y="4856040"/>
            <a:ext cx="74869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reducción de varianza permite mover la 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respetar los límites de la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mejora del control permite la optim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"/>
          <p:cNvGrpSpPr/>
          <p:nvPr/>
        </p:nvGrpSpPr>
        <p:grpSpPr>
          <a:xfrm>
            <a:off x="5157720" y="4724280"/>
            <a:ext cx="3299040" cy="1906560"/>
            <a:chOff x="5157720" y="4724280"/>
            <a:chExt cx="3299040" cy="1906560"/>
          </a:xfrm>
        </p:grpSpPr>
        <p:sp>
          <p:nvSpPr>
            <p:cNvPr id="514" name=""/>
            <p:cNvSpPr/>
            <p:nvPr/>
          </p:nvSpPr>
          <p:spPr>
            <a:xfrm>
              <a:off x="5157720" y="4761000"/>
              <a:ext cx="1800" cy="15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157720" y="6310440"/>
              <a:ext cx="3299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399520" y="4867200"/>
              <a:ext cx="1440" cy="17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864480" y="5081760"/>
              <a:ext cx="1440" cy="117468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637320" y="5342040"/>
              <a:ext cx="1776600" cy="974520"/>
            </a:xfrm>
            <a:custGeom>
              <a:avLst/>
              <a:gdLst/>
              <a:ahLst/>
              <a:rect l="l" t="t" r="r" b="b"/>
              <a:pathLst>
                <a:path w="2239" h="1228">
                  <a:moveTo>
                    <a:pt x="0" y="1219"/>
                  </a:moveTo>
                  <a:lnTo>
                    <a:pt x="36" y="1194"/>
                  </a:lnTo>
                  <a:lnTo>
                    <a:pt x="54" y="1194"/>
                  </a:lnTo>
                  <a:lnTo>
                    <a:pt x="72" y="1194"/>
                  </a:lnTo>
                  <a:lnTo>
                    <a:pt x="90" y="1194"/>
                  </a:lnTo>
                  <a:lnTo>
                    <a:pt x="108" y="1177"/>
                  </a:lnTo>
                  <a:lnTo>
                    <a:pt x="125" y="1177"/>
                  </a:lnTo>
                  <a:lnTo>
                    <a:pt x="161" y="1144"/>
                  </a:lnTo>
                  <a:lnTo>
                    <a:pt x="179" y="1144"/>
                  </a:lnTo>
                  <a:lnTo>
                    <a:pt x="197" y="1127"/>
                  </a:lnTo>
                  <a:lnTo>
                    <a:pt x="215" y="1127"/>
                  </a:lnTo>
                  <a:lnTo>
                    <a:pt x="215" y="1110"/>
                  </a:lnTo>
                  <a:lnTo>
                    <a:pt x="233" y="1093"/>
                  </a:lnTo>
                  <a:lnTo>
                    <a:pt x="251" y="1076"/>
                  </a:lnTo>
                  <a:lnTo>
                    <a:pt x="269" y="1076"/>
                  </a:lnTo>
                  <a:lnTo>
                    <a:pt x="269" y="1060"/>
                  </a:lnTo>
                  <a:lnTo>
                    <a:pt x="287" y="1043"/>
                  </a:lnTo>
                  <a:lnTo>
                    <a:pt x="305" y="1026"/>
                  </a:lnTo>
                  <a:lnTo>
                    <a:pt x="322" y="1026"/>
                  </a:lnTo>
                  <a:lnTo>
                    <a:pt x="322" y="1009"/>
                  </a:lnTo>
                  <a:lnTo>
                    <a:pt x="340" y="1009"/>
                  </a:lnTo>
                  <a:lnTo>
                    <a:pt x="358" y="1009"/>
                  </a:lnTo>
                  <a:lnTo>
                    <a:pt x="376" y="992"/>
                  </a:lnTo>
                  <a:lnTo>
                    <a:pt x="376" y="976"/>
                  </a:lnTo>
                  <a:lnTo>
                    <a:pt x="394" y="976"/>
                  </a:lnTo>
                  <a:lnTo>
                    <a:pt x="412" y="959"/>
                  </a:lnTo>
                  <a:lnTo>
                    <a:pt x="430" y="942"/>
                  </a:lnTo>
                  <a:lnTo>
                    <a:pt x="448" y="942"/>
                  </a:lnTo>
                  <a:lnTo>
                    <a:pt x="448" y="925"/>
                  </a:lnTo>
                  <a:lnTo>
                    <a:pt x="484" y="891"/>
                  </a:lnTo>
                  <a:lnTo>
                    <a:pt x="520" y="875"/>
                  </a:lnTo>
                  <a:lnTo>
                    <a:pt x="537" y="858"/>
                  </a:lnTo>
                  <a:lnTo>
                    <a:pt x="537" y="841"/>
                  </a:lnTo>
                  <a:lnTo>
                    <a:pt x="555" y="841"/>
                  </a:lnTo>
                  <a:lnTo>
                    <a:pt x="555" y="807"/>
                  </a:lnTo>
                  <a:lnTo>
                    <a:pt x="573" y="807"/>
                  </a:lnTo>
                  <a:lnTo>
                    <a:pt x="591" y="807"/>
                  </a:lnTo>
                  <a:lnTo>
                    <a:pt x="609" y="774"/>
                  </a:lnTo>
                  <a:lnTo>
                    <a:pt x="717" y="740"/>
                  </a:lnTo>
                  <a:lnTo>
                    <a:pt x="717" y="723"/>
                  </a:lnTo>
                  <a:lnTo>
                    <a:pt x="735" y="706"/>
                  </a:lnTo>
                  <a:lnTo>
                    <a:pt x="752" y="690"/>
                  </a:lnTo>
                  <a:lnTo>
                    <a:pt x="770" y="673"/>
                  </a:lnTo>
                  <a:lnTo>
                    <a:pt x="788" y="656"/>
                  </a:lnTo>
                  <a:lnTo>
                    <a:pt x="788" y="639"/>
                  </a:lnTo>
                  <a:lnTo>
                    <a:pt x="806" y="622"/>
                  </a:lnTo>
                  <a:lnTo>
                    <a:pt x="824" y="605"/>
                  </a:lnTo>
                  <a:lnTo>
                    <a:pt x="842" y="589"/>
                  </a:lnTo>
                  <a:lnTo>
                    <a:pt x="842" y="572"/>
                  </a:lnTo>
                  <a:lnTo>
                    <a:pt x="860" y="555"/>
                  </a:lnTo>
                  <a:lnTo>
                    <a:pt x="878" y="521"/>
                  </a:lnTo>
                  <a:lnTo>
                    <a:pt x="914" y="420"/>
                  </a:lnTo>
                  <a:lnTo>
                    <a:pt x="949" y="404"/>
                  </a:lnTo>
                  <a:lnTo>
                    <a:pt x="949" y="387"/>
                  </a:lnTo>
                  <a:lnTo>
                    <a:pt x="967" y="370"/>
                  </a:lnTo>
                  <a:lnTo>
                    <a:pt x="985" y="353"/>
                  </a:lnTo>
                  <a:lnTo>
                    <a:pt x="1003" y="320"/>
                  </a:lnTo>
                  <a:lnTo>
                    <a:pt x="1003" y="303"/>
                  </a:lnTo>
                  <a:lnTo>
                    <a:pt x="1003" y="286"/>
                  </a:lnTo>
                  <a:lnTo>
                    <a:pt x="1021" y="269"/>
                  </a:lnTo>
                  <a:lnTo>
                    <a:pt x="1039" y="252"/>
                  </a:lnTo>
                  <a:lnTo>
                    <a:pt x="1057" y="235"/>
                  </a:lnTo>
                  <a:lnTo>
                    <a:pt x="1075" y="219"/>
                  </a:lnTo>
                  <a:lnTo>
                    <a:pt x="1075" y="202"/>
                  </a:lnTo>
                  <a:lnTo>
                    <a:pt x="1093" y="185"/>
                  </a:lnTo>
                  <a:lnTo>
                    <a:pt x="1129" y="151"/>
                  </a:lnTo>
                  <a:lnTo>
                    <a:pt x="1129" y="135"/>
                  </a:lnTo>
                  <a:lnTo>
                    <a:pt x="1129" y="118"/>
                  </a:lnTo>
                  <a:lnTo>
                    <a:pt x="1129" y="101"/>
                  </a:lnTo>
                  <a:lnTo>
                    <a:pt x="1147" y="84"/>
                  </a:lnTo>
                  <a:lnTo>
                    <a:pt x="1182" y="84"/>
                  </a:lnTo>
                  <a:lnTo>
                    <a:pt x="1182" y="67"/>
                  </a:lnTo>
                  <a:lnTo>
                    <a:pt x="1200" y="67"/>
                  </a:lnTo>
                  <a:lnTo>
                    <a:pt x="1200" y="50"/>
                  </a:lnTo>
                  <a:lnTo>
                    <a:pt x="1218" y="34"/>
                  </a:lnTo>
                  <a:lnTo>
                    <a:pt x="1236" y="17"/>
                  </a:lnTo>
                  <a:lnTo>
                    <a:pt x="1254" y="0"/>
                  </a:lnTo>
                  <a:lnTo>
                    <a:pt x="1272" y="17"/>
                  </a:lnTo>
                  <a:lnTo>
                    <a:pt x="1290" y="17"/>
                  </a:lnTo>
                  <a:lnTo>
                    <a:pt x="1290" y="34"/>
                  </a:lnTo>
                  <a:lnTo>
                    <a:pt x="1308" y="50"/>
                  </a:lnTo>
                  <a:lnTo>
                    <a:pt x="1326" y="67"/>
                  </a:lnTo>
                  <a:lnTo>
                    <a:pt x="1326" y="84"/>
                  </a:lnTo>
                  <a:lnTo>
                    <a:pt x="1344" y="84"/>
                  </a:lnTo>
                  <a:lnTo>
                    <a:pt x="1344" y="101"/>
                  </a:lnTo>
                  <a:lnTo>
                    <a:pt x="1362" y="118"/>
                  </a:lnTo>
                  <a:lnTo>
                    <a:pt x="1379" y="135"/>
                  </a:lnTo>
                  <a:lnTo>
                    <a:pt x="1379" y="151"/>
                  </a:lnTo>
                  <a:lnTo>
                    <a:pt x="1397" y="151"/>
                  </a:lnTo>
                  <a:lnTo>
                    <a:pt x="1415" y="168"/>
                  </a:lnTo>
                  <a:lnTo>
                    <a:pt x="1433" y="185"/>
                  </a:lnTo>
                  <a:lnTo>
                    <a:pt x="1433" y="202"/>
                  </a:lnTo>
                  <a:lnTo>
                    <a:pt x="1451" y="219"/>
                  </a:lnTo>
                  <a:lnTo>
                    <a:pt x="1469" y="235"/>
                  </a:lnTo>
                  <a:lnTo>
                    <a:pt x="1469" y="252"/>
                  </a:lnTo>
                  <a:lnTo>
                    <a:pt x="1487" y="269"/>
                  </a:lnTo>
                  <a:lnTo>
                    <a:pt x="1505" y="286"/>
                  </a:lnTo>
                  <a:lnTo>
                    <a:pt x="1505" y="303"/>
                  </a:lnTo>
                  <a:lnTo>
                    <a:pt x="1523" y="320"/>
                  </a:lnTo>
                  <a:lnTo>
                    <a:pt x="1541" y="336"/>
                  </a:lnTo>
                  <a:lnTo>
                    <a:pt x="1541" y="353"/>
                  </a:lnTo>
                  <a:lnTo>
                    <a:pt x="1559" y="370"/>
                  </a:lnTo>
                  <a:lnTo>
                    <a:pt x="1559" y="387"/>
                  </a:lnTo>
                  <a:lnTo>
                    <a:pt x="1576" y="420"/>
                  </a:lnTo>
                  <a:lnTo>
                    <a:pt x="1576" y="437"/>
                  </a:lnTo>
                  <a:lnTo>
                    <a:pt x="1594" y="471"/>
                  </a:lnTo>
                  <a:lnTo>
                    <a:pt x="1612" y="488"/>
                  </a:lnTo>
                  <a:lnTo>
                    <a:pt x="1612" y="505"/>
                  </a:lnTo>
                  <a:lnTo>
                    <a:pt x="1630" y="521"/>
                  </a:lnTo>
                  <a:lnTo>
                    <a:pt x="1648" y="538"/>
                  </a:lnTo>
                  <a:lnTo>
                    <a:pt x="1666" y="572"/>
                  </a:lnTo>
                  <a:lnTo>
                    <a:pt x="1702" y="589"/>
                  </a:lnTo>
                  <a:lnTo>
                    <a:pt x="1720" y="605"/>
                  </a:lnTo>
                  <a:lnTo>
                    <a:pt x="1720" y="622"/>
                  </a:lnTo>
                  <a:lnTo>
                    <a:pt x="1720" y="639"/>
                  </a:lnTo>
                  <a:lnTo>
                    <a:pt x="1720" y="656"/>
                  </a:lnTo>
                  <a:lnTo>
                    <a:pt x="1720" y="690"/>
                  </a:lnTo>
                  <a:lnTo>
                    <a:pt x="1720" y="723"/>
                  </a:lnTo>
                  <a:lnTo>
                    <a:pt x="1738" y="757"/>
                  </a:lnTo>
                  <a:lnTo>
                    <a:pt x="1756" y="858"/>
                  </a:lnTo>
                  <a:lnTo>
                    <a:pt x="1774" y="959"/>
                  </a:lnTo>
                  <a:lnTo>
                    <a:pt x="1791" y="992"/>
                  </a:lnTo>
                  <a:lnTo>
                    <a:pt x="1809" y="1009"/>
                  </a:lnTo>
                  <a:lnTo>
                    <a:pt x="1827" y="1026"/>
                  </a:lnTo>
                  <a:lnTo>
                    <a:pt x="1845" y="1043"/>
                  </a:lnTo>
                  <a:lnTo>
                    <a:pt x="1845" y="1060"/>
                  </a:lnTo>
                  <a:lnTo>
                    <a:pt x="1863" y="1060"/>
                  </a:lnTo>
                  <a:lnTo>
                    <a:pt x="1881" y="1076"/>
                  </a:lnTo>
                  <a:lnTo>
                    <a:pt x="1899" y="1093"/>
                  </a:lnTo>
                  <a:lnTo>
                    <a:pt x="1917" y="1093"/>
                  </a:lnTo>
                  <a:lnTo>
                    <a:pt x="1935" y="1110"/>
                  </a:lnTo>
                  <a:lnTo>
                    <a:pt x="1953" y="1110"/>
                  </a:lnTo>
                  <a:lnTo>
                    <a:pt x="1971" y="1110"/>
                  </a:lnTo>
                  <a:lnTo>
                    <a:pt x="2006" y="1127"/>
                  </a:lnTo>
                  <a:lnTo>
                    <a:pt x="2024" y="1127"/>
                  </a:lnTo>
                  <a:lnTo>
                    <a:pt x="2042" y="1127"/>
                  </a:lnTo>
                  <a:lnTo>
                    <a:pt x="2060" y="1127"/>
                  </a:lnTo>
                  <a:lnTo>
                    <a:pt x="2078" y="1144"/>
                  </a:lnTo>
                  <a:lnTo>
                    <a:pt x="2078" y="1161"/>
                  </a:lnTo>
                  <a:lnTo>
                    <a:pt x="2096" y="1161"/>
                  </a:lnTo>
                  <a:lnTo>
                    <a:pt x="2114" y="1177"/>
                  </a:lnTo>
                  <a:lnTo>
                    <a:pt x="2132" y="1177"/>
                  </a:lnTo>
                  <a:lnTo>
                    <a:pt x="2150" y="1194"/>
                  </a:lnTo>
                  <a:lnTo>
                    <a:pt x="2168" y="1194"/>
                  </a:lnTo>
                  <a:lnTo>
                    <a:pt x="2186" y="1194"/>
                  </a:lnTo>
                  <a:lnTo>
                    <a:pt x="2203" y="1194"/>
                  </a:lnTo>
                  <a:lnTo>
                    <a:pt x="2203" y="1211"/>
                  </a:lnTo>
                  <a:lnTo>
                    <a:pt x="2221" y="1211"/>
                  </a:lnTo>
                  <a:lnTo>
                    <a:pt x="2221" y="1228"/>
                  </a:lnTo>
                  <a:lnTo>
                    <a:pt x="2239" y="1211"/>
                  </a:lnTo>
                  <a:lnTo>
                    <a:pt x="2221" y="1219"/>
                  </a:lnTo>
                </a:path>
              </a:pathLst>
            </a:custGeom>
            <a:solidFill>
              <a:srgbClr val="dddddd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604280" y="5081760"/>
              <a:ext cx="1440" cy="1174680"/>
            </a:xfrm>
            <a:prstGeom prst="line">
              <a:avLst/>
            </a:prstGeom>
            <a:ln w="0">
              <a:solidFill>
                <a:srgbClr val="ff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888680" y="4724280"/>
              <a:ext cx="384840" cy="1983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limit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750360" y="6359400"/>
              <a:ext cx="189720" cy="152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W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547400" y="6359400"/>
              <a:ext cx="189720" cy="152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W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532480" y="5872320"/>
              <a:ext cx="2867040" cy="442800"/>
            </a:xfrm>
            <a:custGeom>
              <a:avLst/>
              <a:gdLst/>
              <a:ahLst/>
              <a:rect l="l" t="t" r="r" b="b"/>
              <a:pathLst>
                <a:path w="3612" h="558">
                  <a:moveTo>
                    <a:pt x="30" y="552"/>
                  </a:moveTo>
                  <a:lnTo>
                    <a:pt x="0" y="545"/>
                  </a:lnTo>
                  <a:lnTo>
                    <a:pt x="22" y="538"/>
                  </a:lnTo>
                  <a:lnTo>
                    <a:pt x="43" y="538"/>
                  </a:lnTo>
                  <a:lnTo>
                    <a:pt x="65" y="531"/>
                  </a:lnTo>
                  <a:lnTo>
                    <a:pt x="94" y="531"/>
                  </a:lnTo>
                  <a:lnTo>
                    <a:pt x="122" y="524"/>
                  </a:lnTo>
                  <a:lnTo>
                    <a:pt x="150" y="524"/>
                  </a:lnTo>
                  <a:lnTo>
                    <a:pt x="186" y="519"/>
                  </a:lnTo>
                  <a:lnTo>
                    <a:pt x="222" y="519"/>
                  </a:lnTo>
                  <a:lnTo>
                    <a:pt x="265" y="512"/>
                  </a:lnTo>
                  <a:lnTo>
                    <a:pt x="301" y="505"/>
                  </a:lnTo>
                  <a:lnTo>
                    <a:pt x="337" y="505"/>
                  </a:lnTo>
                  <a:lnTo>
                    <a:pt x="365" y="498"/>
                  </a:lnTo>
                  <a:lnTo>
                    <a:pt x="394" y="491"/>
                  </a:lnTo>
                  <a:lnTo>
                    <a:pt x="424" y="485"/>
                  </a:lnTo>
                  <a:lnTo>
                    <a:pt x="445" y="485"/>
                  </a:lnTo>
                  <a:lnTo>
                    <a:pt x="465" y="471"/>
                  </a:lnTo>
                  <a:lnTo>
                    <a:pt x="488" y="464"/>
                  </a:lnTo>
                  <a:lnTo>
                    <a:pt x="509" y="457"/>
                  </a:lnTo>
                  <a:lnTo>
                    <a:pt x="531" y="457"/>
                  </a:lnTo>
                  <a:lnTo>
                    <a:pt x="567" y="438"/>
                  </a:lnTo>
                  <a:lnTo>
                    <a:pt x="595" y="431"/>
                  </a:lnTo>
                  <a:lnTo>
                    <a:pt x="624" y="418"/>
                  </a:lnTo>
                  <a:lnTo>
                    <a:pt x="652" y="404"/>
                  </a:lnTo>
                  <a:lnTo>
                    <a:pt x="674" y="397"/>
                  </a:lnTo>
                  <a:lnTo>
                    <a:pt x="703" y="390"/>
                  </a:lnTo>
                  <a:lnTo>
                    <a:pt x="724" y="377"/>
                  </a:lnTo>
                  <a:lnTo>
                    <a:pt x="760" y="370"/>
                  </a:lnTo>
                  <a:lnTo>
                    <a:pt x="782" y="363"/>
                  </a:lnTo>
                  <a:lnTo>
                    <a:pt x="803" y="351"/>
                  </a:lnTo>
                  <a:lnTo>
                    <a:pt x="831" y="337"/>
                  </a:lnTo>
                  <a:lnTo>
                    <a:pt x="854" y="330"/>
                  </a:lnTo>
                  <a:lnTo>
                    <a:pt x="882" y="317"/>
                  </a:lnTo>
                  <a:lnTo>
                    <a:pt x="903" y="303"/>
                  </a:lnTo>
                  <a:lnTo>
                    <a:pt x="931" y="289"/>
                  </a:lnTo>
                  <a:lnTo>
                    <a:pt x="954" y="283"/>
                  </a:lnTo>
                  <a:lnTo>
                    <a:pt x="982" y="269"/>
                  </a:lnTo>
                  <a:lnTo>
                    <a:pt x="1003" y="250"/>
                  </a:lnTo>
                  <a:lnTo>
                    <a:pt x="1025" y="243"/>
                  </a:lnTo>
                  <a:lnTo>
                    <a:pt x="1046" y="236"/>
                  </a:lnTo>
                  <a:lnTo>
                    <a:pt x="1069" y="229"/>
                  </a:lnTo>
                  <a:lnTo>
                    <a:pt x="1097" y="216"/>
                  </a:lnTo>
                  <a:lnTo>
                    <a:pt x="1118" y="202"/>
                  </a:lnTo>
                  <a:lnTo>
                    <a:pt x="1140" y="188"/>
                  </a:lnTo>
                  <a:lnTo>
                    <a:pt x="1161" y="182"/>
                  </a:lnTo>
                  <a:lnTo>
                    <a:pt x="1182" y="168"/>
                  </a:lnTo>
                  <a:lnTo>
                    <a:pt x="1212" y="154"/>
                  </a:lnTo>
                  <a:lnTo>
                    <a:pt x="1240" y="142"/>
                  </a:lnTo>
                  <a:lnTo>
                    <a:pt x="1276" y="121"/>
                  </a:lnTo>
                  <a:lnTo>
                    <a:pt x="1304" y="101"/>
                  </a:lnTo>
                  <a:lnTo>
                    <a:pt x="1333" y="81"/>
                  </a:lnTo>
                  <a:lnTo>
                    <a:pt x="1355" y="67"/>
                  </a:lnTo>
                  <a:lnTo>
                    <a:pt x="1376" y="53"/>
                  </a:lnTo>
                  <a:lnTo>
                    <a:pt x="1404" y="53"/>
                  </a:lnTo>
                  <a:lnTo>
                    <a:pt x="1448" y="34"/>
                  </a:lnTo>
                  <a:lnTo>
                    <a:pt x="1484" y="20"/>
                  </a:lnTo>
                  <a:lnTo>
                    <a:pt x="1504" y="7"/>
                  </a:lnTo>
                  <a:lnTo>
                    <a:pt x="1540" y="0"/>
                  </a:lnTo>
                  <a:lnTo>
                    <a:pt x="1576" y="0"/>
                  </a:lnTo>
                  <a:lnTo>
                    <a:pt x="1612" y="0"/>
                  </a:lnTo>
                  <a:lnTo>
                    <a:pt x="1634" y="0"/>
                  </a:lnTo>
                  <a:lnTo>
                    <a:pt x="1655" y="0"/>
                  </a:lnTo>
                  <a:lnTo>
                    <a:pt x="1684" y="0"/>
                  </a:lnTo>
                  <a:lnTo>
                    <a:pt x="1719" y="0"/>
                  </a:lnTo>
                  <a:lnTo>
                    <a:pt x="1749" y="7"/>
                  </a:lnTo>
                  <a:lnTo>
                    <a:pt x="1785" y="7"/>
                  </a:lnTo>
                  <a:lnTo>
                    <a:pt x="1814" y="7"/>
                  </a:lnTo>
                  <a:lnTo>
                    <a:pt x="1842" y="0"/>
                  </a:lnTo>
                  <a:lnTo>
                    <a:pt x="1863" y="7"/>
                  </a:lnTo>
                  <a:lnTo>
                    <a:pt x="1893" y="14"/>
                  </a:lnTo>
                  <a:lnTo>
                    <a:pt x="1921" y="27"/>
                  </a:lnTo>
                  <a:lnTo>
                    <a:pt x="1964" y="48"/>
                  </a:lnTo>
                  <a:lnTo>
                    <a:pt x="2006" y="60"/>
                  </a:lnTo>
                  <a:lnTo>
                    <a:pt x="2049" y="81"/>
                  </a:lnTo>
                  <a:lnTo>
                    <a:pt x="2072" y="81"/>
                  </a:lnTo>
                  <a:lnTo>
                    <a:pt x="2114" y="108"/>
                  </a:lnTo>
                  <a:lnTo>
                    <a:pt x="2149" y="135"/>
                  </a:lnTo>
                  <a:lnTo>
                    <a:pt x="2179" y="161"/>
                  </a:lnTo>
                  <a:lnTo>
                    <a:pt x="2208" y="182"/>
                  </a:lnTo>
                  <a:lnTo>
                    <a:pt x="2236" y="195"/>
                  </a:lnTo>
                  <a:lnTo>
                    <a:pt x="2264" y="209"/>
                  </a:lnTo>
                  <a:lnTo>
                    <a:pt x="2287" y="222"/>
                  </a:lnTo>
                  <a:lnTo>
                    <a:pt x="2323" y="229"/>
                  </a:lnTo>
                  <a:lnTo>
                    <a:pt x="2364" y="250"/>
                  </a:lnTo>
                  <a:lnTo>
                    <a:pt x="2387" y="255"/>
                  </a:lnTo>
                  <a:lnTo>
                    <a:pt x="2430" y="269"/>
                  </a:lnTo>
                  <a:lnTo>
                    <a:pt x="2451" y="276"/>
                  </a:lnTo>
                  <a:lnTo>
                    <a:pt x="2472" y="283"/>
                  </a:lnTo>
                  <a:lnTo>
                    <a:pt x="2494" y="289"/>
                  </a:lnTo>
                  <a:lnTo>
                    <a:pt x="2515" y="296"/>
                  </a:lnTo>
                  <a:lnTo>
                    <a:pt x="2544" y="310"/>
                  </a:lnTo>
                  <a:lnTo>
                    <a:pt x="2573" y="323"/>
                  </a:lnTo>
                  <a:lnTo>
                    <a:pt x="2602" y="344"/>
                  </a:lnTo>
                  <a:lnTo>
                    <a:pt x="2623" y="356"/>
                  </a:lnTo>
                  <a:lnTo>
                    <a:pt x="2645" y="363"/>
                  </a:lnTo>
                  <a:lnTo>
                    <a:pt x="2681" y="384"/>
                  </a:lnTo>
                  <a:lnTo>
                    <a:pt x="2717" y="397"/>
                  </a:lnTo>
                  <a:lnTo>
                    <a:pt x="2753" y="411"/>
                  </a:lnTo>
                  <a:lnTo>
                    <a:pt x="2794" y="418"/>
                  </a:lnTo>
                  <a:lnTo>
                    <a:pt x="2830" y="431"/>
                  </a:lnTo>
                  <a:lnTo>
                    <a:pt x="2860" y="438"/>
                  </a:lnTo>
                  <a:lnTo>
                    <a:pt x="2888" y="445"/>
                  </a:lnTo>
                  <a:lnTo>
                    <a:pt x="2917" y="452"/>
                  </a:lnTo>
                  <a:lnTo>
                    <a:pt x="2960" y="464"/>
                  </a:lnTo>
                  <a:lnTo>
                    <a:pt x="2996" y="471"/>
                  </a:lnTo>
                  <a:lnTo>
                    <a:pt x="3024" y="478"/>
                  </a:lnTo>
                  <a:lnTo>
                    <a:pt x="3053" y="485"/>
                  </a:lnTo>
                  <a:lnTo>
                    <a:pt x="3088" y="498"/>
                  </a:lnTo>
                  <a:lnTo>
                    <a:pt x="3124" y="505"/>
                  </a:lnTo>
                  <a:lnTo>
                    <a:pt x="3153" y="512"/>
                  </a:lnTo>
                  <a:lnTo>
                    <a:pt x="3175" y="519"/>
                  </a:lnTo>
                  <a:lnTo>
                    <a:pt x="3196" y="524"/>
                  </a:lnTo>
                  <a:lnTo>
                    <a:pt x="3224" y="524"/>
                  </a:lnTo>
                  <a:lnTo>
                    <a:pt x="3247" y="538"/>
                  </a:lnTo>
                  <a:lnTo>
                    <a:pt x="3268" y="538"/>
                  </a:lnTo>
                  <a:lnTo>
                    <a:pt x="3311" y="552"/>
                  </a:lnTo>
                  <a:lnTo>
                    <a:pt x="3332" y="552"/>
                  </a:lnTo>
                  <a:lnTo>
                    <a:pt x="3368" y="558"/>
                  </a:lnTo>
                  <a:lnTo>
                    <a:pt x="3403" y="558"/>
                  </a:lnTo>
                  <a:lnTo>
                    <a:pt x="3433" y="558"/>
                  </a:lnTo>
                  <a:lnTo>
                    <a:pt x="3454" y="552"/>
                  </a:lnTo>
                  <a:lnTo>
                    <a:pt x="3475" y="552"/>
                  </a:lnTo>
                  <a:lnTo>
                    <a:pt x="3497" y="552"/>
                  </a:lnTo>
                  <a:lnTo>
                    <a:pt x="3526" y="552"/>
                  </a:lnTo>
                  <a:lnTo>
                    <a:pt x="3547" y="552"/>
                  </a:lnTo>
                  <a:lnTo>
                    <a:pt x="3569" y="552"/>
                  </a:lnTo>
                  <a:lnTo>
                    <a:pt x="3612" y="552"/>
                  </a:lnTo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1447920" y="3352680"/>
            <a:ext cx="8380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s-ES_tradnl" sz="12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Hogar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286000" y="3505320"/>
            <a:ext cx="2495520" cy="761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c1c1c"/>
                </a:solidFill>
                <a:latin typeface="Arial"/>
              </a:rPr>
              <a:t>Secad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3657600"/>
            <a:ext cx="8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9480" y="4191120"/>
            <a:ext cx="8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38080" y="3200400"/>
            <a:ext cx="419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9480" y="4267080"/>
            <a:ext cx="70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2454120" y="3168720"/>
            <a:ext cx="688680" cy="98280"/>
            <a:chOff x="2454120" y="3168720"/>
            <a:chExt cx="688680" cy="98280"/>
          </a:xfrm>
        </p:grpSpPr>
        <p:sp>
          <p:nvSpPr>
            <p:cNvPr id="531" name=""/>
            <p:cNvSpPr/>
            <p:nvPr/>
          </p:nvSpPr>
          <p:spPr>
            <a:xfrm>
              <a:off x="2463480" y="3178080"/>
              <a:ext cx="675720" cy="88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454120" y="3168720"/>
              <a:ext cx="89280" cy="94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053520" y="3168720"/>
              <a:ext cx="89280" cy="94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2454120" y="3102120"/>
            <a:ext cx="514440" cy="58680"/>
          </a:xfrm>
          <a:custGeom>
            <a:avLst/>
            <a:gdLst/>
            <a:ahLst/>
            <a:rect l="l" t="t" r="r" b="b"/>
            <a:pathLst>
              <a:path w="810" h="92">
                <a:moveTo>
                  <a:pt x="0" y="92"/>
                </a:moveTo>
                <a:cubicBezTo>
                  <a:pt x="15" y="58"/>
                  <a:pt x="30" y="24"/>
                  <a:pt x="60" y="17"/>
                </a:cubicBezTo>
                <a:cubicBezTo>
                  <a:pt x="90" y="10"/>
                  <a:pt x="145" y="42"/>
                  <a:pt x="180" y="47"/>
                </a:cubicBezTo>
                <a:cubicBezTo>
                  <a:pt x="215" y="52"/>
                  <a:pt x="240" y="54"/>
                  <a:pt x="270" y="47"/>
                </a:cubicBezTo>
                <a:cubicBezTo>
                  <a:pt x="300" y="40"/>
                  <a:pt x="328" y="0"/>
                  <a:pt x="360" y="2"/>
                </a:cubicBezTo>
                <a:cubicBezTo>
                  <a:pt x="392" y="4"/>
                  <a:pt x="428" y="60"/>
                  <a:pt x="465" y="62"/>
                </a:cubicBezTo>
                <a:cubicBezTo>
                  <a:pt x="502" y="64"/>
                  <a:pt x="543" y="19"/>
                  <a:pt x="585" y="17"/>
                </a:cubicBezTo>
                <a:cubicBezTo>
                  <a:pt x="627" y="15"/>
                  <a:pt x="683" y="40"/>
                  <a:pt x="720" y="47"/>
                </a:cubicBezTo>
                <a:cubicBezTo>
                  <a:pt x="757" y="54"/>
                  <a:pt x="788" y="52"/>
                  <a:pt x="810" y="6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416320" y="3216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981080" y="2666880"/>
            <a:ext cx="91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4716360" y="2133000"/>
            <a:ext cx="276480" cy="2104920"/>
          </a:xfrm>
          <a:custGeom>
            <a:avLst/>
            <a:gdLst>
              <a:gd name="textAreaLeft" fmla="*/ 60840 w 276480"/>
              <a:gd name="textAreaRight" fmla="*/ 215640 w 276480"/>
              <a:gd name="textAreaTop" fmla="*/ 462960 h 2104920"/>
              <a:gd name="textAreaBottom" fmla="*/ 1641960 h 21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724280" y="41911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105520" y="3962520"/>
            <a:ext cx="7808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pa se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873680" y="2644920"/>
            <a:ext cx="0" cy="55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054760" y="2673360"/>
            <a:ext cx="8856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743200" y="4876920"/>
            <a:ext cx="457200" cy="4572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581280" y="4876920"/>
            <a:ext cx="457200" cy="4572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038480" y="51055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320040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914400" y="51055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914400" y="4648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2971800" y="5334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895480" y="5562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934320" y="4724280"/>
            <a:ext cx="685800" cy="304920"/>
          </a:xfrm>
          <a:custGeom>
            <a:avLst/>
            <a:gdLst>
              <a:gd name="textAreaLeft" fmla="*/ 106920 w 685800"/>
              <a:gd name="textAreaRight" fmla="*/ 600120 w 6858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Un mejor control permite la optimización del punto de trabaj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4-12T19:55:32Z</dcterms:created>
  <dc:creator>Dpto. Ing. de Sistemas</dc:creator>
  <dc:description/>
  <cp:keywords/>
  <dc:language>en-US</dc:language>
  <cp:lastModifiedBy>Dpto. de Ing. de Sistemas y Automatica</cp:lastModifiedBy>
  <cp:lastPrinted>1998-03-25T11:19:12Z</cp:lastPrinted>
  <dcterms:modified xsi:type="dcterms:W3CDTF">2005-04-27T07:46:46Z</dcterms:modified>
  <cp:revision>11</cp:revision>
  <dc:subject/>
  <dc:title>ALGORITMOS DE CONTROL AVANZADO</dc:title>
</cp:coreProperties>
</file>