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media/image4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550-FAC1-4370-9D06-87BDB83C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97E-A00E-454C-B546-4F477D83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20A-0692-4D06-B9EE-7C97EDCD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60A-5302-4A87-98EF-9EE8D7A5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D292-F8F7-4B61-99A0-20C3D86A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4F88-0E42-412E-A8C2-66668176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1A26-4E7D-41BF-BF95-0E9E9423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D5F4-037B-46A6-AC16-BCC40522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C0F9-6E83-443D-90F7-45B45129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A89B-8495-4666-8A43-C330BD45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0D41-339C-4FF9-89DE-5835D9B1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433-00D4-49E2-AB49-885D5151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A3C5-BFFA-4C64-A2F9-D4D1A9F9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EE25-2D6E-45CD-A0D8-D7E9E319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F0AC-E6BB-4C13-B521-FD7A0B14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9D3E-23F8-4534-AD89-5A4B5BED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58B7-A808-49EF-ADA4-A87636A6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A6C-F938-4CB4-BBFD-C1DF9779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8E1-0AF6-4FF6-ADF2-A53257C0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E29-006D-4050-9BFD-9161D6B0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4CD8-BC93-4F23-BA2A-3B581CD9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1BD3-6F91-4706-9BC4-ABE340FC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9691-1495-4406-9A00-2116E1C4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698-74C4-4F1D-9030-A2F8CA3A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B95B-0FF3-47A9-A2C0-CA70C6A9F1F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6B74-BF86-45A1-B760-2ACB7E74C75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alart.com/publications/2002-KBS-JE.pdf" TargetMode="External"/><Relationship Id="rId2" Type="http://schemas.openxmlformats.org/officeDocument/2006/relationships/hyperlink" Target="http://www.goalart.com/publications/2002-KBS-JE.pdf" TargetMode="External"/><Relationship Id="rId3" Type="http://schemas.openxmlformats.org/officeDocument/2006/relationships/hyperlink" Target="http://www.goalart.com/publications/2002-KBS-JE.pdf" TargetMode="External"/><Relationship Id="rId4" Type="http://schemas.openxmlformats.org/officeDocument/2006/relationships/hyperlink" Target="http://www.goalart.com/publications/2002-KBS-JE.pdf" TargetMode="External"/><Relationship Id="rId5" Type="http://schemas.openxmlformats.org/officeDocument/2006/relationships/hyperlink" Target="http://www.goalart.com/publications/2002-KBS-JE.pdf" TargetMode="External"/><Relationship Id="rId6" Type="http://schemas.openxmlformats.org/officeDocument/2006/relationships/hyperlink" Target="http://www.goalart.com/publications/2002-KBS-JE.pdf" TargetMode="External"/><Relationship Id="rId7" Type="http://schemas.openxmlformats.org/officeDocument/2006/relationships/hyperlink" Target="http://www.goalart.com/publications/2002-KBS-JE.pdf" TargetMode="External"/><Relationship Id="rId8" Type="http://schemas.openxmlformats.org/officeDocument/2006/relationships/hyperlink" Target="http://www.goalart.com/publications/2002-KBS-JE.pdf" TargetMode="External"/><Relationship Id="rId9" Type="http://schemas.openxmlformats.org/officeDocument/2006/relationships/hyperlink" Target="http://www.goalart.com/publications/2002-KBS-JE.pdf" TargetMode="External"/><Relationship Id="rId10" Type="http://schemas.openxmlformats.org/officeDocument/2006/relationships/hyperlink" Target="http://www.goalart.com/publications/2002-KBS-JE.pdf" TargetMode="External"/><Relationship Id="rId11" Type="http://schemas.openxmlformats.org/officeDocument/2006/relationships/hyperlink" Target="http://www.goalart.com/publications/2002-KBS-JE.pdf" TargetMode="External"/><Relationship Id="rId12" Type="http://schemas.openxmlformats.org/officeDocument/2006/relationships/hyperlink" Target="http://www.goalart.com/publications/2002-KBS-JE.pdf" TargetMode="External"/><Relationship Id="rId13" Type="http://schemas.openxmlformats.org/officeDocument/2006/relationships/hyperlink" Target="http://www.goalart.com/publications/2002-KBS-JE.pdf" TargetMode="External"/><Relationship Id="rId14" Type="http://schemas.openxmlformats.org/officeDocument/2006/relationships/hyperlink" Target="http://www.goalart.com/publications/2002-KBS-JE.pdf" TargetMode="External"/><Relationship Id="rId15" Type="http://schemas.openxmlformats.org/officeDocument/2006/relationships/hyperlink" Target="http://www.goalart.com/publications/2002-KBS-JE.pdf" TargetMode="External"/><Relationship Id="rId1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MODELADO FUNCIONAL DE PROCES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600200" y="41148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íntesis de estructuras de contr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64612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Narrow"/>
              </a:rPr>
              <a:t>Ernesto Martínez (IS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iones básic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92" name="funciones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71629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structuras de fluj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752480" y="5486400"/>
            <a:ext cx="6248520" cy="609480"/>
            <a:chOff x="1752480" y="5486400"/>
            <a:chExt cx="6248520" cy="609480"/>
          </a:xfrm>
        </p:grpSpPr>
        <p:grpSp>
          <p:nvGrpSpPr>
            <p:cNvPr id="195" name=""/>
            <p:cNvGrpSpPr/>
            <p:nvPr/>
          </p:nvGrpSpPr>
          <p:grpSpPr>
            <a:xfrm>
              <a:off x="1752480" y="5486400"/>
              <a:ext cx="685800" cy="609480"/>
              <a:chOff x="1752480" y="5486400"/>
              <a:chExt cx="685800" cy="609480"/>
            </a:xfrm>
          </p:grpSpPr>
          <p:sp>
            <p:nvSpPr>
              <p:cNvPr id="196" name=""/>
              <p:cNvSpPr/>
              <p:nvPr/>
            </p:nvSpPr>
            <p:spPr>
              <a:xfrm>
                <a:off x="1752480" y="5486400"/>
                <a:ext cx="685800" cy="609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81080" y="5714640"/>
                <a:ext cx="228600" cy="22824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047760" y="5486400"/>
              <a:ext cx="762120" cy="609480"/>
              <a:chOff x="3047760" y="5486400"/>
              <a:chExt cx="762120" cy="609480"/>
            </a:xfrm>
          </p:grpSpPr>
          <p:sp>
            <p:nvSpPr>
              <p:cNvPr id="199" name=""/>
              <p:cNvSpPr/>
              <p:nvPr/>
            </p:nvSpPr>
            <p:spPr>
              <a:xfrm>
                <a:off x="3047760" y="5486400"/>
                <a:ext cx="762120" cy="609480"/>
              </a:xfrm>
              <a:prstGeom prst="diamond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24080" y="5790960"/>
                <a:ext cx="533520" cy="0"/>
              </a:xfrm>
              <a:prstGeom prst="line">
                <a:avLst/>
              </a:prstGeom>
              <a:ln w="31680">
                <a:solidFill>
                  <a:srgbClr val="333333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438280" y="5790960"/>
              <a:ext cx="685800" cy="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95680" y="5486400"/>
              <a:ext cx="838080" cy="609480"/>
            </a:xfrm>
            <a:prstGeom prst="hexagon">
              <a:avLst>
                <a:gd name="adj" fmla="val 34377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09880" y="5790960"/>
              <a:ext cx="685800" cy="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943600" y="5486400"/>
              <a:ext cx="761760" cy="609480"/>
              <a:chOff x="5943600" y="5486400"/>
              <a:chExt cx="761760" cy="609480"/>
            </a:xfrm>
          </p:grpSpPr>
          <p:sp>
            <p:nvSpPr>
              <p:cNvPr id="205" name=""/>
              <p:cNvSpPr/>
              <p:nvPr/>
            </p:nvSpPr>
            <p:spPr>
              <a:xfrm>
                <a:off x="5943600" y="5486400"/>
                <a:ext cx="761760" cy="609480"/>
              </a:xfrm>
              <a:prstGeom prst="diamond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19560" y="5790960"/>
                <a:ext cx="533160" cy="0"/>
              </a:xfrm>
              <a:prstGeom prst="line">
                <a:avLst/>
              </a:prstGeom>
              <a:ln w="31680">
                <a:solidFill>
                  <a:srgbClr val="333333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333760" y="5790960"/>
              <a:ext cx="685800" cy="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7315200" y="5486400"/>
              <a:ext cx="685800" cy="609480"/>
              <a:chOff x="7315200" y="5486400"/>
              <a:chExt cx="685800" cy="609480"/>
            </a:xfrm>
          </p:grpSpPr>
          <p:sp>
            <p:nvSpPr>
              <p:cNvPr id="209" name=""/>
              <p:cNvSpPr/>
              <p:nvPr/>
            </p:nvSpPr>
            <p:spPr>
              <a:xfrm>
                <a:off x="7315200" y="5486400"/>
                <a:ext cx="685800" cy="609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7467120" y="5562360"/>
                <a:ext cx="381240" cy="45684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7407000" y="5541480"/>
                <a:ext cx="501480" cy="42120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6629400" y="5790960"/>
              <a:ext cx="685800" cy="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13" name="Dist%20Network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705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laciones de alca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600200" y="2971800"/>
            <a:ext cx="6553080" cy="990720"/>
            <a:chOff x="1600200" y="2971800"/>
            <a:chExt cx="6553080" cy="990720"/>
          </a:xfrm>
        </p:grpSpPr>
        <p:sp>
          <p:nvSpPr>
            <p:cNvPr id="216" name=""/>
            <p:cNvSpPr/>
            <p:nvPr/>
          </p:nvSpPr>
          <p:spPr>
            <a:xfrm>
              <a:off x="1600200" y="2971800"/>
              <a:ext cx="6553080" cy="99072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1752480" y="3124080"/>
              <a:ext cx="6247440" cy="609840"/>
              <a:chOff x="1752480" y="3124080"/>
              <a:chExt cx="6247440" cy="60984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1752480" y="3124080"/>
                <a:ext cx="685440" cy="609840"/>
                <a:chOff x="1752480" y="3124080"/>
                <a:chExt cx="685440" cy="6098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752480" y="3124080"/>
                  <a:ext cx="685440" cy="609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980720" y="3352680"/>
                  <a:ext cx="228240" cy="22860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3047400" y="3124080"/>
                <a:ext cx="761760" cy="609840"/>
                <a:chOff x="3047400" y="3124080"/>
                <a:chExt cx="761760" cy="6098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047400" y="3124080"/>
                  <a:ext cx="761760" cy="60984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123360" y="3429000"/>
                  <a:ext cx="53316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2437920" y="342900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495320" y="3124080"/>
                <a:ext cx="837720" cy="609840"/>
              </a:xfrm>
              <a:prstGeom prst="hexagon">
                <a:avLst>
                  <a:gd name="adj" fmla="val 34342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09520" y="342900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5942880" y="3124080"/>
                <a:ext cx="761400" cy="609840"/>
                <a:chOff x="5942880" y="3124080"/>
                <a:chExt cx="761400" cy="6098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942880" y="3124080"/>
                  <a:ext cx="761400" cy="60984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018840" y="3429000"/>
                  <a:ext cx="53280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5333040" y="342900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7314480" y="3124080"/>
                <a:ext cx="685440" cy="609840"/>
                <a:chOff x="7314480" y="3124080"/>
                <a:chExt cx="68544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314480" y="3124080"/>
                  <a:ext cx="685440" cy="609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7466400" y="3200400"/>
                  <a:ext cx="380880" cy="4572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>
                  <a:off x="7406280" y="3180240"/>
                  <a:ext cx="501120" cy="4212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6628680" y="342900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" name=""/>
          <p:cNvSpPr/>
          <p:nvPr/>
        </p:nvSpPr>
        <p:spPr>
          <a:xfrm flipV="1">
            <a:off x="4876920" y="198108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24280" y="1752480"/>
            <a:ext cx="30492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1600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1: Continuidad del suminist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1905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Relación de logr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52480" y="5638680"/>
            <a:ext cx="6553440" cy="990720"/>
            <a:chOff x="1752480" y="5638680"/>
            <a:chExt cx="6553440" cy="990720"/>
          </a:xfrm>
        </p:grpSpPr>
        <p:sp>
          <p:nvSpPr>
            <p:cNvPr id="241" name=""/>
            <p:cNvSpPr/>
            <p:nvPr/>
          </p:nvSpPr>
          <p:spPr>
            <a:xfrm>
              <a:off x="1752480" y="5638680"/>
              <a:ext cx="6553440" cy="99072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905120" y="5790960"/>
              <a:ext cx="6247800" cy="609840"/>
              <a:chOff x="1905120" y="5790960"/>
              <a:chExt cx="6247800" cy="609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1905120" y="5790960"/>
                <a:ext cx="685440" cy="609840"/>
                <a:chOff x="1905120" y="5790960"/>
                <a:chExt cx="685440" cy="6098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905120" y="5790960"/>
                  <a:ext cx="685440" cy="609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33360" y="6019560"/>
                  <a:ext cx="228240" cy="22860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200040" y="5790960"/>
                <a:ext cx="761760" cy="609840"/>
                <a:chOff x="3200040" y="5790960"/>
                <a:chExt cx="761760" cy="6098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200040" y="5790960"/>
                  <a:ext cx="761760" cy="60984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76000" y="6095880"/>
                  <a:ext cx="53316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590560" y="609588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647960" y="5790960"/>
                <a:ext cx="837720" cy="609840"/>
              </a:xfrm>
              <a:prstGeom prst="hexagon">
                <a:avLst>
                  <a:gd name="adj" fmla="val 34342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962160" y="609588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6095880" y="5790960"/>
                <a:ext cx="761400" cy="609840"/>
                <a:chOff x="6095880" y="5790960"/>
                <a:chExt cx="761400" cy="609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095880" y="5790960"/>
                  <a:ext cx="761400" cy="60984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171840" y="6095880"/>
                  <a:ext cx="53280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" name=""/>
              <p:cNvSpPr/>
              <p:nvPr/>
            </p:nvSpPr>
            <p:spPr>
              <a:xfrm>
                <a:off x="5486040" y="609588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7467480" y="5790960"/>
                <a:ext cx="685440" cy="609840"/>
                <a:chOff x="7467480" y="5790960"/>
                <a:chExt cx="685440" cy="6098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7467480" y="5790960"/>
                  <a:ext cx="685440" cy="609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7619400" y="5867280"/>
                  <a:ext cx="380880" cy="4572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>
                  <a:off x="7559280" y="5847120"/>
                  <a:ext cx="501120" cy="4212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6781680" y="609588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1" name=""/>
          <p:cNvSpPr/>
          <p:nvPr/>
        </p:nvSpPr>
        <p:spPr>
          <a:xfrm>
            <a:off x="4876920" y="4419720"/>
            <a:ext cx="30456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182120" y="4647960"/>
            <a:ext cx="847080" cy="990360"/>
            <a:chOff x="4182120" y="4647960"/>
            <a:chExt cx="847080" cy="990360"/>
          </a:xfrm>
        </p:grpSpPr>
        <p:sp>
          <p:nvSpPr>
            <p:cNvPr id="263" name=""/>
            <p:cNvSpPr/>
            <p:nvPr/>
          </p:nvSpPr>
          <p:spPr>
            <a:xfrm flipV="1">
              <a:off x="5029200" y="4647960"/>
              <a:ext cx="0" cy="9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4419360" y="5257440"/>
              <a:ext cx="609480" cy="0"/>
            </a:xfrm>
            <a:prstGeom prst="line">
              <a:avLst/>
            </a:prstGeom>
            <a:ln w="349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6301400">
              <a:off x="4114800" y="4952520"/>
              <a:ext cx="609120" cy="457200"/>
            </a:xfrm>
            <a:custGeom>
              <a:avLst/>
              <a:gdLst>
                <a:gd name="textAreaLeft" fmla="*/ 75960 w 609120"/>
                <a:gd name="textAreaRight" fmla="*/ 533160 w 60912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33412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4572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Logro por gest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dición y realiza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371600" y="2133720"/>
            <a:ext cx="6553080" cy="990360"/>
            <a:chOff x="1371600" y="2133720"/>
            <a:chExt cx="6553080" cy="990360"/>
          </a:xfrm>
        </p:grpSpPr>
        <p:sp>
          <p:nvSpPr>
            <p:cNvPr id="270" name=""/>
            <p:cNvSpPr/>
            <p:nvPr/>
          </p:nvSpPr>
          <p:spPr>
            <a:xfrm>
              <a:off x="1371600" y="2133720"/>
              <a:ext cx="6553080" cy="99036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523880" y="2285640"/>
              <a:ext cx="6247440" cy="609480"/>
              <a:chOff x="1523880" y="2285640"/>
              <a:chExt cx="6247440" cy="60948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1523880" y="2285640"/>
                <a:ext cx="685440" cy="609480"/>
                <a:chOff x="1523880" y="2285640"/>
                <a:chExt cx="68544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1523880" y="2285640"/>
                  <a:ext cx="685440" cy="609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752120" y="2513880"/>
                  <a:ext cx="228240" cy="22824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2818800" y="2285640"/>
                <a:ext cx="761760" cy="609480"/>
                <a:chOff x="2818800" y="2285640"/>
                <a:chExt cx="761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818800" y="2285640"/>
                  <a:ext cx="761760" cy="60948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894760" y="2590200"/>
                  <a:ext cx="53316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2209320" y="259020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66720" y="2285640"/>
                <a:ext cx="837720" cy="609480"/>
              </a:xfrm>
              <a:prstGeom prst="hexagon">
                <a:avLst>
                  <a:gd name="adj" fmla="val 34362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580920" y="259020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5714280" y="2285640"/>
                <a:ext cx="761400" cy="609480"/>
                <a:chOff x="5714280" y="2285640"/>
                <a:chExt cx="761400" cy="6094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5714280" y="2285640"/>
                  <a:ext cx="761400" cy="60948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790240" y="2590200"/>
                  <a:ext cx="53280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>
                <a:off x="5104440" y="259020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7085880" y="2285640"/>
                <a:ext cx="685440" cy="609480"/>
                <a:chOff x="7085880" y="2285640"/>
                <a:chExt cx="685440" cy="6094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085880" y="2285640"/>
                  <a:ext cx="685440" cy="609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>
                  <a:off x="7237800" y="2361600"/>
                  <a:ext cx="380880" cy="4568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>
                  <a:off x="7177680" y="2341080"/>
                  <a:ext cx="501120" cy="4208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6400080" y="259020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2971800" y="2971800"/>
            <a:ext cx="457200" cy="838080"/>
            <a:chOff x="2971800" y="2971800"/>
            <a:chExt cx="457200" cy="838080"/>
          </a:xfrm>
        </p:grpSpPr>
        <p:grpSp>
          <p:nvGrpSpPr>
            <p:cNvPr id="291" name=""/>
            <p:cNvGrpSpPr/>
            <p:nvPr/>
          </p:nvGrpSpPr>
          <p:grpSpPr>
            <a:xfrm>
              <a:off x="2971800" y="2971800"/>
              <a:ext cx="457200" cy="609480"/>
              <a:chOff x="2971800" y="2971800"/>
              <a:chExt cx="457200" cy="609480"/>
            </a:xfrm>
          </p:grpSpPr>
          <p:sp>
            <p:nvSpPr>
              <p:cNvPr id="292" name=""/>
              <p:cNvSpPr/>
              <p:nvPr/>
            </p:nvSpPr>
            <p:spPr>
              <a:xfrm>
                <a:off x="3200400" y="2971800"/>
                <a:ext cx="0" cy="609480"/>
              </a:xfrm>
              <a:prstGeom prst="line">
                <a:avLst/>
              </a:prstGeom>
              <a:ln w="349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71800" y="2971800"/>
                <a:ext cx="457200" cy="0"/>
              </a:xfrm>
              <a:prstGeom prst="line">
                <a:avLst/>
              </a:prstGeom>
              <a:ln w="349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3048120" y="3581280"/>
              <a:ext cx="30456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505320" y="3429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2: Suministro energí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14479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Relación de condi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4495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Relación de realiza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5105520"/>
            <a:ext cx="6629400" cy="1371600"/>
            <a:chOff x="1295280" y="5105520"/>
            <a:chExt cx="6629400" cy="1371600"/>
          </a:xfrm>
        </p:grpSpPr>
        <p:sp>
          <p:nvSpPr>
            <p:cNvPr id="299" name=""/>
            <p:cNvSpPr/>
            <p:nvPr/>
          </p:nvSpPr>
          <p:spPr>
            <a:xfrm>
              <a:off x="1295280" y="5181480"/>
              <a:ext cx="6553440" cy="12956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1447920" y="5486400"/>
              <a:ext cx="6247800" cy="609480"/>
              <a:chOff x="1447920" y="5486400"/>
              <a:chExt cx="6247800" cy="60948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447920" y="5486400"/>
                <a:ext cx="685440" cy="609480"/>
                <a:chOff x="1447920" y="5486400"/>
                <a:chExt cx="685440" cy="609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447920" y="5486400"/>
                  <a:ext cx="685440" cy="609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676160" y="5714640"/>
                  <a:ext cx="228240" cy="22824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742840" y="5486400"/>
                <a:ext cx="761760" cy="609480"/>
                <a:chOff x="2742840" y="5486400"/>
                <a:chExt cx="761760" cy="6094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2742840" y="5486400"/>
                  <a:ext cx="761760" cy="60948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818800" y="5790960"/>
                  <a:ext cx="53316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2133360" y="579096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90760" y="5486400"/>
                <a:ext cx="837720" cy="609480"/>
              </a:xfrm>
              <a:prstGeom prst="hexagon">
                <a:avLst>
                  <a:gd name="adj" fmla="val 34362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504960" y="579096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5638680" y="5486400"/>
                <a:ext cx="761400" cy="609480"/>
                <a:chOff x="5638680" y="5486400"/>
                <a:chExt cx="761400" cy="609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638680" y="5486400"/>
                  <a:ext cx="761400" cy="60948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714640" y="5790960"/>
                  <a:ext cx="53280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5028840" y="579096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7010280" y="5486400"/>
                <a:ext cx="685440" cy="609480"/>
                <a:chOff x="7010280" y="5486400"/>
                <a:chExt cx="6854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7010280" y="5486400"/>
                  <a:ext cx="685440" cy="609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7162200" y="5562360"/>
                  <a:ext cx="380880" cy="4568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>
                  <a:off x="7102080" y="5541840"/>
                  <a:ext cx="501120" cy="4208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6324480" y="579096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4038480" y="5105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 Narrow"/>
                </a:rPr>
                <a:t>Tanqu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86400" y="5105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 Narrow"/>
                </a:rPr>
                <a:t>Bomb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909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 Narrow"/>
                </a:rPr>
                <a:t>Bomb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71600" y="5105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 Narrow"/>
                </a:rPr>
                <a:t>Lag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057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 Narrow"/>
                </a:rPr>
                <a:t> 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 Narrow"/>
                </a:rPr>
                <a:t>Equipo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mántica func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057400" y="1905120"/>
            <a:ext cx="4952880" cy="1295280"/>
            <a:chOff x="2057400" y="1905120"/>
            <a:chExt cx="4952880" cy="1295280"/>
          </a:xfrm>
        </p:grpSpPr>
        <p:sp>
          <p:nvSpPr>
            <p:cNvPr id="326" name=""/>
            <p:cNvSpPr/>
            <p:nvPr/>
          </p:nvSpPr>
          <p:spPr>
            <a:xfrm>
              <a:off x="2057400" y="1905120"/>
              <a:ext cx="4952880" cy="1295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590920" y="1905120"/>
              <a:ext cx="3809880" cy="1142640"/>
              <a:chOff x="2590920" y="1905120"/>
              <a:chExt cx="3809880" cy="1142640"/>
            </a:xfrm>
          </p:grpSpPr>
          <p:sp>
            <p:nvSpPr>
              <p:cNvPr id="328" name=""/>
              <p:cNvSpPr/>
              <p:nvPr/>
            </p:nvSpPr>
            <p:spPr>
              <a:xfrm>
                <a:off x="2590920" y="2362320"/>
                <a:ext cx="838080" cy="609480"/>
              </a:xfrm>
              <a:prstGeom prst="hexagon">
                <a:avLst>
                  <a:gd name="adj" fmla="val 343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876920" y="2667240"/>
                <a:ext cx="68580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4114800" y="2286000"/>
                <a:ext cx="914040" cy="761760"/>
                <a:chOff x="4114800" y="2286000"/>
                <a:chExt cx="914040" cy="761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114800" y="2286000"/>
                  <a:ext cx="914040" cy="76176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206240" y="2666880"/>
                  <a:ext cx="63972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3" name=""/>
              <p:cNvSpPr/>
              <p:nvPr/>
            </p:nvSpPr>
            <p:spPr>
              <a:xfrm>
                <a:off x="3429000" y="2667240"/>
                <a:ext cx="68580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62720" y="2362320"/>
                <a:ext cx="838080" cy="609480"/>
              </a:xfrm>
              <a:prstGeom prst="hexagon">
                <a:avLst>
                  <a:gd name="adj" fmla="val 343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667240" y="19051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eaeaea"/>
                    </a:solidFill>
                    <a:latin typeface="Arial Narrow"/>
                  </a:rPr>
                  <a:t>st</a:t>
                </a:r>
                <a:r>
                  <a:rPr b="1" lang="en-US" sz="2400" spc="-1" strike="noStrike">
                    <a:solidFill>
                      <a:srgbClr val="eaeaea"/>
                    </a:solidFill>
                    <a:latin typeface="Arial Narrow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267440" y="19051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eaeaea"/>
                    </a:solidFill>
                    <a:latin typeface="Arial Narrow"/>
                  </a:rPr>
                  <a:t>tr</a:t>
                </a:r>
                <a:r>
                  <a:rPr b="1" lang="en-US" sz="2400" spc="-1" strike="noStrike">
                    <a:solidFill>
                      <a:srgbClr val="eaeaea"/>
                    </a:solidFill>
                    <a:latin typeface="Arial Narrow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715000" y="190512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eaeaea"/>
                    </a:solidFill>
                    <a:latin typeface="Arial Narrow"/>
                  </a:rPr>
                  <a:t>st</a:t>
                </a:r>
                <a:r>
                  <a:rPr b="1" lang="en-US" sz="2400" spc="-1" strike="noStrike">
                    <a:solidFill>
                      <a:srgbClr val="eaeaea"/>
                    </a:solidFill>
                    <a:latin typeface="Arial Narrow"/>
                  </a:rPr>
                  <a:t>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3276720" y="3200400"/>
            <a:ext cx="2895480" cy="2438280"/>
            <a:chOff x="3276720" y="3200400"/>
            <a:chExt cx="2895480" cy="2438280"/>
          </a:xfrm>
        </p:grpSpPr>
        <p:grpSp>
          <p:nvGrpSpPr>
            <p:cNvPr id="339" name=""/>
            <p:cNvGrpSpPr/>
            <p:nvPr/>
          </p:nvGrpSpPr>
          <p:grpSpPr>
            <a:xfrm>
              <a:off x="3276720" y="3200400"/>
              <a:ext cx="2895480" cy="2438280"/>
              <a:chOff x="3276720" y="3200400"/>
              <a:chExt cx="2895480" cy="2438280"/>
            </a:xfrm>
          </p:grpSpPr>
          <p:sp>
            <p:nvSpPr>
              <p:cNvPr id="340" name=""/>
              <p:cNvSpPr/>
              <p:nvPr/>
            </p:nvSpPr>
            <p:spPr>
              <a:xfrm>
                <a:off x="3276720" y="3429000"/>
                <a:ext cx="2895480" cy="2209680"/>
              </a:xfrm>
              <a:custGeom>
                <a:avLst/>
                <a:gdLst/>
                <a:ahLst/>
                <a:rect l="l" t="t" r="r" b="b"/>
                <a:pathLst>
                  <a:path w="1824" h="1392">
                    <a:moveTo>
                      <a:pt x="288" y="144"/>
                    </a:moveTo>
                    <a:lnTo>
                      <a:pt x="96" y="336"/>
                    </a:lnTo>
                    <a:lnTo>
                      <a:pt x="0" y="480"/>
                    </a:lnTo>
                    <a:lnTo>
                      <a:pt x="0" y="720"/>
                    </a:lnTo>
                    <a:lnTo>
                      <a:pt x="48" y="1008"/>
                    </a:lnTo>
                    <a:lnTo>
                      <a:pt x="96" y="1248"/>
                    </a:lnTo>
                    <a:lnTo>
                      <a:pt x="384" y="1344"/>
                    </a:lnTo>
                    <a:lnTo>
                      <a:pt x="624" y="1392"/>
                    </a:lnTo>
                    <a:lnTo>
                      <a:pt x="1056" y="1392"/>
                    </a:lnTo>
                    <a:lnTo>
                      <a:pt x="1344" y="1296"/>
                    </a:lnTo>
                    <a:lnTo>
                      <a:pt x="1680" y="1200"/>
                    </a:lnTo>
                    <a:lnTo>
                      <a:pt x="1776" y="960"/>
                    </a:lnTo>
                    <a:lnTo>
                      <a:pt x="1824" y="768"/>
                    </a:lnTo>
                    <a:lnTo>
                      <a:pt x="1824" y="432"/>
                    </a:lnTo>
                    <a:lnTo>
                      <a:pt x="1728" y="240"/>
                    </a:lnTo>
                    <a:lnTo>
                      <a:pt x="1584" y="144"/>
                    </a:lnTo>
                    <a:lnTo>
                      <a:pt x="1344" y="48"/>
                    </a:lnTo>
                    <a:lnTo>
                      <a:pt x="1152" y="48"/>
                    </a:lnTo>
                    <a:lnTo>
                      <a:pt x="960" y="48"/>
                    </a:lnTo>
                    <a:lnTo>
                      <a:pt x="720" y="0"/>
                    </a:lnTo>
                    <a:lnTo>
                      <a:pt x="480" y="48"/>
                    </a:lnTo>
                    <a:lnTo>
                      <a:pt x="336" y="96"/>
                    </a:lnTo>
                    <a:lnTo>
                      <a:pt x="288" y="14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800600" y="3200400"/>
                <a:ext cx="0" cy="685800"/>
              </a:xfrm>
              <a:prstGeom prst="line">
                <a:avLst/>
              </a:prstGeom>
              <a:ln w="763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48320" y="3276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 Narrow"/>
                  </a:rPr>
                  <a:t>R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581280" y="3886200"/>
              <a:ext cx="679680" cy="1066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35680" y="3886200"/>
              <a:ext cx="679320" cy="1066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0960" y="4716360"/>
              <a:ext cx="7747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943600" y="2819520"/>
            <a:ext cx="3124080" cy="3886200"/>
            <a:chOff x="5943600" y="2819520"/>
            <a:chExt cx="3124080" cy="3886200"/>
          </a:xfrm>
        </p:grpSpPr>
        <p:grpSp>
          <p:nvGrpSpPr>
            <p:cNvPr id="347" name=""/>
            <p:cNvGrpSpPr/>
            <p:nvPr/>
          </p:nvGrpSpPr>
          <p:grpSpPr>
            <a:xfrm>
              <a:off x="5943600" y="2819520"/>
              <a:ext cx="3124080" cy="3886200"/>
              <a:chOff x="5943600" y="2819520"/>
              <a:chExt cx="3124080" cy="3886200"/>
            </a:xfrm>
          </p:grpSpPr>
          <p:sp>
            <p:nvSpPr>
              <p:cNvPr id="348" name=""/>
              <p:cNvSpPr/>
              <p:nvPr/>
            </p:nvSpPr>
            <p:spPr>
              <a:xfrm>
                <a:off x="5943600" y="2819520"/>
                <a:ext cx="3124080" cy="3886200"/>
              </a:xfrm>
              <a:custGeom>
                <a:avLst/>
                <a:gdLst/>
                <a:ahLst/>
                <a:rect l="l" t="t" r="r" b="b"/>
                <a:pathLst>
                  <a:path w="1968" h="2448">
                    <a:moveTo>
                      <a:pt x="624" y="528"/>
                    </a:moveTo>
                    <a:lnTo>
                      <a:pt x="912" y="192"/>
                    </a:lnTo>
                    <a:lnTo>
                      <a:pt x="1152" y="48"/>
                    </a:lnTo>
                    <a:lnTo>
                      <a:pt x="1392" y="0"/>
                    </a:lnTo>
                    <a:lnTo>
                      <a:pt x="1632" y="0"/>
                    </a:lnTo>
                    <a:lnTo>
                      <a:pt x="1776" y="144"/>
                    </a:lnTo>
                    <a:lnTo>
                      <a:pt x="1968" y="288"/>
                    </a:lnTo>
                    <a:lnTo>
                      <a:pt x="1968" y="480"/>
                    </a:lnTo>
                    <a:lnTo>
                      <a:pt x="1968" y="672"/>
                    </a:lnTo>
                    <a:lnTo>
                      <a:pt x="1968" y="960"/>
                    </a:lnTo>
                    <a:lnTo>
                      <a:pt x="1968" y="1104"/>
                    </a:lnTo>
                    <a:lnTo>
                      <a:pt x="1968" y="1344"/>
                    </a:lnTo>
                    <a:lnTo>
                      <a:pt x="1920" y="1728"/>
                    </a:lnTo>
                    <a:lnTo>
                      <a:pt x="1824" y="1920"/>
                    </a:lnTo>
                    <a:lnTo>
                      <a:pt x="1680" y="2064"/>
                    </a:lnTo>
                    <a:lnTo>
                      <a:pt x="1536" y="2208"/>
                    </a:lnTo>
                    <a:lnTo>
                      <a:pt x="1248" y="2352"/>
                    </a:lnTo>
                    <a:lnTo>
                      <a:pt x="1104" y="2352"/>
                    </a:lnTo>
                    <a:lnTo>
                      <a:pt x="864" y="2448"/>
                    </a:lnTo>
                    <a:lnTo>
                      <a:pt x="672" y="2448"/>
                    </a:lnTo>
                    <a:lnTo>
                      <a:pt x="432" y="2448"/>
                    </a:lnTo>
                    <a:lnTo>
                      <a:pt x="336" y="2400"/>
                    </a:lnTo>
                    <a:lnTo>
                      <a:pt x="144" y="2400"/>
                    </a:lnTo>
                    <a:lnTo>
                      <a:pt x="48" y="2352"/>
                    </a:lnTo>
                    <a:lnTo>
                      <a:pt x="0" y="2160"/>
                    </a:lnTo>
                    <a:lnTo>
                      <a:pt x="0" y="2016"/>
                    </a:lnTo>
                    <a:lnTo>
                      <a:pt x="48" y="1872"/>
                    </a:lnTo>
                    <a:lnTo>
                      <a:pt x="96" y="1584"/>
                    </a:lnTo>
                    <a:lnTo>
                      <a:pt x="96" y="1488"/>
                    </a:lnTo>
                    <a:lnTo>
                      <a:pt x="144" y="1392"/>
                    </a:lnTo>
                    <a:lnTo>
                      <a:pt x="192" y="1248"/>
                    </a:lnTo>
                    <a:lnTo>
                      <a:pt x="240" y="1104"/>
                    </a:lnTo>
                    <a:lnTo>
                      <a:pt x="288" y="960"/>
                    </a:lnTo>
                    <a:lnTo>
                      <a:pt x="336" y="864"/>
                    </a:lnTo>
                    <a:lnTo>
                      <a:pt x="384" y="720"/>
                    </a:lnTo>
                    <a:lnTo>
                      <a:pt x="432" y="624"/>
                    </a:lnTo>
                    <a:lnTo>
                      <a:pt x="528" y="576"/>
                    </a:lnTo>
                    <a:lnTo>
                      <a:pt x="624" y="528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934320" y="3200400"/>
                <a:ext cx="533160" cy="533520"/>
              </a:xfrm>
              <a:prstGeom prst="line">
                <a:avLst/>
              </a:prstGeom>
              <a:ln w="763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086600" y="3200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 Narrow"/>
                  </a:rPr>
                  <a:t>R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95880" y="3200400"/>
              <a:ext cx="2889360" cy="3048120"/>
              <a:chOff x="6095880" y="3200400"/>
              <a:chExt cx="2889360" cy="3048120"/>
            </a:xfrm>
          </p:grpSpPr>
          <p:sp>
            <p:nvSpPr>
              <p:cNvPr id="352" name=""/>
              <p:cNvSpPr/>
              <p:nvPr/>
            </p:nvSpPr>
            <p:spPr>
              <a:xfrm>
                <a:off x="7696080" y="5867280"/>
                <a:ext cx="457200" cy="0"/>
              </a:xfrm>
              <a:prstGeom prst="line">
                <a:avLst/>
              </a:prstGeom>
              <a:ln w="223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6095880" y="3200400"/>
                <a:ext cx="2889360" cy="3048120"/>
                <a:chOff x="6095880" y="3200400"/>
                <a:chExt cx="2889360" cy="30481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095880" y="5181480"/>
                  <a:ext cx="679680" cy="106704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85858"/>
                    </a:gs>
                  </a:gsLst>
                  <a:lin ang="5400000"/>
                </a:gra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305920" y="3505320"/>
                  <a:ext cx="679320" cy="106668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85858"/>
                    </a:gs>
                  </a:gsLst>
                  <a:lin ang="5400000"/>
                </a:gra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6" name=""/>
                <p:cNvGrpSpPr/>
                <p:nvPr/>
              </p:nvGrpSpPr>
              <p:grpSpPr>
                <a:xfrm>
                  <a:off x="6781680" y="3200400"/>
                  <a:ext cx="1905120" cy="2939760"/>
                  <a:chOff x="6781680" y="3200400"/>
                  <a:chExt cx="1905120" cy="293976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6781680" y="6019920"/>
                    <a:ext cx="762120" cy="0"/>
                  </a:xfrm>
                  <a:prstGeom prst="line">
                    <a:avLst/>
                  </a:prstGeom>
                  <a:ln w="22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V="1">
                    <a:off x="8153280" y="3200400"/>
                    <a:ext cx="0" cy="2666880"/>
                  </a:xfrm>
                  <a:prstGeom prst="line">
                    <a:avLst/>
                  </a:prstGeom>
                  <a:ln w="22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7499520" y="5747040"/>
                    <a:ext cx="393480" cy="393120"/>
                    <a:chOff x="7499520" y="5747040"/>
                    <a:chExt cx="393480" cy="39312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254000">
                      <a:off x="7543800" y="5791320"/>
                      <a:ext cx="30492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5337600">
                      <a:off x="7631280" y="5807160"/>
                      <a:ext cx="228240" cy="2286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cab40"/>
                    </a:solidFill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2" name=""/>
                  <p:cNvSpPr/>
                  <p:nvPr/>
                </p:nvSpPr>
                <p:spPr>
                  <a:xfrm>
                    <a:off x="8153280" y="3200400"/>
                    <a:ext cx="533520" cy="0"/>
                  </a:xfrm>
                  <a:prstGeom prst="line">
                    <a:avLst/>
                  </a:prstGeom>
                  <a:ln w="22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686800" y="3200400"/>
                    <a:ext cx="0" cy="457200"/>
                  </a:xfrm>
                  <a:prstGeom prst="line">
                    <a:avLst/>
                  </a:prstGeom>
                  <a:ln w="22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64" name=""/>
          <p:cNvGrpSpPr/>
          <p:nvPr/>
        </p:nvGrpSpPr>
        <p:grpSpPr>
          <a:xfrm>
            <a:off x="914400" y="3200400"/>
            <a:ext cx="2362320" cy="3124080"/>
            <a:chOff x="914400" y="3200400"/>
            <a:chExt cx="2362320" cy="3124080"/>
          </a:xfrm>
        </p:grpSpPr>
        <p:sp>
          <p:nvSpPr>
            <p:cNvPr id="365" name=""/>
            <p:cNvSpPr/>
            <p:nvPr/>
          </p:nvSpPr>
          <p:spPr>
            <a:xfrm>
              <a:off x="914400" y="3200400"/>
              <a:ext cx="2362320" cy="3124080"/>
            </a:xfrm>
            <a:custGeom>
              <a:avLst/>
              <a:gdLst/>
              <a:ahLst/>
              <a:rect l="l" t="t" r="r" b="b"/>
              <a:pathLst>
                <a:path w="1488" h="1968">
                  <a:moveTo>
                    <a:pt x="48" y="144"/>
                  </a:moveTo>
                  <a:lnTo>
                    <a:pt x="0" y="720"/>
                  </a:lnTo>
                  <a:lnTo>
                    <a:pt x="96" y="1344"/>
                  </a:lnTo>
                  <a:lnTo>
                    <a:pt x="336" y="1776"/>
                  </a:lnTo>
                  <a:lnTo>
                    <a:pt x="720" y="1920"/>
                  </a:lnTo>
                  <a:lnTo>
                    <a:pt x="1248" y="1968"/>
                  </a:lnTo>
                  <a:lnTo>
                    <a:pt x="1440" y="1824"/>
                  </a:lnTo>
                  <a:lnTo>
                    <a:pt x="1488" y="1584"/>
                  </a:lnTo>
                  <a:lnTo>
                    <a:pt x="1488" y="1248"/>
                  </a:lnTo>
                  <a:lnTo>
                    <a:pt x="1440" y="960"/>
                  </a:lnTo>
                  <a:lnTo>
                    <a:pt x="1344" y="672"/>
                  </a:lnTo>
                  <a:lnTo>
                    <a:pt x="1200" y="528"/>
                  </a:lnTo>
                  <a:lnTo>
                    <a:pt x="1056" y="336"/>
                  </a:lnTo>
                  <a:lnTo>
                    <a:pt x="864" y="240"/>
                  </a:lnTo>
                  <a:lnTo>
                    <a:pt x="720" y="144"/>
                  </a:lnTo>
                  <a:lnTo>
                    <a:pt x="624" y="96"/>
                  </a:lnTo>
                  <a:lnTo>
                    <a:pt x="528" y="0"/>
                  </a:lnTo>
                  <a:lnTo>
                    <a:pt x="336" y="0"/>
                  </a:lnTo>
                  <a:lnTo>
                    <a:pt x="240" y="0"/>
                  </a:lnTo>
                  <a:lnTo>
                    <a:pt x="192" y="48"/>
                  </a:lnTo>
                  <a:lnTo>
                    <a:pt x="96" y="48"/>
                  </a:lnTo>
                </a:path>
              </a:pathLst>
            </a:custGeom>
            <a:solidFill>
              <a:srgbClr val="fcab4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066680" y="3581280"/>
              <a:ext cx="1600200" cy="2057400"/>
              <a:chOff x="1066680" y="3581280"/>
              <a:chExt cx="1600200" cy="2057400"/>
            </a:xfrm>
          </p:grpSpPr>
          <p:sp>
            <p:nvSpPr>
              <p:cNvPr id="367" name=""/>
              <p:cNvSpPr/>
              <p:nvPr/>
            </p:nvSpPr>
            <p:spPr>
              <a:xfrm>
                <a:off x="1066680" y="3581280"/>
                <a:ext cx="533520" cy="91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133720" y="4648320"/>
                <a:ext cx="533160" cy="990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00200" y="4343400"/>
                <a:ext cx="838080" cy="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438280" y="4343400"/>
                <a:ext cx="0" cy="45720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flipH="1">
              <a:off x="2666520" y="3200400"/>
              <a:ext cx="381240" cy="6094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6688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R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914400" y="1676520"/>
            <a:ext cx="5105520" cy="4876560"/>
            <a:chOff x="914400" y="1676520"/>
            <a:chExt cx="5105520" cy="4876560"/>
          </a:xfrm>
        </p:grpSpPr>
        <p:sp>
          <p:nvSpPr>
            <p:cNvPr id="375" name=""/>
            <p:cNvSpPr/>
            <p:nvPr/>
          </p:nvSpPr>
          <p:spPr>
            <a:xfrm>
              <a:off x="914400" y="1676520"/>
              <a:ext cx="5105520" cy="4876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45680" y="2286000"/>
              <a:ext cx="15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a"/>
                  </a:solidFill>
                  <a:latin typeface="Arial Narrow"/>
                </a:rPr>
                <a:t>     </a:t>
              </a:r>
              <a:r>
                <a:rPr b="0" lang="en-US" sz="2400" spc="-1" strike="noStrike">
                  <a:solidFill>
                    <a:srgbClr val="00007a"/>
                  </a:solidFill>
                  <a:latin typeface="Arial Narrow"/>
                </a:rPr>
                <a:t>Energí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77" name="Tanque" descr=""/>
            <p:cNvPicPr/>
            <p:nvPr/>
          </p:nvPicPr>
          <p:blipFill>
            <a:blip r:embed="rId1"/>
            <a:stretch/>
          </p:blipFill>
          <p:spPr>
            <a:xfrm>
              <a:off x="2567880" y="1828800"/>
              <a:ext cx="2732760" cy="444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"/>
          <p:cNvSpPr/>
          <p:nvPr/>
        </p:nvSpPr>
        <p:spPr>
          <a:xfrm>
            <a:off x="6248520" y="17524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1: mantener el nivel en ambos tanq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24480" y="3048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2: mantener la bomba funcionand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delo func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48520" y="17524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1: mantener el nivel en ambos tanq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066680" y="1828800"/>
            <a:ext cx="7924680" cy="2437920"/>
            <a:chOff x="1066680" y="1828800"/>
            <a:chExt cx="7924680" cy="2437920"/>
          </a:xfrm>
        </p:grpSpPr>
        <p:sp>
          <p:nvSpPr>
            <p:cNvPr id="383" name=""/>
            <p:cNvSpPr/>
            <p:nvPr/>
          </p:nvSpPr>
          <p:spPr>
            <a:xfrm>
              <a:off x="1066680" y="3200040"/>
              <a:ext cx="7924680" cy="10666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00240" y="1981080"/>
              <a:ext cx="304920" cy="2282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4105440" y="2209680"/>
              <a:ext cx="847080" cy="990000"/>
              <a:chOff x="4105440" y="2209680"/>
              <a:chExt cx="847080" cy="990000"/>
            </a:xfrm>
          </p:grpSpPr>
          <p:sp>
            <p:nvSpPr>
              <p:cNvPr id="386" name=""/>
              <p:cNvSpPr/>
              <p:nvPr/>
            </p:nvSpPr>
            <p:spPr>
              <a:xfrm flipV="1">
                <a:off x="4952520" y="2209680"/>
                <a:ext cx="0" cy="990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4342680" y="2818440"/>
                <a:ext cx="609480" cy="0"/>
              </a:xfrm>
              <a:prstGeom prst="line">
                <a:avLst/>
              </a:prstGeom>
              <a:ln w="349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301400">
                <a:off x="4038480" y="2513160"/>
                <a:ext cx="608760" cy="457200"/>
              </a:xfrm>
              <a:custGeom>
                <a:avLst/>
                <a:gdLst>
                  <a:gd name="textAreaLeft" fmla="*/ 75960 w 608760"/>
                  <a:gd name="textAreaRight" fmla="*/ 532800 w 60876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cab4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5181480" y="1828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G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218960" y="3504960"/>
              <a:ext cx="7569360" cy="609120"/>
              <a:chOff x="1218960" y="3504960"/>
              <a:chExt cx="7569360" cy="60912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1218960" y="3504960"/>
                <a:ext cx="558720" cy="609120"/>
                <a:chOff x="1218960" y="3504960"/>
                <a:chExt cx="558720" cy="6091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1218960" y="3504960"/>
                  <a:ext cx="558720" cy="609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405080" y="3733200"/>
                  <a:ext cx="186120" cy="22824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2273040" y="3504960"/>
                <a:ext cx="620640" cy="609120"/>
                <a:chOff x="2273040" y="3504960"/>
                <a:chExt cx="620640" cy="609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2273040" y="3504960"/>
                  <a:ext cx="620640" cy="60912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334960" y="3809520"/>
                  <a:ext cx="43452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1777680" y="3809160"/>
                <a:ext cx="55728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452400" y="3504960"/>
                <a:ext cx="681120" cy="609120"/>
              </a:xfrm>
              <a:prstGeom prst="hexagon">
                <a:avLst>
                  <a:gd name="adj" fmla="val 2795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893680" y="3809160"/>
                <a:ext cx="55872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4630320" y="3504960"/>
                <a:ext cx="621000" cy="609120"/>
                <a:chOff x="4630320" y="3504960"/>
                <a:chExt cx="621000" cy="6091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630320" y="3504960"/>
                  <a:ext cx="621000" cy="60912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692240" y="3809520"/>
                  <a:ext cx="43452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4133520" y="3809160"/>
                <a:ext cx="55872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8229240" y="3504960"/>
                <a:ext cx="559080" cy="609120"/>
                <a:chOff x="8229240" y="3504960"/>
                <a:chExt cx="559080" cy="60912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8229240" y="3504960"/>
                  <a:ext cx="559080" cy="609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8352720" y="3580920"/>
                  <a:ext cx="310680" cy="45648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flipV="1">
                  <a:off x="8306280" y="3564360"/>
                  <a:ext cx="403560" cy="41328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5189400" y="3809160"/>
                <a:ext cx="55728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790960" y="3504960"/>
                <a:ext cx="681120" cy="609120"/>
              </a:xfrm>
              <a:prstGeom prst="hexagon">
                <a:avLst>
                  <a:gd name="adj" fmla="val 2795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410" name=""/>
              <p:cNvGrpSpPr/>
              <p:nvPr/>
            </p:nvGrpSpPr>
            <p:grpSpPr>
              <a:xfrm>
                <a:off x="7086240" y="3504960"/>
                <a:ext cx="621000" cy="609120"/>
                <a:chOff x="7086240" y="3504960"/>
                <a:chExt cx="621000" cy="60912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7086240" y="3504960"/>
                  <a:ext cx="621000" cy="60912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148160" y="3809520"/>
                  <a:ext cx="43452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6553080" y="3809160"/>
                <a:ext cx="55692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96080" y="3809160"/>
                <a:ext cx="53316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815328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7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85640" y="3124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0496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2428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4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43240" y="3124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16256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6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1896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362320" y="4191120"/>
            <a:ext cx="457200" cy="838080"/>
            <a:chOff x="2362320" y="4191120"/>
            <a:chExt cx="457200" cy="838080"/>
          </a:xfrm>
        </p:grpSpPr>
        <p:grpSp>
          <p:nvGrpSpPr>
            <p:cNvPr id="423" name=""/>
            <p:cNvGrpSpPr/>
            <p:nvPr/>
          </p:nvGrpSpPr>
          <p:grpSpPr>
            <a:xfrm>
              <a:off x="2362320" y="4191120"/>
              <a:ext cx="457200" cy="609480"/>
              <a:chOff x="2362320" y="4191120"/>
              <a:chExt cx="457200" cy="609480"/>
            </a:xfrm>
          </p:grpSpPr>
          <p:sp>
            <p:nvSpPr>
              <p:cNvPr id="424" name=""/>
              <p:cNvSpPr/>
              <p:nvPr/>
            </p:nvSpPr>
            <p:spPr>
              <a:xfrm>
                <a:off x="2590920" y="4191120"/>
                <a:ext cx="0" cy="609480"/>
              </a:xfrm>
              <a:prstGeom prst="line">
                <a:avLst/>
              </a:prstGeom>
              <a:ln w="349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362320" y="4191120"/>
                <a:ext cx="457200" cy="0"/>
              </a:xfrm>
              <a:prstGeom prst="line">
                <a:avLst/>
              </a:prstGeom>
              <a:ln w="349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2438640" y="4800600"/>
              <a:ext cx="30456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2895480" y="4724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2: Suministro energí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62120" y="5028840"/>
            <a:ext cx="3886200" cy="1831680"/>
            <a:chOff x="762120" y="5028840"/>
            <a:chExt cx="3886200" cy="1831680"/>
          </a:xfrm>
        </p:grpSpPr>
        <p:grpSp>
          <p:nvGrpSpPr>
            <p:cNvPr id="429" name=""/>
            <p:cNvGrpSpPr/>
            <p:nvPr/>
          </p:nvGrpSpPr>
          <p:grpSpPr>
            <a:xfrm>
              <a:off x="762120" y="5715000"/>
              <a:ext cx="3886200" cy="1066680"/>
              <a:chOff x="762120" y="5715000"/>
              <a:chExt cx="3886200" cy="1066680"/>
            </a:xfrm>
          </p:grpSpPr>
          <p:sp>
            <p:nvSpPr>
              <p:cNvPr id="430" name=""/>
              <p:cNvSpPr/>
              <p:nvPr/>
            </p:nvSpPr>
            <p:spPr>
              <a:xfrm>
                <a:off x="762120" y="5715000"/>
                <a:ext cx="3886200" cy="106668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914760" y="5867280"/>
                <a:ext cx="3504960" cy="609480"/>
                <a:chOff x="914760" y="5867280"/>
                <a:chExt cx="3504960" cy="609480"/>
              </a:xfrm>
            </p:grpSpPr>
            <p:grpSp>
              <p:nvGrpSpPr>
                <p:cNvPr id="432" name=""/>
                <p:cNvGrpSpPr/>
                <p:nvPr/>
              </p:nvGrpSpPr>
              <p:grpSpPr>
                <a:xfrm>
                  <a:off x="914760" y="5867280"/>
                  <a:ext cx="685800" cy="609480"/>
                  <a:chOff x="914760" y="5867280"/>
                  <a:chExt cx="685800" cy="6094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914760" y="5867280"/>
                    <a:ext cx="685800" cy="609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143360" y="6095520"/>
                    <a:ext cx="228600" cy="2282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2210040" y="5867280"/>
                  <a:ext cx="762120" cy="609480"/>
                  <a:chOff x="2210040" y="5867280"/>
                  <a:chExt cx="762120" cy="60948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2210040" y="5867280"/>
                    <a:ext cx="762120" cy="609480"/>
                  </a:xfrm>
                  <a:prstGeom prst="diamond">
                    <a:avLst/>
                  </a:prstGeom>
                  <a:solidFill>
                    <a:srgbClr val="eaeaea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286360" y="6171840"/>
                    <a:ext cx="533520" cy="0"/>
                  </a:xfrm>
                  <a:prstGeom prst="line">
                    <a:avLst/>
                  </a:prstGeom>
                  <a:ln w="31680">
                    <a:solidFill>
                      <a:srgbClr val="333333"/>
                    </a:solidFill>
                    <a:miter/>
                    <a:tailEnd len="med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8" name=""/>
                <p:cNvSpPr/>
                <p:nvPr/>
              </p:nvSpPr>
              <p:spPr>
                <a:xfrm>
                  <a:off x="1600560" y="6172200"/>
                  <a:ext cx="685800" cy="0"/>
                </a:xfrm>
                <a:prstGeom prst="line">
                  <a:avLst/>
                </a:prstGeom>
                <a:ln w="25560">
                  <a:solidFill>
                    <a:srgbClr val="eaeaea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3733920" y="5867280"/>
                  <a:ext cx="685800" cy="609480"/>
                  <a:chOff x="3733920" y="5867280"/>
                  <a:chExt cx="685800" cy="60948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3733920" y="5867280"/>
                    <a:ext cx="685800" cy="609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3885840" y="5943240"/>
                    <a:ext cx="381240" cy="456840"/>
                  </a:xfrm>
                  <a:prstGeom prst="line">
                    <a:avLst/>
                  </a:prstGeom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>
                    <a:off x="3825720" y="5922360"/>
                    <a:ext cx="501480" cy="421200"/>
                  </a:xfrm>
                  <a:prstGeom prst="line">
                    <a:avLst/>
                  </a:prstGeom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3" name=""/>
                <p:cNvSpPr/>
                <p:nvPr/>
              </p:nvSpPr>
              <p:spPr>
                <a:xfrm>
                  <a:off x="3048120" y="6172200"/>
                  <a:ext cx="685800" cy="0"/>
                </a:xfrm>
                <a:prstGeom prst="line">
                  <a:avLst/>
                </a:prstGeom>
                <a:ln w="25560">
                  <a:solidFill>
                    <a:srgbClr val="eaeaea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4" name=""/>
            <p:cNvSpPr/>
            <p:nvPr/>
          </p:nvSpPr>
          <p:spPr>
            <a:xfrm>
              <a:off x="990720" y="6400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8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62320" y="6400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9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86200" y="64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1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590920" y="5028840"/>
              <a:ext cx="0" cy="685800"/>
            </a:xfrm>
            <a:prstGeom prst="line">
              <a:avLst/>
            </a:prstGeom>
            <a:ln w="3492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Ejemplo: Pasteurizad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449" name="Pasteur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4152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pósito y met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90720" y="16765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Propósito: “exponer el producto a una dada temperatura (e.g. 80 grados) por un corto lapso de tiempo (e.g. 3 segundos).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33526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05320" y="2895480"/>
            <a:ext cx="5638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G1-Calentar el producto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G2-Circular el producto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G3-Circular el fluido de calefacció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66680" y="5105520"/>
            <a:ext cx="8077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4-Garantizar la temperatura de exposición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5-Garantizar el tiempo de exposición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6-Garantizar una operación segur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3276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etas básic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666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etas específica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ponent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1-Tanque de producto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2-Bomba de producto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3-Intercambiador de calor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4-Tanque de agua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5-Bomba de agua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6-línea de vapor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7-Válvula de vapor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8-Inyector de vapo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9-Controlad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10-Sensor de temperatura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11-Válvula modulant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rocess%20Plant%20002" descr=""/>
          <p:cNvPicPr/>
          <p:nvPr/>
        </p:nvPicPr>
        <p:blipFill>
          <a:blip r:embed="rId1"/>
          <a:stretch/>
        </p:blipFill>
        <p:spPr>
          <a:xfrm>
            <a:off x="5943600" y="4038480"/>
            <a:ext cx="2925720" cy="2332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alidad y Abstrac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276720"/>
            <a:ext cx="6248520" cy="0"/>
          </a:xfrm>
          <a:prstGeom prst="line">
            <a:avLst/>
          </a:prstGeom>
          <a:ln w="3168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209680"/>
            <a:ext cx="1371600" cy="16002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1371600"/>
            <a:ext cx="53337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¿Relaciones causales? ¿Eventos? ¿Cómo funciona? ¿Para qué:intencionalida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¿Porqué del Diseño? ¿Estructura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3429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Realid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44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Abstrac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70800">
            <a:off x="7352640" y="2476440"/>
            <a:ext cx="1371600" cy="16002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rocess%20Plant%20001" descr=""/>
          <p:cNvPicPr/>
          <p:nvPr/>
        </p:nvPicPr>
        <p:blipFill>
          <a:blip r:embed="rId2"/>
          <a:stretch/>
        </p:blipFill>
        <p:spPr>
          <a:xfrm>
            <a:off x="1219320" y="4038480"/>
            <a:ext cx="3154320" cy="2438640"/>
          </a:xfrm>
          <a:prstGeom prst="rect">
            <a:avLst/>
          </a:prstGeom>
          <a:ln w="0">
            <a:noFill/>
          </a:ln>
        </p:spPr>
      </p:pic>
      <p:pic>
        <p:nvPicPr>
          <p:cNvPr id="113" name="Process%20Plant%20005" descr=""/>
          <p:cNvPicPr/>
          <p:nvPr/>
        </p:nvPicPr>
        <p:blipFill>
          <a:blip r:embed="rId3"/>
          <a:stretch/>
        </p:blipFill>
        <p:spPr>
          <a:xfrm>
            <a:off x="4419720" y="3429000"/>
            <a:ext cx="152388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10280" y="2133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Comprens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ion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1-proveer el producto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2-transportar el producto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3-transferencia de energía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4-proveer energía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5-transporte de energía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6-transporte de agua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7-proveer agua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8-proveer vapo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9-controlar la temperatur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10-transporte de vapor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11-Mezclar vapor con agu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structura del model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0040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7692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05520" y="1981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95480" y="1981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581280" y="2514600"/>
            <a:ext cx="533520" cy="380880"/>
          </a:xfrm>
          <a:prstGeom prst="line">
            <a:avLst/>
          </a:prstGeom>
          <a:ln w="3168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267080" y="2438280"/>
            <a:ext cx="838440" cy="533520"/>
          </a:xfrm>
          <a:prstGeom prst="line">
            <a:avLst/>
          </a:prstGeom>
          <a:ln w="3168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91120" y="1905120"/>
            <a:ext cx="0" cy="457200"/>
          </a:xfrm>
          <a:prstGeom prst="line">
            <a:avLst/>
          </a:prstGeom>
          <a:ln w="3168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5105160" y="2286000"/>
            <a:ext cx="152280" cy="609480"/>
          </a:xfrm>
          <a:prstGeom prst="line">
            <a:avLst/>
          </a:prstGeom>
          <a:ln w="3168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00400" y="2286000"/>
            <a:ext cx="152280" cy="685800"/>
          </a:xfrm>
          <a:prstGeom prst="line">
            <a:avLst/>
          </a:prstGeom>
          <a:ln w="3168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71600" y="3962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F1       F2     F3     F4     F5     F6     F7    F8    F9     F10    F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676520" y="3048120"/>
            <a:ext cx="1676160" cy="99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514600" y="3048120"/>
            <a:ext cx="914400" cy="99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3047760" y="2514600"/>
            <a:ext cx="1143000" cy="1447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657600" y="2514600"/>
            <a:ext cx="533520" cy="1600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67080" y="2514600"/>
            <a:ext cx="0" cy="1600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4952880" y="3048120"/>
            <a:ext cx="76320" cy="99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29200" y="3048120"/>
            <a:ext cx="60948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105520" y="3048120"/>
            <a:ext cx="106668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05520" y="2971800"/>
            <a:ext cx="220968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29200" y="2971800"/>
            <a:ext cx="3048120" cy="1143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1120" y="1752480"/>
            <a:ext cx="2514600" cy="2362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66680" y="5029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1       C2     C3     C4     C5     C6     C7    C8    C9     C10    C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705720" y="419112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781680" y="4191120"/>
            <a:ext cx="609840" cy="99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5720" y="4191120"/>
            <a:ext cx="1295280" cy="99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4191120"/>
            <a:ext cx="1981440" cy="99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562720" y="4267080"/>
            <a:ext cx="1828800" cy="9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267080" y="4267080"/>
            <a:ext cx="1905120" cy="99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3581280" y="4267080"/>
            <a:ext cx="1981440" cy="99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895120" y="4267080"/>
            <a:ext cx="2057400" cy="9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4266720" y="4267080"/>
            <a:ext cx="685800" cy="9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190760" y="4343400"/>
            <a:ext cx="7596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43400" y="4343400"/>
            <a:ext cx="106668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3428640" y="4343400"/>
            <a:ext cx="228600" cy="76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657600" y="4343400"/>
            <a:ext cx="175248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2819160" y="4343400"/>
            <a:ext cx="15228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2057040" y="4191120"/>
            <a:ext cx="304920" cy="99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62320" y="4267080"/>
            <a:ext cx="380880" cy="9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1294920" y="4267080"/>
            <a:ext cx="228600" cy="9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delo func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504" name="Modfunc%2001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858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lanta de Potenc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506" name="boiler00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924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delo func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508" name="boiler01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838080" y="1066680"/>
            <a:ext cx="8305920" cy="5410440"/>
          </a:xfrm>
          <a:prstGeom prst="rect">
            <a:avLst/>
          </a:prstGeom>
          <a:solidFill>
            <a:srgbClr val="f8f8f8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67280" y="5562720"/>
            <a:ext cx="781200" cy="61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a"/>
                </a:solidFill>
                <a:latin typeface="Times New Roman"/>
              </a:rPr>
              <a:t>Pulpa se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51000" y="2927520"/>
            <a:ext cx="838440" cy="10666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ga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86200" y="3048120"/>
            <a:ext cx="2495520" cy="761760"/>
          </a:xfrm>
          <a:prstGeom prst="rect">
            <a:avLst/>
          </a:prstGeom>
          <a:solidFill>
            <a:srgbClr val="b97c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17720" y="3659040"/>
            <a:ext cx="112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84520" y="3193920"/>
            <a:ext cx="126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51000" y="2960640"/>
            <a:ext cx="4190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a"/>
                </a:solidFill>
                <a:latin typeface="Times New Roman"/>
              </a:rPr>
              <a:t>ai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066680" y="3429000"/>
            <a:ext cx="6289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a"/>
                </a:solidFill>
                <a:latin typeface="Times New Roman"/>
              </a:rPr>
              <a:t>Gas natur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108320" y="2765520"/>
            <a:ext cx="688680" cy="98280"/>
            <a:chOff x="4108320" y="2765520"/>
            <a:chExt cx="688680" cy="98280"/>
          </a:xfrm>
        </p:grpSpPr>
        <p:sp>
          <p:nvSpPr>
            <p:cNvPr id="518" name=""/>
            <p:cNvSpPr/>
            <p:nvPr/>
          </p:nvSpPr>
          <p:spPr>
            <a:xfrm>
              <a:off x="4117680" y="2774880"/>
              <a:ext cx="675720" cy="8892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08320" y="2765520"/>
              <a:ext cx="89280" cy="946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07720" y="2765520"/>
              <a:ext cx="89280" cy="946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4108320" y="2697120"/>
            <a:ext cx="514440" cy="58680"/>
          </a:xfrm>
          <a:custGeom>
            <a:avLst/>
            <a:gdLst/>
            <a:ahLst/>
            <a:rect l="l" t="t" r="r" b="b"/>
            <a:pathLst>
              <a:path w="810" h="92">
                <a:moveTo>
                  <a:pt x="0" y="92"/>
                </a:moveTo>
                <a:cubicBezTo>
                  <a:pt x="15" y="58"/>
                  <a:pt x="30" y="24"/>
                  <a:pt x="60" y="17"/>
                </a:cubicBezTo>
                <a:cubicBezTo>
                  <a:pt x="90" y="10"/>
                  <a:pt x="145" y="42"/>
                  <a:pt x="180" y="47"/>
                </a:cubicBezTo>
                <a:cubicBezTo>
                  <a:pt x="215" y="52"/>
                  <a:pt x="240" y="54"/>
                  <a:pt x="270" y="47"/>
                </a:cubicBezTo>
                <a:cubicBezTo>
                  <a:pt x="300" y="40"/>
                  <a:pt x="328" y="0"/>
                  <a:pt x="360" y="2"/>
                </a:cubicBezTo>
                <a:cubicBezTo>
                  <a:pt x="392" y="4"/>
                  <a:pt x="428" y="60"/>
                  <a:pt x="465" y="62"/>
                </a:cubicBezTo>
                <a:cubicBezTo>
                  <a:pt x="502" y="64"/>
                  <a:pt x="543" y="19"/>
                  <a:pt x="585" y="17"/>
                </a:cubicBezTo>
                <a:cubicBezTo>
                  <a:pt x="627" y="15"/>
                  <a:pt x="683" y="40"/>
                  <a:pt x="720" y="47"/>
                </a:cubicBezTo>
                <a:cubicBezTo>
                  <a:pt x="757" y="54"/>
                  <a:pt x="788" y="52"/>
                  <a:pt x="810" y="62"/>
                </a:cubicBezTo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70520" y="281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14800" y="2438280"/>
            <a:ext cx="647640" cy="2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a"/>
                </a:solidFill>
                <a:latin typeface="Times New Roman"/>
              </a:rPr>
              <a:t>pulp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632480" y="2262240"/>
            <a:ext cx="618840" cy="476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6384960" y="1747080"/>
            <a:ext cx="276120" cy="2104920"/>
          </a:xfrm>
          <a:custGeom>
            <a:avLst/>
            <a:gdLst>
              <a:gd name="textAreaLeft" fmla="*/ 60480 w 276120"/>
              <a:gd name="textAreaRight" fmla="*/ 215640 w 276120"/>
              <a:gd name="textAreaTop" fmla="*/ 462960 h 2104920"/>
              <a:gd name="textAreaBottom" fmla="*/ 1641960 h 21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727680" y="1616040"/>
            <a:ext cx="7812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6527880" y="2244240"/>
            <a:ext cx="0" cy="55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705720" y="1447920"/>
            <a:ext cx="8856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a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2401920" y="3627720"/>
            <a:ext cx="230040" cy="225000"/>
            <a:chOff x="2401920" y="3627720"/>
            <a:chExt cx="230040" cy="225000"/>
          </a:xfrm>
        </p:grpSpPr>
        <p:sp>
          <p:nvSpPr>
            <p:cNvPr id="530" name=""/>
            <p:cNvSpPr/>
            <p:nvPr/>
          </p:nvSpPr>
          <p:spPr>
            <a:xfrm flipV="1">
              <a:off x="2428560" y="3631320"/>
              <a:ext cx="0" cy="8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31080" y="3627720"/>
              <a:ext cx="17136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2431080" y="3631320"/>
              <a:ext cx="171360" cy="8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2604960" y="3631320"/>
              <a:ext cx="0" cy="8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16760" y="3673080"/>
              <a:ext cx="0" cy="1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401920" y="3788640"/>
              <a:ext cx="230040" cy="637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430360" y="3017520"/>
            <a:ext cx="230760" cy="225720"/>
            <a:chOff x="2430360" y="3017520"/>
            <a:chExt cx="230760" cy="225720"/>
          </a:xfrm>
        </p:grpSpPr>
        <p:sp>
          <p:nvSpPr>
            <p:cNvPr id="537" name=""/>
            <p:cNvSpPr/>
            <p:nvPr/>
          </p:nvSpPr>
          <p:spPr>
            <a:xfrm flipH="1">
              <a:off x="2633760" y="3153240"/>
              <a:ext cx="360" cy="8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2459880" y="3148560"/>
              <a:ext cx="17136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459520" y="3153240"/>
              <a:ext cx="1720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2457000" y="3152520"/>
              <a:ext cx="360" cy="8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545560" y="3081240"/>
              <a:ext cx="0" cy="1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 rot="10809000">
              <a:off x="2430360" y="3017520"/>
              <a:ext cx="230400" cy="637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2008080" y="25812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08080" y="2620800"/>
            <a:ext cx="4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60560" y="39718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60560" y="4011480"/>
            <a:ext cx="4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05160" y="25938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05160" y="263376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347920" y="39844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347920" y="4024440"/>
            <a:ext cx="4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496960" y="3852720"/>
            <a:ext cx="0" cy="123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68360" y="4119480"/>
            <a:ext cx="66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25600" y="2714760"/>
            <a:ext cx="95400" cy="9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44880" y="2900520"/>
            <a:ext cx="0" cy="285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125800" y="3672000"/>
            <a:ext cx="0" cy="295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5869080" y="4502160"/>
            <a:ext cx="409320" cy="316080"/>
            <a:chOff x="5869080" y="4502160"/>
            <a:chExt cx="409320" cy="316080"/>
          </a:xfrm>
        </p:grpSpPr>
        <p:sp>
          <p:nvSpPr>
            <p:cNvPr id="557" name=""/>
            <p:cNvSpPr/>
            <p:nvPr/>
          </p:nvSpPr>
          <p:spPr>
            <a:xfrm>
              <a:off x="5869080" y="4502160"/>
              <a:ext cx="303480" cy="3049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69080" y="454176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C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894280" y="4068720"/>
            <a:ext cx="409680" cy="316440"/>
            <a:chOff x="5894280" y="4068720"/>
            <a:chExt cx="409680" cy="316440"/>
          </a:xfrm>
        </p:grpSpPr>
        <p:sp>
          <p:nvSpPr>
            <p:cNvPr id="560" name=""/>
            <p:cNvSpPr/>
            <p:nvPr/>
          </p:nvSpPr>
          <p:spPr>
            <a:xfrm>
              <a:off x="5894280" y="4068720"/>
              <a:ext cx="303480" cy="3049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94280" y="410868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 flipV="1">
            <a:off x="6049800" y="3833640"/>
            <a:ext cx="0" cy="247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031080" y="4376880"/>
            <a:ext cx="0" cy="1238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4498920" y="4662360"/>
            <a:ext cx="13701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2459160" y="4300200"/>
            <a:ext cx="0" cy="361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173640" y="46609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22360" y="3978360"/>
            <a:ext cx="303120" cy="304560"/>
          </a:xfrm>
          <a:prstGeom prst="ellipse">
            <a:avLst/>
          </a:prstGeom>
          <a:solidFill>
            <a:srgbClr val="fcab4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46120" y="4017960"/>
            <a:ext cx="4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1753920" y="4129200"/>
            <a:ext cx="199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601640" y="2409840"/>
            <a:ext cx="0" cy="1533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92280" y="2409840"/>
            <a:ext cx="981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73280" y="2409840"/>
            <a:ext cx="0" cy="171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54200" y="2900520"/>
            <a:ext cx="0" cy="114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80240" y="4095720"/>
            <a:ext cx="352440" cy="3031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780240" y="41353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695920" y="2343240"/>
            <a:ext cx="0" cy="1660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384600" y="4249800"/>
            <a:ext cx="39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773760" y="4521240"/>
            <a:ext cx="3463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773760" y="4560840"/>
            <a:ext cx="4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7116840" y="4650840"/>
            <a:ext cx="171360" cy="9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975360" y="4402080"/>
            <a:ext cx="0" cy="104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95680" y="220032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95680" y="2239920"/>
            <a:ext cx="4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92400" y="221292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92400" y="2252520"/>
            <a:ext cx="4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13200" y="2333520"/>
            <a:ext cx="95400" cy="9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60880" y="2028960"/>
            <a:ext cx="0" cy="171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38600" y="2500200"/>
            <a:ext cx="0" cy="300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38600" y="2800440"/>
            <a:ext cx="3938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43240" y="2522520"/>
            <a:ext cx="0" cy="231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959280" y="1216080"/>
            <a:ext cx="0" cy="112248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59280" y="1216080"/>
            <a:ext cx="445608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15360" y="1216080"/>
            <a:ext cx="0" cy="418932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6838560" y="5405400"/>
            <a:ext cx="15764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286240" y="455292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513480" y="5257800"/>
            <a:ext cx="304920" cy="304920"/>
          </a:xfrm>
          <a:prstGeom prst="ellipse">
            <a:avLst/>
          </a:prstGeom>
          <a:solidFill>
            <a:srgbClr val="fcab4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SY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5416200" y="5405400"/>
            <a:ext cx="108900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5407200" y="4792320"/>
            <a:ext cx="0" cy="601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40400" y="2016000"/>
            <a:ext cx="304920" cy="3049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40400" y="2055960"/>
            <a:ext cx="4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2028960"/>
            <a:ext cx="304920" cy="3045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37120" y="2068560"/>
            <a:ext cx="4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57920" y="2149560"/>
            <a:ext cx="95040" cy="9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694480" y="1828800"/>
            <a:ext cx="0" cy="196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4328640" y="4005360"/>
            <a:ext cx="136548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213080" y="4519440"/>
            <a:ext cx="292320" cy="292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Arial"/>
              </a:rPr>
              <a:t>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51320" y="4005360"/>
            <a:ext cx="0" cy="4968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454120" y="4653000"/>
            <a:ext cx="17481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249960" y="2163600"/>
            <a:ext cx="2318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00800" y="3886200"/>
            <a:ext cx="0" cy="2209680"/>
          </a:xfrm>
          <a:prstGeom prst="line">
            <a:avLst/>
          </a:prstGeom>
          <a:ln w="19080">
            <a:solidFill>
              <a:srgbClr val="000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419720" y="3200400"/>
            <a:ext cx="838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ader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tativ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cadero de pulp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281952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 Narrow"/>
              </a:rPr>
              <a:t>Larson, J.E., “Diagnosis based on explicit means-ends models,” Artificial Intelligence, 80, 29-93, 1996. </a:t>
            </a:r>
            <a:r>
              <a:rPr b="1" lang="es-ES" sz="2400" spc="-1" strike="noStrike">
                <a:solidFill>
                  <a:srgbClr val="ccff33"/>
                </a:solidFill>
                <a:latin typeface="Arial Narrow"/>
              </a:rPr>
              <a:t>www.goalart.com/publications</a:t>
            </a:r>
            <a:r>
              <a:rPr b="1" lang="es-ES" sz="2400" spc="-1" strike="noStrike">
                <a:solidFill>
                  <a:srgbClr val="eaeaea"/>
                </a:solidFill>
                <a:latin typeface="Arial Narrow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12193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 Narrow"/>
              </a:rPr>
              <a:t>Lind, M. “Modeling goals and functions of complex industrial plants,” Applied Artificial Intelligence, Vol. 8, No. 2, 1994, www.iau.dtu.dk/~m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14400" y="40384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 Narrow"/>
              </a:rPr>
              <a:t>Petersen, J. “Knowledge based support for situation  assessment in human supervisory control,” PhD Thesis, DUT, 2000, www.iau.dtu.dk/~jop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90720" y="5410080"/>
            <a:ext cx="7467480" cy="9907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1"/>
              </a:rPr>
              <a:t>Larsson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2"/>
              </a:rPr>
              <a:t>, J. E., "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3"/>
              </a:rPr>
              <a:t>Diagnostic Reasoning Based on Means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4"/>
              </a:rPr>
              <a:t>-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5"/>
              </a:rPr>
              <a:t>End Models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6"/>
              </a:rPr>
              <a:t>: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7"/>
              </a:rPr>
              <a:t> Experiences and Future Prospects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8"/>
              </a:rPr>
              <a:t>,"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9"/>
              </a:rPr>
              <a:t> 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10"/>
              </a:rPr>
              <a:t>Knowledge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11"/>
              </a:rPr>
              <a:t>-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12"/>
              </a:rPr>
              <a:t>Based Systems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13"/>
              </a:rPr>
              <a:t>,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14"/>
              </a:rPr>
              <a:t> vol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15"/>
              </a:rPr>
              <a:t>. 15, no. 1-2, pp. 103-110, 2002.</a:t>
            </a:r>
            <a:br>
              <a:rPr sz="2000"/>
            </a:br>
            <a:r>
              <a:rPr b="0" lang="es-E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ccff33"/>
                </a:solidFill>
                <a:latin typeface="Arial Narrow"/>
              </a:rPr>
              <a:t>www.goalart.com/publications</a:t>
            </a:r>
            <a:r>
              <a:rPr b="1" lang="es-ES" sz="2400" spc="-1" strike="noStrike">
                <a:solidFill>
                  <a:srgbClr val="eaeaea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&amp;ID: Planta de destila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distillation%20P&amp;ID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716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838080" y="1523880"/>
            <a:ext cx="8077320" cy="4800240"/>
            <a:chOff x="838080" y="1523880"/>
            <a:chExt cx="8077320" cy="4800240"/>
          </a:xfrm>
        </p:grpSpPr>
        <p:sp>
          <p:nvSpPr>
            <p:cNvPr id="118" name=""/>
            <p:cNvSpPr/>
            <p:nvPr/>
          </p:nvSpPr>
          <p:spPr>
            <a:xfrm>
              <a:off x="838080" y="1523880"/>
              <a:ext cx="8077320" cy="4800240"/>
            </a:xfrm>
            <a:prstGeom prst="rect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19" name="Plantita" descr=""/>
            <p:cNvPicPr/>
            <p:nvPr/>
          </p:nvPicPr>
          <p:blipFill>
            <a:blip r:embed="rId1"/>
            <a:stretch/>
          </p:blipFill>
          <p:spPr>
            <a:xfrm>
              <a:off x="914400" y="1833480"/>
              <a:ext cx="7848360" cy="394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Del flowsheet al PI&amp;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1" name="P&amp;ID%20001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8077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dios y fines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3581280"/>
            <a:ext cx="4038840" cy="0"/>
          </a:xfrm>
          <a:prstGeom prst="line">
            <a:avLst/>
          </a:prstGeom>
          <a:ln w="57240">
            <a:solidFill>
              <a:srgbClr val="cc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3276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To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3352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Par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1981080"/>
            <a:ext cx="0" cy="3353040"/>
          </a:xfrm>
          <a:prstGeom prst="line">
            <a:avLst/>
          </a:prstGeom>
          <a:ln w="57240">
            <a:solidFill>
              <a:srgbClr val="ff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 Narrow"/>
              </a:rPr>
              <a:t>Funcion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 Narrow"/>
              </a:rPr>
              <a:t>Compone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5334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Medi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 Narrow"/>
              </a:rPr>
              <a:t>Metas y objetiv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 Narrow"/>
              </a:rPr>
              <a:t>Propósi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91120" y="1523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Fi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delo Func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inición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 modelo funcional es una descripción teleológica de un proceso que explicita el propósito (fin) para el que fue concebido, como (diseño) persigue el logro de tal propósito y con que recursos (medios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886200"/>
            <a:ext cx="72392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Metas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y 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objetivos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relacionados con el propósito, 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Componentes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físicos y sus 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interconexiones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952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Funciones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que deben desempeñarse para lograrlo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0920" y="6019920"/>
            <a:ext cx="64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Componentes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físicos y sus 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interconexiones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Relaciones 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9000" y="274320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etas y objetiv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1905120"/>
            <a:ext cx="5486400" cy="3047760"/>
            <a:chOff x="1600200" y="1905120"/>
            <a:chExt cx="5486400" cy="3047760"/>
          </a:xfrm>
        </p:grpSpPr>
        <p:sp>
          <p:nvSpPr>
            <p:cNvPr id="141" name=""/>
            <p:cNvSpPr/>
            <p:nvPr/>
          </p:nvSpPr>
          <p:spPr>
            <a:xfrm>
              <a:off x="2819520" y="4724280"/>
              <a:ext cx="228600" cy="228600"/>
            </a:xfrm>
            <a:prstGeom prst="plus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600200" y="1905120"/>
              <a:ext cx="5486400" cy="3047760"/>
              <a:chOff x="1600200" y="1905120"/>
              <a:chExt cx="5486400" cy="3047760"/>
            </a:xfrm>
          </p:grpSpPr>
          <p:sp>
            <p:nvSpPr>
              <p:cNvPr id="143" name=""/>
              <p:cNvSpPr/>
              <p:nvPr/>
            </p:nvSpPr>
            <p:spPr>
              <a:xfrm>
                <a:off x="4648320" y="3200400"/>
                <a:ext cx="1676160" cy="68580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4114800" y="4114800"/>
                <a:ext cx="990720" cy="68580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91120" y="4114800"/>
                <a:ext cx="2743200" cy="76212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600200" y="1905120"/>
                <a:ext cx="5486400" cy="3047760"/>
                <a:chOff x="1600200" y="1905120"/>
                <a:chExt cx="5486400" cy="3047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352680" y="2895480"/>
                  <a:ext cx="304920" cy="30492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419720" y="2895480"/>
                  <a:ext cx="304560" cy="30492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486400" y="2895480"/>
                  <a:ext cx="304920" cy="30492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666880" y="3809880"/>
                  <a:ext cx="381240" cy="30492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99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886200" y="3809880"/>
                  <a:ext cx="380880" cy="30492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99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029200" y="3809880"/>
                  <a:ext cx="380880" cy="30492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99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172200" y="3809880"/>
                  <a:ext cx="380880" cy="30492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99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733920" y="4724280"/>
                  <a:ext cx="457200" cy="228600"/>
                </a:xfrm>
                <a:prstGeom prst="plus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648320" y="4724280"/>
                  <a:ext cx="457200" cy="228600"/>
                </a:xfrm>
                <a:prstGeom prst="plus">
                  <a:avLst>
                    <a:gd name="adj" fmla="val 25000"/>
                  </a:avLst>
                </a:prstGeom>
                <a:solidFill>
                  <a:srgbClr val="cc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638680" y="4724280"/>
                  <a:ext cx="228600" cy="228600"/>
                </a:xfrm>
                <a:prstGeom prst="plus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781680" y="4648320"/>
                  <a:ext cx="304920" cy="304560"/>
                </a:xfrm>
                <a:prstGeom prst="plus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" name=""/>
                <p:cNvGrpSpPr/>
                <p:nvPr/>
              </p:nvGrpSpPr>
              <p:grpSpPr>
                <a:xfrm>
                  <a:off x="1600200" y="4724280"/>
                  <a:ext cx="685800" cy="228600"/>
                  <a:chOff x="1600200" y="4724280"/>
                  <a:chExt cx="685800" cy="228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1600200" y="4724280"/>
                    <a:ext cx="228600" cy="228600"/>
                  </a:xfrm>
                  <a:prstGeom prst="plus">
                    <a:avLst>
                      <a:gd name="adj" fmla="val 25000"/>
                    </a:avLst>
                  </a:prstGeom>
                  <a:solidFill>
                    <a:srgbClr val="ccffcc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828800" y="4724280"/>
                    <a:ext cx="457200" cy="228600"/>
                  </a:xfrm>
                  <a:prstGeom prst="plus">
                    <a:avLst>
                      <a:gd name="adj" fmla="val 25000"/>
                    </a:avLst>
                  </a:prstGeom>
                  <a:solidFill>
                    <a:srgbClr val="ccffcc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 flipH="1">
                  <a:off x="3581280" y="2133720"/>
                  <a:ext cx="914400" cy="838080"/>
                </a:xfrm>
                <a:prstGeom prst="line">
                  <a:avLst/>
                </a:prstGeom>
                <a:ln w="28440">
                  <a:solidFill>
                    <a:srgbClr val="cc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572000" y="2209680"/>
                  <a:ext cx="0" cy="685800"/>
                </a:xfrm>
                <a:prstGeom prst="line">
                  <a:avLst/>
                </a:prstGeom>
                <a:ln w="28440">
                  <a:solidFill>
                    <a:srgbClr val="cc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648320" y="2133720"/>
                  <a:ext cx="990360" cy="838080"/>
                </a:xfrm>
                <a:prstGeom prst="line">
                  <a:avLst/>
                </a:prstGeom>
                <a:ln w="28440">
                  <a:solidFill>
                    <a:srgbClr val="cc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19720" y="1905120"/>
                  <a:ext cx="304560" cy="3045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cab40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3048120" y="312408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>
                  <a:off x="2286000" y="411480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819520" y="4114800"/>
                  <a:ext cx="75960" cy="6858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048120" y="4114800"/>
                  <a:ext cx="838080" cy="76212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4114800" y="320040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5257800" y="320040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715000" y="3124080"/>
                  <a:ext cx="685800" cy="6858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4952520" y="4114800"/>
                  <a:ext cx="1219320" cy="6858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5714640" y="4114800"/>
                  <a:ext cx="609480" cy="60948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038480" y="4038480"/>
                  <a:ext cx="0" cy="6858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34120" y="4191120"/>
                  <a:ext cx="380880" cy="53316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 flipH="1">
              <a:off x="3048120" y="3124080"/>
              <a:ext cx="380880" cy="6858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261760" y="19051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pósi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6720" y="37339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uncion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6920" y="457200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mpone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54864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ipos de relaciones: </a:t>
            </a: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logro o alcance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condición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y </a:t>
            </a:r>
            <a:r>
              <a:rPr b="0" lang="en-US" sz="2800" spc="-1" strike="noStrike">
                <a:solidFill>
                  <a:srgbClr val="ccffcc"/>
                </a:solidFill>
                <a:latin typeface="Arial Narrow"/>
              </a:rPr>
              <a:t>realización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tas y objetiv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67652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inición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a meta u objetivo es la resultante o “output” que se pretende lograr mediante la realización de ciertas actividades en un proces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3886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etas de producción: </a:t>
            </a:r>
            <a:r>
              <a:rPr b="1" lang="en-US" sz="2800" spc="-1" strike="noStrike">
                <a:solidFill>
                  <a:srgbClr val="ccff33"/>
                </a:solidFill>
                <a:latin typeface="Arial Narrow"/>
              </a:rPr>
              <a:t>megavatios en una central nuclear o térmic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48006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etas de seguridad: </a:t>
            </a:r>
            <a:r>
              <a:rPr b="1" lang="en-US" sz="2800" spc="-1" strike="noStrike">
                <a:solidFill>
                  <a:srgbClr val="ccff33"/>
                </a:solidFill>
                <a:latin typeface="Arial Narrow"/>
              </a:rPr>
              <a:t>emisiones “cero” de radioactividad o monóxido de carbon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5867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etas económicas: </a:t>
            </a:r>
            <a:r>
              <a:rPr b="1" lang="en-US" sz="2800" spc="-1" strike="noStrike">
                <a:solidFill>
                  <a:srgbClr val="ccff33"/>
                </a:solidFill>
                <a:latin typeface="Arial Narrow"/>
              </a:rPr>
              <a:t>Minimizar las pérdidas de energías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71720" y="270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67652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inición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a función es el rol que un componente, parte o conjunto de ellas tienen en la consecución o logro de una me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335268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a representación funcional de un proceso esta compuesta por un conjunto de 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estructuras de flujo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vinculadas por relaciones con las metas y component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502920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as estructuras de flujo son agrupaciones homogéneas de funciones que describen como se movilizan la materia, la energía y la información en un proceso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9:26:50Z</dcterms:created>
  <dc:creator>ernesto</dc:creator>
  <dc:description/>
  <dc:language>en-US</dc:language>
  <cp:lastModifiedBy>ernesto</cp:lastModifiedBy>
  <dcterms:modified xsi:type="dcterms:W3CDTF">2003-04-29T07:20:46Z</dcterms:modified>
  <cp:revision>70</cp:revision>
  <dc:subject/>
  <dc:title>MODELADO FUNCIONAL DE PROCESOS</dc:title>
</cp:coreProperties>
</file>