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9C5-B3E7-4858-A5A6-E7474E15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3EE-626D-4F34-A53A-845D56B7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C02-F138-41AD-8151-8BF97A01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3DE-FA8F-4ED0-A613-D4DEDC1C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DDC1-6D66-4932-9FF6-9CD37FC3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EBD5-4ACB-46A4-B6E6-7D95167B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FA20-8F96-47E8-9858-19DB5BEF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1657-F5BF-48EA-A6C4-0FB6B74F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3922-C6CF-4C56-A9C8-31919E7C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D086-5585-4907-A01E-21544756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AA02-CAE0-463D-9834-264B2851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85A-6242-4C84-BC97-8ED8ECA1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3C87-5BB7-4ABD-A613-983F6161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7B02-BE4F-4355-804F-597A6ABB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07D4-3A59-4FF3-AE75-1615DEB7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3287-470C-43BA-97FD-BC44B4F3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48DD-EF30-4800-B017-24D4B3D3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422-3CC5-4A97-AFB3-67B8076A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D27-4CF4-40A3-82CA-F89F6306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A8C-B518-4CB2-A187-979F7014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033-6833-4BD7-8C0A-CD1A84F4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D79-4404-4B53-B3EF-A62CEF2A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7E0-2975-4244-9EA3-4082C028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F80-F943-49F9-937C-4B002AFD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CD10-A946-4027-93C5-D66399D3202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D386-8287-49F0-9CCA-2C41CF15B8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sa.cie.uva.es/~prada/" TargetMode="External"/><Relationship Id="rId2" Type="http://schemas.openxmlformats.org/officeDocument/2006/relationships/hyperlink" Target="http://www.isa.cie.uva.es/~prada/" TargetMode="External"/><Relationship Id="rId3" Type="http://schemas.openxmlformats.org/officeDocument/2006/relationships/hyperlink" Target="mailto:prada@autom.uva.es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prada@autom.uva.es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sa.cie.uva.es/~prada/" TargetMode="External"/><Relationship Id="rId2" Type="http://schemas.openxmlformats.org/officeDocument/2006/relationships/hyperlink" Target="http://www.isa.cie.uva.es/~prada/" TargetMode="External"/><Relationship Id="rId3" Type="http://schemas.openxmlformats.org/officeDocument/2006/relationships/hyperlink" Target="http://www.isa.cie.uva.es/~prada/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ptimización de Proceso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of. Cesar de Prad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Dpto. de Ingeniería de Sistemas y Automátic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UV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ada@autom.uva.e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SE Process Systems Engineering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2743200"/>
            <a:ext cx="7772400" cy="34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a asignatura se inserta dentro del campo denominado PSE (Ingeniera de Sistemas de Proces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cess Systems Engineering (PSE) trata del desarrollo de métodos y herramentas basadas en ordenador para realizar un tratamiento integrado de todos los aspectos de modelado, simulación, diseño, operación control y gestión de las industrias de proces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s una área multidisciplinar, donde colaboran desde la ingeniería química, electrica, control, etc. a las matemáticas aplicadas, las ciencias básicas (química, física, biología,..) y en particular la informáti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ejempl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549360"/>
            <a:ext cx="936360" cy="1295280"/>
          </a:xfrm>
          <a:prstGeom prst="flowChartMagneticDisk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6720" y="1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260280"/>
            <a:ext cx="93636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56360" y="112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9080" y="69228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2421000"/>
            <a:ext cx="35290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contrar las dimensiones de un tanque cilíndrico abierto de modo que tenga un volumen de 6 m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y área míni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32720" y="189000"/>
            <a:ext cx="133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Variabl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V volum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 diáme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 altu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 are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422100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4005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nción a minimizar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 =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h+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¼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d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3860640"/>
            <a:ext cx="2054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laciones entre variabl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V =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¼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d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h = 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80000" y="522936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ímit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≥ 0  ,  h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≥ 0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012000" y="3944880"/>
                <a:ext cx="2376360" cy="22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jeto</m:t>
                        </m:r>
                        <m:r>
                          <m:rPr>
                            <m:lit/>
                            <m:nor/>
                          </m:rPr>
                          <m:t xml:space="preserve"> a:</m:t>
                        </m:r>
                      </m:e>
                      <m:e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227640" y="3500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mulación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522936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ados de libertad: número de variables – numero de ecuaciones independientes: 2-1=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6237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os : V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ejempl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187280" y="3079800"/>
                <a:ext cx="2376720" cy="22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jeto</m:t>
                        </m:r>
                        <m:r>
                          <m:rPr>
                            <m:lit/>
                            <m:nor/>
                          </m:rPr>
                          <m:t xml:space="preserve"> a:</m:t>
                        </m:r>
                      </m:e>
                      <m:e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788000" y="549360"/>
            <a:ext cx="936360" cy="1295280"/>
          </a:xfrm>
          <a:prstGeom prst="flowChartMagneticDisk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1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260280"/>
            <a:ext cx="93636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112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9080" y="69228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11640" y="270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421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olución analítica, (normalmente no es posible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284720" y="3141720"/>
                <a:ext cx="4465440" cy="34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=</m:t>
                        </m:r>
                        <m:r>
                          <m:t xml:space="preserve">πd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ea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8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116000" y="5661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nsibilidad: ¿Cuánto cambia la solución si el volumen cambia un 1%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2565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 grado de libert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ejemplo más realist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1280" y="549360"/>
            <a:ext cx="936720" cy="1295280"/>
          </a:xfrm>
          <a:prstGeom prst="flowChartMagneticDisk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80360" y="1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1280" y="260280"/>
            <a:ext cx="93672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459640" y="112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172360" y="69228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2421000"/>
            <a:ext cx="3529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ncontrar las dimensiones de un tanque cilíndrico abierto de modo que tenga un volumen de 6 m</a:t>
            </a:r>
            <a:r>
              <a:rPr b="0" lang="es-ES" sz="18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y coste mínimo suponiendo que el espesor 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  <a:ea typeface="Arial"/>
              </a:rPr>
              <a:t>ε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 y el coste) depende de d según: 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ε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=0.0001d + 0.0004 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7640" y="4508640"/>
            <a:ext cx="133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Variabl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V volum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 diáme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 altu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 are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16360" y="422100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508640"/>
            <a:ext cx="2054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laciones entre variabl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V =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¼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d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h = 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566100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ímit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≥ 0  ,  h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≥ 0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638600" y="2492280"/>
                <a:ext cx="4308480" cy="22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pρ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jeto</m:t>
                        </m:r>
                        <m:r>
                          <m:rPr>
                            <m:lit/>
                            <m:nor/>
                          </m:rPr>
                          <m:t xml:space="preserve"> a:</m:t>
                        </m:r>
                      </m:e>
                      <m:e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788000" y="5013360"/>
            <a:ext cx="3671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 es el precio en € por kg de chapa emplea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l factor 10</a:t>
            </a:r>
            <a:r>
              <a:rPr b="0" lang="es-ES" sz="1800" spc="-1" strike="noStrike" baseline="30000">
                <a:solidFill>
                  <a:srgbClr val="003366"/>
                </a:solidFill>
                <a:latin typeface="Arial"/>
              </a:rPr>
              <a:t>-4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  <a:ea typeface="Arial"/>
              </a:rPr>
              <a:t>ρ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no afecta a la optimización y puede eliminars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ejemplo mas realist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91280" y="549360"/>
            <a:ext cx="936720" cy="1295280"/>
          </a:xfrm>
          <a:prstGeom prst="flowChartMagneticDisk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80360" y="1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1280" y="260280"/>
            <a:ext cx="93672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459640" y="112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72360" y="69228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16360" y="422100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57480" y="2349360"/>
                <a:ext cx="3446280" cy="22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jeto</m:t>
                        </m:r>
                        <m:r>
                          <m:rPr>
                            <m:lit/>
                            <m:nor/>
                          </m:rPr>
                          <m:t xml:space="preserve"> a:</m:t>
                        </m:r>
                      </m:e>
                      <m:e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492360" y="2492280"/>
                <a:ext cx="5329440" cy="29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πd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ea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/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492360" y="57340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 tiene solución analítica directa y debe resolverse por métodos numéric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4941720"/>
            <a:ext cx="22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uede ser mas aconsejable una solución numérica directa del problema de optim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jemplo: Planificación de la produc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95640" y="2635200"/>
            <a:ext cx="576000" cy="86508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3643200"/>
            <a:ext cx="576000" cy="865440"/>
          </a:xfrm>
          <a:prstGeom prst="can">
            <a:avLst>
              <a:gd name="adj" fmla="val 25000"/>
            </a:avLst>
          </a:prstGeom>
          <a:solidFill>
            <a:srgbClr val="ccff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95640" y="4724280"/>
            <a:ext cx="576000" cy="86544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306864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4076640"/>
            <a:ext cx="1440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5372280"/>
            <a:ext cx="1366920" cy="0"/>
          </a:xfrm>
          <a:prstGeom prst="line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74920" y="386064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4920" y="494028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4920" y="3068640"/>
            <a:ext cx="0" cy="18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335592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8920" y="5156280"/>
            <a:ext cx="9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58920" y="335592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3643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494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71640" y="3068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4076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515628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87640" y="2563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14560" y="3643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14560" y="4651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57340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Qué cantidades producir para maximizar el benefico diar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780000" y="2421000"/>
          <a:ext cx="5154480" cy="2305080"/>
        </p:xfrm>
        <a:graphic>
          <a:graphicData uri="http://schemas.openxmlformats.org/drawingml/2006/table">
            <a:tbl>
              <a:tblPr/>
              <a:tblGrid>
                <a:gridCol w="1098360"/>
                <a:gridCol w="772920"/>
                <a:gridCol w="792360"/>
                <a:gridCol w="792000"/>
                <a:gridCol w="792360"/>
                <a:gridCol w="90648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g A / K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g B  / K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g C / K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ste fabric € / K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ecio € /K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780000" y="4869000"/>
          <a:ext cx="4632120" cy="1734840"/>
        </p:xfrm>
        <a:graphic>
          <a:graphicData uri="http://schemas.openxmlformats.org/drawingml/2006/table">
            <a:tbl>
              <a:tblPr/>
              <a:tblGrid>
                <a:gridCol w="1544400"/>
                <a:gridCol w="1623960"/>
                <a:gridCol w="1463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ibilidad Kg /di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ste € /K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55640" y="76500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jemplo: Planificación de la producció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5640" y="2635200"/>
            <a:ext cx="576000" cy="86508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3643200"/>
            <a:ext cx="576000" cy="865440"/>
          </a:xfrm>
          <a:prstGeom prst="can">
            <a:avLst>
              <a:gd name="adj" fmla="val 25000"/>
            </a:avLst>
          </a:prstGeom>
          <a:solidFill>
            <a:srgbClr val="ccff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4724280"/>
            <a:ext cx="576000" cy="86544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306864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4076640"/>
            <a:ext cx="1440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5373720"/>
            <a:ext cx="1366920" cy="0"/>
          </a:xfrm>
          <a:prstGeom prst="line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4920" y="386064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4920" y="494028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74920" y="3068640"/>
            <a:ext cx="0" cy="18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335592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5156280"/>
            <a:ext cx="9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335592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0000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3643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494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71640" y="3068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71640" y="4076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515628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87640" y="2563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14560" y="3643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14560" y="4651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42920" y="5877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bjetivo: Maximizar el benefico diar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637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3429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19280" y="450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00000" y="3284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63640" y="40053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00000" y="450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32000" y="537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2781360"/>
            <a:ext cx="446400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Variables: x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 Kg /dia procesados en las unidades de cada materi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, B, C  Kg / dia de materi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, F, G  Kg/dia de produc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eneficio /dia = ventas – costes procesado –costes materiales =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4E+3F+3.7G) – (1.5E+0.5F+G) – (1.5A+2B+2.5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55640" y="76500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jemplo: Planificación de la producció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2635200"/>
            <a:ext cx="576000" cy="86508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95640" y="3643200"/>
            <a:ext cx="576000" cy="865440"/>
          </a:xfrm>
          <a:prstGeom prst="can">
            <a:avLst>
              <a:gd name="adj" fmla="val 25000"/>
            </a:avLst>
          </a:prstGeom>
          <a:solidFill>
            <a:srgbClr val="ccff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95640" y="4724280"/>
            <a:ext cx="576000" cy="86544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306864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5640" y="4076640"/>
            <a:ext cx="1440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6920" y="5373720"/>
            <a:ext cx="1366920" cy="0"/>
          </a:xfrm>
          <a:prstGeom prst="line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74920" y="386064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4920" y="494028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74920" y="3068640"/>
            <a:ext cx="0" cy="18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335592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58920" y="5156280"/>
            <a:ext cx="9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58920" y="335592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4360" y="37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71640" y="3068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1640" y="4076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71640" y="515628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2563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14560" y="3643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14560" y="4651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42920" y="5877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bjetivo: Maximizar el beneficio diar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19280" y="2637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92360" y="3429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19280" y="450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3284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63640" y="40053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450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0" y="537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780000" y="2708280"/>
                <a:ext cx="5222880" cy="33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E+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0000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755640" y="76500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jemplo: Planificación de la producció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95640" y="2635200"/>
            <a:ext cx="576000" cy="86508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95640" y="3643200"/>
            <a:ext cx="576000" cy="865440"/>
          </a:xfrm>
          <a:prstGeom prst="can">
            <a:avLst>
              <a:gd name="adj" fmla="val 25000"/>
            </a:avLst>
          </a:prstGeom>
          <a:solidFill>
            <a:srgbClr val="ccff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95640" y="4724280"/>
            <a:ext cx="576000" cy="86544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6920" y="306864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4076640"/>
            <a:ext cx="1440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6920" y="5373720"/>
            <a:ext cx="1366920" cy="0"/>
          </a:xfrm>
          <a:prstGeom prst="line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74920" y="386064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74920" y="494028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4920" y="3068640"/>
            <a:ext cx="0" cy="18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58920" y="335592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58920" y="5156280"/>
            <a:ext cx="9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58920" y="335592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4360" y="37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3068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71640" y="4076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1640" y="515628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2563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14560" y="3643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651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42920" y="5877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bjetivo: Maximizar el beneficio diar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9280" y="2637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92360" y="3429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50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3284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63640" y="40053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0000" y="450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32000" y="537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659640" y="436572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 variables – 10 ecuaciones = 3 grados de libert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732720" y="5516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 es factible una solución analí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780000" y="2421000"/>
                <a:ext cx="5222880" cy="33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E+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0000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52480" y="4572000"/>
            <a:ext cx="266724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Optimización numérica de funcio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24000" y="3141720"/>
            <a:ext cx="1828800" cy="6094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2438280"/>
            <a:ext cx="0" cy="21337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80880" y="4572000"/>
            <a:ext cx="1371600" cy="10666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4876920"/>
            <a:ext cx="0" cy="533160"/>
          </a:xfrm>
          <a:prstGeom prst="line">
            <a:avLst/>
          </a:prstGeom>
          <a:ln w="1260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059280" y="4581000"/>
            <a:ext cx="761760" cy="838440"/>
          </a:xfrm>
          <a:prstGeom prst="line">
            <a:avLst/>
          </a:prstGeom>
          <a:ln w="1260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84000" y="5445000"/>
            <a:ext cx="2361960" cy="0"/>
          </a:xfrm>
          <a:prstGeom prst="line">
            <a:avLst/>
          </a:prstGeom>
          <a:ln w="1260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35280" y="2421000"/>
            <a:ext cx="144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J(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, 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1800" y="55688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5105520"/>
            <a:ext cx="1600200" cy="53316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08000" y="4941720"/>
            <a:ext cx="2362320" cy="9144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14600" y="5257800"/>
            <a:ext cx="1066680" cy="2286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15000" y="2209680"/>
            <a:ext cx="0" cy="198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388620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37880" y="38163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56640" y="23558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48520" y="2514600"/>
            <a:ext cx="2133360" cy="914400"/>
          </a:xfrm>
          <a:prstGeom prst="ellipse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477120" y="2666880"/>
            <a:ext cx="1676160" cy="685800"/>
          </a:xfrm>
          <a:prstGeom prst="ellipse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81680" y="2819520"/>
            <a:ext cx="685800" cy="380880"/>
          </a:xfrm>
          <a:prstGeom prst="ellipse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44" name=""/>
          <p:cNvCxnSpPr>
            <a:stCxn id="345" idx="4"/>
            <a:endCxn id="346" idx="3"/>
          </p:cNvCxnSpPr>
          <p:nvPr/>
        </p:nvCxnSpPr>
        <p:spPr>
          <a:xfrm flipH="1">
            <a:off x="8163720" y="2133360"/>
            <a:ext cx="104040" cy="903960"/>
          </a:xfrm>
          <a:prstGeom prst="straightConnector1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46" idx="2"/>
            <a:endCxn id="348" idx="4"/>
          </p:cNvCxnSpPr>
          <p:nvPr/>
        </p:nvCxnSpPr>
        <p:spPr>
          <a:xfrm flipH="1" flipV="1">
            <a:off x="7353000" y="2742840"/>
            <a:ext cx="800640" cy="267120"/>
          </a:xfrm>
          <a:prstGeom prst="straightConnector1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8" idx="6"/>
            <a:endCxn id="350" idx="7"/>
          </p:cNvCxnSpPr>
          <p:nvPr/>
        </p:nvCxnSpPr>
        <p:spPr>
          <a:xfrm flipH="1">
            <a:off x="7151400" y="2704680"/>
            <a:ext cx="240480" cy="126360"/>
          </a:xfrm>
          <a:prstGeom prst="straightConnector1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8229600" y="2057400"/>
            <a:ext cx="76320" cy="7632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153280" y="2971800"/>
            <a:ext cx="76320" cy="7632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2666880"/>
            <a:ext cx="76320" cy="7632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86600" y="2819520"/>
            <a:ext cx="76320" cy="759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4343400"/>
            <a:ext cx="1828800" cy="51012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k+1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= 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+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1" lang="es-ES_tradnl" sz="2400" spc="-1" strike="noStrike" baseline="-25000">
                <a:solidFill>
                  <a:srgbClr val="0033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99400" y="4121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10080" y="5029200"/>
            <a:ext cx="3200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Métodos itera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 dirección de búsqueda 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 longitud del pas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456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1" lang="es-ES_tradnl" sz="2400" spc="-1" strike="noStrike" baseline="-25000">
                <a:solidFill>
                  <a:srgbClr val="0033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2133720"/>
            <a:ext cx="0" cy="2872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115640" y="5084640"/>
            <a:ext cx="1152360" cy="0"/>
          </a:xfrm>
          <a:prstGeom prst="line">
            <a:avLst/>
          </a:prstGeom>
          <a:ln w="1260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195640" y="4581360"/>
            <a:ext cx="504720" cy="503280"/>
          </a:xfrm>
          <a:prstGeom prst="line">
            <a:avLst/>
          </a:prstGeom>
          <a:ln w="1260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95640" y="5084640"/>
            <a:ext cx="504720" cy="14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timización de Proces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Troncal, 5º Curso de Ingeniería Quím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ocimientos previos: Matemáticas / Pro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2º cuatrimestre       4.5 (3+1.5) créditos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2 horas teoria           Lunes, Martes, 13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1 hora  laboratorio  Lunes 4-5 h / 5-6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of. Cesar de Prada / Gloria Gutierre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Web:  </a:t>
            </a:r>
            <a:r>
              <a:rPr b="0" lang="es-ES_tradnl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1"/>
              </a:rPr>
              <a:t>www.isa.cie.uva.es/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2"/>
              </a:rPr>
              <a:t>~prada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-mail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3"/>
              </a:rPr>
              <a:t>prada@autom.uva.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Moodle: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://docenweb.isa.cie.uva.es/moodle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render a analizar y formular problemas de optim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onocer los distintos tipos de problemas matemáticos de optim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ocer los fundamentos de los algoritmos de resolución numé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render a utilizar software de optim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licarlo a la resolución de algunos problemas típicos de la industria de pro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gra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roducción, Conceptos bás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timización sin restric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timización con restric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ptos, Funciones de pena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LP, Optimización estocás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blemas híbridos, MIL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ificación y secuenciamiento de procesos bat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licaciones en diseño y operación de pro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orator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946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ala de ordenador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2 grup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oolbox de optimización de Matla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GA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ntrega de práctic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oolbox de optimización de Matlab, problemas sin restriccion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GAMS,  Problemas LP, NL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blemas de diseño y operación óptima (GAM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Valoración: 30% de la nota final para quienes tengan al menos un 4 en el exam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26002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bliograf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Optimization of Chemical Processes, T.F. Edgar, D.M. Himmenblau, L.S. Lasdon, McGraw Hill, 2ª edición, 2001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Systematic Methods of Chemical Process Design, L.T. Biegler, I.E. Grossmann, A.W. Westerberg, Prentice Hall 1997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Engineering Optimization, G.V. Reklaitis, A. Ravindran, K.M. Ragsdell, J. Wiley 198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actical Methods of Optimization, R. Fletcher, J. Wiley, 2ª edición, 199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Model Building in Mathematical Programming, H.P. Williams, J. Willey 4ª edic., 20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Non-linear and Mix-Integer Optimization, C. A. Floudas, Edt. Oxford Univ. Press, 199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strategias de Modelado, Simulación y Optimización de Procesos Químicos, L. Puigjaner, P. Ollero, C. de Prada, L. Jimenez, Edt. Síntesis, 200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ocumentación adicional en página web: http://www.isa.cie.uva.es/~prada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tividades complementaria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2362320"/>
            <a:ext cx="7693200" cy="43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Visit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Esta prevista una visita a una instalación industrial  en cooperación con la sección de estudiantes de la ISA (Refinería de Petronor) 8 Mayo 200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ferencia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valu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Calificación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xamen. Dos partes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2 problem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Prácticas  30% para quienes aprueben el exam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xámenes:  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굴림"/>
              </a:rPr>
              <a:t>20 de  Junio  2008 /    10 de Septiembre  2008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utoria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spacho en el Dpto.de Ingenieria de Sistemas y Automátic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rreo electronico: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rada@autom.uva.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gloria@autom.uva.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Proyectos Fin de carr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ay proyectos o trabajos de investigación disponibles para quienes quieran realizarlos en I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mas en </a:t>
            </a: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isa.cie.uva.es/~prada</a:t>
            </a: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articipación en proyectos de investigación del departamento: Petronor, CERN, HYCON, OPEN-GAIN, EA, CTA etc. sobre temas de optimización, modelado y simulacion, control avanzado, gestión de redes,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oyectos con plantas piloto en el laborator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ignaturas complementar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trol por computa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ormática aplicada a la Ingeniería Quím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istemas de supervisión de proce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Asignatura de libre configuració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Simulación de sistemas dinám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780000" y="4959360"/>
            <a:ext cx="22320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timización de Proces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formación gene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Orientación y 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Laborato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Calif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Visitas / Confere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as de optimiz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mo tomar la mejor opción entre varias pos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blemas de naturaleza muy diver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eño (p.e. dimensionamiento de un equipo con costo mínim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peración (p.e. punto de operación mas rentab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ogística (p.e. ruta mas corta de distribución de un product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lanificación (p.e. mejor lugar para construir una plant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ntrol (p.e. acción de control que genera menos varianza en la variable controlad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as de optimiz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 presentan en campos muy diver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conom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iolog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ónica,…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o todos tienen rasgos comun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 objetivo u criterio a optimiz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as variables de deci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  conjunto de ligaduras y restricciones sobre las variables de deci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¿Cómo tomar decisiones optima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12000" y="3500280"/>
          <a:ext cx="201924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500280"/>
                    <a:ext cx="201924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58920" y="2421000"/>
          <a:ext cx="2319480" cy="17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421000"/>
                    <a:ext cx="23194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635280" y="2708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¿Por experiencia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458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¿Experimentando todas las opcion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551664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alizando el problema y formulándolo como un problema matemátic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332000" y="479736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todología de traba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4360" y="4292640"/>
          <a:ext cx="289548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292640"/>
                    <a:ext cx="28954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71640" y="3213000"/>
          <a:ext cx="108108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213000"/>
                    <a:ext cx="108108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140360" y="3716280"/>
                <a:ext cx="1296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2771640" y="3716280"/>
            <a:ext cx="1008360" cy="432000"/>
          </a:xfrm>
          <a:prstGeom prst="rightArrow">
            <a:avLst>
              <a:gd name="adj1" fmla="val 50000"/>
              <a:gd name="adj2" fmla="val 5835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3716280"/>
            <a:ext cx="1008000" cy="4320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020000" y="3213000"/>
          <a:ext cx="1876320" cy="150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20000" y="3213000"/>
                    <a:ext cx="187632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187280" y="242100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 Analizar el proble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256536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 Formularlo en términos matemátic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479736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 Resolverlo con los algoritmos y software adecuad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5445000"/>
            <a:ext cx="1008000" cy="432000"/>
          </a:xfrm>
          <a:prstGeom prst="leftArrow">
            <a:avLst>
              <a:gd name="adj1" fmla="val 50000"/>
              <a:gd name="adj2" fmla="val 58333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59500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 Interpretar y aplicar la solu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álisis / Formulación  (Modelado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4292640"/>
          <a:ext cx="289548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292640"/>
                    <a:ext cx="28954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971640" y="3213000"/>
          <a:ext cx="108108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213000"/>
                    <a:ext cx="108108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059280" y="3500280"/>
                <a:ext cx="1296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340000" y="371628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242100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 Analizar el proble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242100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 Formularlo en términos matemátic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421000"/>
            <a:ext cx="4284720" cy="423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ocer el proceso, listar todas las variables de interé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terminar el criterio de optimización y especificar el criterio de optimización en términos de las variables del proble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specificar las relaciones entre las variables impuestas por balances de masa y energía, leyes físicas,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terminar el rango admisible de las variab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dentificar los grados de libertad respecto a los cuales optimiz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olución / Aplicación (Optimización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4360" y="4292640"/>
          <a:ext cx="289548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292640"/>
                    <a:ext cx="28954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71640" y="2492280"/>
                <a:ext cx="1296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2556000" y="2997360"/>
            <a:ext cx="576000" cy="214200"/>
          </a:xfrm>
          <a:prstGeom prst="rightArrow">
            <a:avLst>
              <a:gd name="adj1" fmla="val 50000"/>
              <a:gd name="adj2" fmla="val 6722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76720" y="2492280"/>
          <a:ext cx="1366560" cy="12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492280"/>
                    <a:ext cx="136656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348000" y="386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 Resolverlo con los algoritmos y software adecuad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24360" y="5229360"/>
            <a:ext cx="574560" cy="215640"/>
          </a:xfrm>
          <a:prstGeom prst="leftArrow">
            <a:avLst>
              <a:gd name="adj1" fmla="val 50000"/>
              <a:gd name="adj2" fmla="val 66611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6021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 Interpretar y aplicar la solu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0" y="2565360"/>
            <a:ext cx="3527640" cy="381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mular el problema en términos de uno de los tipos de optimización conocid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studiar la formulación y simplificarla / adecuar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licar un algoritmo adecuado usando un software de optim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alizar la solución, estudiar la sensibilidad de la solución a cambios en las hipótesis y los parámetros del problem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8T21:19:47Z</dcterms:created>
  <dc:creator>Dpto. de Ing. de Sistemas y Automatica</dc:creator>
  <dc:description/>
  <dc:language>en-US</dc:language>
  <cp:lastModifiedBy>isa</cp:lastModifiedBy>
  <dcterms:modified xsi:type="dcterms:W3CDTF">2008-02-17T19:52:10Z</dcterms:modified>
  <cp:revision>29</cp:revision>
  <dc:subject/>
  <dc:title>Optimización de Procesos</dc:title>
</cp:coreProperties>
</file>