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03A-A3B1-469D-893C-1548927F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52360" y="395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B739-EE5E-433B-B5A8-E5DF5BE2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3504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479-E5CE-4944-83E2-CC07B42B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8036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0800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5236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8036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0800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AA3-71C8-4352-A37D-CC322A21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BD7A-EF40-4E09-B148-C45F2118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3E85-0749-4151-8B7E-0F4C2898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7C4-6DEB-4B9B-AFD2-C369BB43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9556-E9F8-4D0A-AE64-4853ED9E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5604-2C8B-4FBE-96AB-733B545C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2CDA-CD6E-4632-80A4-89F0A5E2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1857-448B-407F-8400-DCDE3AE0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BAE-9EA5-45D2-91AB-2C716093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504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6B8E-69BD-4EE9-B798-C4465BEB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57F0-C04C-4479-B956-7D2D272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52360" y="395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A958-8FAA-4DC7-A544-50728E2D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504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6F9A-BB53-4412-BE82-0BA818AD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036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08000" y="1808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5236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036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08000" y="3957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E1B1-2E17-4406-AEC2-BE3B7267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5F4-413A-4257-9182-DE844CE7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FEC-AF7E-4D0A-BAD6-CB9DEA41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504-4A27-42F8-AAEA-D23255D9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E30-39BE-42F9-916A-233F732E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D28-F247-42A5-B87B-2ABF644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35040" y="3957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0164-971C-4C6E-ACAE-46C4FE12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1808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2360" y="3957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B6F-DD40-47EE-871A-6837CA79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85640" y="7840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8320" y="78408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2063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79560" y="12063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5120" y="113364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0160" y="67644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11200" y="1467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2D46-5BC7-425C-BF8D-550BA727F9D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E54F-1380-4C4C-A6F8-7C31C43B5B85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Planificación y secuenciamiento de procesos por lot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. Cesar de Pr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A-U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Tiempo de cicl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2576520" y="4172040"/>
            <a:ext cx="915840" cy="3207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08000" y="3868560"/>
            <a:ext cx="669960" cy="301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4792680"/>
            <a:ext cx="28872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1908000" y="3641400"/>
            <a:ext cx="4320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5576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6068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6560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8000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8456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39600" y="522612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70160" y="509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75080" y="509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8948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9440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9896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91336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21828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03880" y="509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08800" y="509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51200" y="51624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52320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27760" y="50864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60360" y="385776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450540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35000" y="3784680"/>
            <a:ext cx="8812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01960" y="33228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= 3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804000" y="3357720"/>
                <a:ext cx="15238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495600" y="4178160"/>
            <a:ext cx="916200" cy="32076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27440" y="3889440"/>
            <a:ext cx="669960" cy="2714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86360" y="4797360"/>
            <a:ext cx="289080" cy="2890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1800" y="4511520"/>
            <a:ext cx="576000" cy="2876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01800" y="1843200"/>
            <a:ext cx="78231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tro ejemplo con tiempos diferentes en las etapas 1 y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iempo de proceso en la unida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1= 2h  , U2 = 3h,  U3 = 2h,  U4 = 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63800" y="5576760"/>
            <a:ext cx="3327480" cy="0"/>
          </a:xfrm>
          <a:prstGeom prst="line">
            <a:avLst/>
          </a:prstGeom>
          <a:ln w="2844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68320" y="5653080"/>
            <a:ext cx="36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kespan = 1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4520" y="622152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akespan: Tiempo total empleado en producir un numero de lotes (ejemplo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04000" y="407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 numero de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99"/>
                </a:solidFill>
                <a:latin typeface="Tahoma"/>
              </a:rPr>
              <a:t>Fabricación de varios product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1244520" y="1606680"/>
            <a:ext cx="73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nta tipo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flowshop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cada producto usa todas las etapas siguiendo la misma secuencia   (plantas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multiproducto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71520" y="2725560"/>
            <a:ext cx="936720" cy="10796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43160" y="2725560"/>
            <a:ext cx="433440" cy="10796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84600" y="2581200"/>
            <a:ext cx="1224000" cy="936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73680" y="2725560"/>
            <a:ext cx="1225800" cy="935280"/>
          </a:xfrm>
          <a:custGeom>
            <a:avLst/>
            <a:gdLst>
              <a:gd name="textAreaLeft" fmla="*/ 269640 w 1225800"/>
              <a:gd name="textAreaRight" fmla="*/ 956160 w 1225800"/>
              <a:gd name="textAreaTop" fmla="*/ 205560 h 935280"/>
              <a:gd name="textAreaBottom" fmla="*/ 72972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8200" y="2994120"/>
            <a:ext cx="6490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36760" y="300348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19520" y="302256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65920" y="3019320"/>
            <a:ext cx="6490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927920" y="301932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24080" y="26305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583080" y="27068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05360" y="2646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891560" y="26337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34040" y="35179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380440" y="25876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360600" y="22939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00280" y="233208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z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14520" y="242892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89280" y="241452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28480" y="347976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27400" y="348948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10160" y="350820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56200" y="350532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918560" y="350532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232000" y="3130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49680" y="3160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3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43520" y="3160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83640" y="31338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412120" y="351000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74680" y="5081760"/>
            <a:ext cx="936720" cy="10792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046320" y="5081760"/>
            <a:ext cx="433440" cy="10792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87760" y="4937040"/>
            <a:ext cx="1224000" cy="936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76840" y="5081760"/>
            <a:ext cx="1225800" cy="934920"/>
          </a:xfrm>
          <a:custGeom>
            <a:avLst/>
            <a:gdLst>
              <a:gd name="textAreaLeft" fmla="*/ 269640 w 1225800"/>
              <a:gd name="textAreaRight" fmla="*/ 956160 w 1225800"/>
              <a:gd name="textAreaTop" fmla="*/ 205560 h 934920"/>
              <a:gd name="textAreaBottom" fmla="*/ 7293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1360" y="5349960"/>
            <a:ext cx="6490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39920" y="535932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22680" y="537840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69080" y="5375160"/>
            <a:ext cx="6490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31080" y="537516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22480" y="63054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22560" y="62769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22920" y="62308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564240" y="621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37200" y="58737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118360" y="49435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63760" y="46497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79760" y="47926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z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17680" y="478476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92440" y="477036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1640" y="58356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04000" y="587520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821720" y="586116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70040" y="6310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112160" y="62247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3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120160" y="586584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475000" y="5859360"/>
            <a:ext cx="0" cy="787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249640" y="5829480"/>
            <a:ext cx="2394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459160" y="6638760"/>
            <a:ext cx="3433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892840" y="5859360"/>
            <a:ext cx="0" cy="75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41480" y="3949560"/>
            <a:ext cx="73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nta tipo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jobshop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: no todos los productos usan todas las etapas y/o siguen la misma secuencia   (plantas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multiproposito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Fabricación de varios producto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23920" y="2854440"/>
            <a:ext cx="3838320" cy="841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399720" y="39909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Job-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80640" y="3855960"/>
            <a:ext cx="36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low-shop con multiples un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or etapa (Parallel units, Multi-s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741240" y="4448160"/>
            <a:ext cx="3337200" cy="11444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975200" y="1990800"/>
            <a:ext cx="30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ultiples maquinas o 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una etapa (Single-s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4255920" y="2708280"/>
            <a:ext cx="4378320" cy="941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1519920" y="235116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una maquina o 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8360" y="57340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dos los productos requieren usar todas las etapas siguiendo la misma 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643280" y="5734080"/>
            <a:ext cx="41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o todos los productos requieren usar todas las etapas y/o seguir la misma 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98440" y="1619280"/>
            <a:ext cx="37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uede haber varias maquinas o unidades en cada 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877000" y="4694400"/>
            <a:ext cx="398520" cy="598320"/>
            <a:chOff x="5877000" y="4694400"/>
            <a:chExt cx="398520" cy="598320"/>
          </a:xfrm>
        </p:grpSpPr>
        <p:sp>
          <p:nvSpPr>
            <p:cNvPr id="428" name=""/>
            <p:cNvSpPr/>
            <p:nvPr/>
          </p:nvSpPr>
          <p:spPr>
            <a:xfrm>
              <a:off x="5877000" y="4694400"/>
              <a:ext cx="398520" cy="598320"/>
            </a:xfrm>
            <a:custGeom>
              <a:avLst/>
              <a:gdLst/>
              <a:ahLst/>
              <a:rect l="l" t="t" r="r" b="b"/>
              <a:pathLst>
                <a:path w="3200" h="4800">
                  <a:moveTo>
                    <a:pt x="534" y="0"/>
                  </a:moveTo>
                  <a:cubicBezTo>
                    <a:pt x="239" y="0"/>
                    <a:pt x="0" y="239"/>
                    <a:pt x="0" y="534"/>
                  </a:cubicBezTo>
                  <a:lnTo>
                    <a:pt x="0" y="4267"/>
                  </a:lnTo>
                  <a:cubicBezTo>
                    <a:pt x="0" y="4562"/>
                    <a:pt x="239" y="4800"/>
                    <a:pt x="534" y="4800"/>
                  </a:cubicBezTo>
                  <a:lnTo>
                    <a:pt x="2667" y="4800"/>
                  </a:lnTo>
                  <a:cubicBezTo>
                    <a:pt x="2962" y="4800"/>
                    <a:pt x="3200" y="4562"/>
                    <a:pt x="3200" y="4267"/>
                  </a:cubicBezTo>
                  <a:lnTo>
                    <a:pt x="3200" y="534"/>
                  </a:lnTo>
                  <a:cubicBezTo>
                    <a:pt x="3200" y="239"/>
                    <a:pt x="2962" y="0"/>
                    <a:pt x="2667" y="0"/>
                  </a:cubicBezTo>
                  <a:lnTo>
                    <a:pt x="53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77000" y="4694400"/>
              <a:ext cx="398520" cy="598320"/>
            </a:xfrm>
            <a:custGeom>
              <a:avLst/>
              <a:gdLst/>
              <a:ahLst/>
              <a:rect l="l" t="t" r="r" b="b"/>
              <a:pathLst>
                <a:path w="3200" h="4800">
                  <a:moveTo>
                    <a:pt x="534" y="0"/>
                  </a:moveTo>
                  <a:cubicBezTo>
                    <a:pt x="239" y="0"/>
                    <a:pt x="0" y="239"/>
                    <a:pt x="0" y="534"/>
                  </a:cubicBezTo>
                  <a:lnTo>
                    <a:pt x="0" y="4267"/>
                  </a:lnTo>
                  <a:cubicBezTo>
                    <a:pt x="0" y="4562"/>
                    <a:pt x="239" y="4800"/>
                    <a:pt x="534" y="4800"/>
                  </a:cubicBezTo>
                  <a:lnTo>
                    <a:pt x="2667" y="4800"/>
                  </a:lnTo>
                  <a:cubicBezTo>
                    <a:pt x="2962" y="4800"/>
                    <a:pt x="3200" y="4562"/>
                    <a:pt x="3200" y="4267"/>
                  </a:cubicBezTo>
                  <a:lnTo>
                    <a:pt x="3200" y="534"/>
                  </a:lnTo>
                  <a:cubicBezTo>
                    <a:pt x="3200" y="239"/>
                    <a:pt x="2962" y="0"/>
                    <a:pt x="2667" y="0"/>
                  </a:cubicBezTo>
                  <a:lnTo>
                    <a:pt x="534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955480" y="4819680"/>
            <a:ext cx="24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775560" y="4694400"/>
            <a:ext cx="398520" cy="598320"/>
            <a:chOff x="6775560" y="4694400"/>
            <a:chExt cx="398520" cy="598320"/>
          </a:xfrm>
        </p:grpSpPr>
        <p:sp>
          <p:nvSpPr>
            <p:cNvPr id="432" name=""/>
            <p:cNvSpPr/>
            <p:nvPr/>
          </p:nvSpPr>
          <p:spPr>
            <a:xfrm>
              <a:off x="6775560" y="4694400"/>
              <a:ext cx="398520" cy="598320"/>
            </a:xfrm>
            <a:custGeom>
              <a:avLst/>
              <a:gdLst/>
              <a:ahLst/>
              <a:rect l="l" t="t" r="r" b="b"/>
              <a:pathLst>
                <a:path w="3200" h="4800">
                  <a:moveTo>
                    <a:pt x="534" y="0"/>
                  </a:moveTo>
                  <a:cubicBezTo>
                    <a:pt x="239" y="0"/>
                    <a:pt x="0" y="239"/>
                    <a:pt x="0" y="534"/>
                  </a:cubicBezTo>
                  <a:lnTo>
                    <a:pt x="0" y="4267"/>
                  </a:lnTo>
                  <a:cubicBezTo>
                    <a:pt x="0" y="4562"/>
                    <a:pt x="239" y="4800"/>
                    <a:pt x="534" y="4800"/>
                  </a:cubicBezTo>
                  <a:lnTo>
                    <a:pt x="2667" y="4800"/>
                  </a:lnTo>
                  <a:cubicBezTo>
                    <a:pt x="2962" y="4800"/>
                    <a:pt x="3200" y="4562"/>
                    <a:pt x="3200" y="4267"/>
                  </a:cubicBezTo>
                  <a:lnTo>
                    <a:pt x="3200" y="534"/>
                  </a:lnTo>
                  <a:cubicBezTo>
                    <a:pt x="3200" y="239"/>
                    <a:pt x="2962" y="0"/>
                    <a:pt x="2667" y="0"/>
                  </a:cubicBezTo>
                  <a:lnTo>
                    <a:pt x="534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75560" y="4694400"/>
              <a:ext cx="398520" cy="598320"/>
            </a:xfrm>
            <a:custGeom>
              <a:avLst/>
              <a:gdLst/>
              <a:ahLst/>
              <a:rect l="l" t="t" r="r" b="b"/>
              <a:pathLst>
                <a:path w="3200" h="4800">
                  <a:moveTo>
                    <a:pt x="534" y="0"/>
                  </a:moveTo>
                  <a:cubicBezTo>
                    <a:pt x="239" y="0"/>
                    <a:pt x="0" y="239"/>
                    <a:pt x="0" y="534"/>
                  </a:cubicBezTo>
                  <a:lnTo>
                    <a:pt x="0" y="4267"/>
                  </a:lnTo>
                  <a:cubicBezTo>
                    <a:pt x="0" y="4562"/>
                    <a:pt x="239" y="4800"/>
                    <a:pt x="534" y="4800"/>
                  </a:cubicBezTo>
                  <a:lnTo>
                    <a:pt x="2667" y="4800"/>
                  </a:lnTo>
                  <a:cubicBezTo>
                    <a:pt x="2962" y="4800"/>
                    <a:pt x="3200" y="4562"/>
                    <a:pt x="3200" y="4267"/>
                  </a:cubicBezTo>
                  <a:lnTo>
                    <a:pt x="3200" y="534"/>
                  </a:lnTo>
                  <a:cubicBezTo>
                    <a:pt x="3200" y="239"/>
                    <a:pt x="2962" y="0"/>
                    <a:pt x="2667" y="0"/>
                  </a:cubicBezTo>
                  <a:lnTo>
                    <a:pt x="534" y="0"/>
                  </a:lnTo>
                  <a:close/>
                </a:path>
              </a:pathLst>
            </a:custGeom>
            <a:solidFill>
              <a:srgbClr val="33cc33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864120" y="481968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7672320" y="4694400"/>
            <a:ext cx="399960" cy="598320"/>
            <a:chOff x="7672320" y="4694400"/>
            <a:chExt cx="399960" cy="598320"/>
          </a:xfrm>
        </p:grpSpPr>
        <p:sp>
          <p:nvSpPr>
            <p:cNvPr id="436" name=""/>
            <p:cNvSpPr/>
            <p:nvPr/>
          </p:nvSpPr>
          <p:spPr>
            <a:xfrm>
              <a:off x="7672320" y="4694400"/>
              <a:ext cx="399960" cy="598320"/>
            </a:xfrm>
            <a:custGeom>
              <a:avLst/>
              <a:gdLst/>
              <a:ahLst/>
              <a:rect l="l" t="t" r="r" b="b"/>
              <a:pathLst>
                <a:path w="1600" h="2400">
                  <a:moveTo>
                    <a:pt x="267" y="0"/>
                  </a:moveTo>
                  <a:cubicBezTo>
                    <a:pt x="120" y="0"/>
                    <a:pt x="0" y="120"/>
                    <a:pt x="0" y="267"/>
                  </a:cubicBezTo>
                  <a:lnTo>
                    <a:pt x="0" y="2134"/>
                  </a:lnTo>
                  <a:cubicBezTo>
                    <a:pt x="0" y="2281"/>
                    <a:pt x="120" y="2400"/>
                    <a:pt x="267" y="2400"/>
                  </a:cubicBezTo>
                  <a:lnTo>
                    <a:pt x="1334" y="2400"/>
                  </a:lnTo>
                  <a:cubicBezTo>
                    <a:pt x="1481" y="2400"/>
                    <a:pt x="1600" y="2281"/>
                    <a:pt x="1600" y="2134"/>
                  </a:cubicBezTo>
                  <a:lnTo>
                    <a:pt x="1600" y="267"/>
                  </a:lnTo>
                  <a:cubicBezTo>
                    <a:pt x="1600" y="120"/>
                    <a:pt x="1481" y="0"/>
                    <a:pt x="1334" y="0"/>
                  </a:cubicBezTo>
                  <a:lnTo>
                    <a:pt x="267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72320" y="4694400"/>
              <a:ext cx="399960" cy="598320"/>
            </a:xfrm>
            <a:custGeom>
              <a:avLst/>
              <a:gdLst/>
              <a:ahLst/>
              <a:rect l="l" t="t" r="r" b="b"/>
              <a:pathLst>
                <a:path w="1600" h="2400">
                  <a:moveTo>
                    <a:pt x="267" y="0"/>
                  </a:moveTo>
                  <a:cubicBezTo>
                    <a:pt x="120" y="0"/>
                    <a:pt x="0" y="120"/>
                    <a:pt x="0" y="267"/>
                  </a:cubicBezTo>
                  <a:lnTo>
                    <a:pt x="0" y="2134"/>
                  </a:lnTo>
                  <a:cubicBezTo>
                    <a:pt x="0" y="2281"/>
                    <a:pt x="120" y="2400"/>
                    <a:pt x="267" y="2400"/>
                  </a:cubicBezTo>
                  <a:lnTo>
                    <a:pt x="1334" y="2400"/>
                  </a:lnTo>
                  <a:cubicBezTo>
                    <a:pt x="1481" y="2400"/>
                    <a:pt x="1600" y="2281"/>
                    <a:pt x="1600" y="2134"/>
                  </a:cubicBezTo>
                  <a:lnTo>
                    <a:pt x="1600" y="267"/>
                  </a:lnTo>
                  <a:cubicBezTo>
                    <a:pt x="1600" y="120"/>
                    <a:pt x="1481" y="0"/>
                    <a:pt x="1334" y="0"/>
                  </a:cubicBezTo>
                  <a:lnTo>
                    <a:pt x="267" y="0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7762320" y="4819680"/>
            <a:ext cx="221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78400" y="4987800"/>
            <a:ext cx="498600" cy="55800"/>
          </a:xfrm>
          <a:custGeom>
            <a:avLst/>
            <a:gdLst/>
            <a:ahLst/>
            <a:rect l="l" t="t" r="r" b="b"/>
            <a:pathLst>
              <a:path w="314" h="35">
                <a:moveTo>
                  <a:pt x="0" y="12"/>
                </a:moveTo>
                <a:lnTo>
                  <a:pt x="284" y="12"/>
                </a:lnTo>
                <a:lnTo>
                  <a:pt x="284" y="23"/>
                </a:lnTo>
                <a:lnTo>
                  <a:pt x="0" y="23"/>
                </a:lnTo>
                <a:lnTo>
                  <a:pt x="0" y="12"/>
                </a:lnTo>
                <a:close/>
                <a:moveTo>
                  <a:pt x="279" y="0"/>
                </a:moveTo>
                <a:lnTo>
                  <a:pt x="314" y="18"/>
                </a:lnTo>
                <a:lnTo>
                  <a:pt x="279" y="35"/>
                </a:lnTo>
                <a:lnTo>
                  <a:pt x="27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75520" y="4987800"/>
            <a:ext cx="500040" cy="55800"/>
          </a:xfrm>
          <a:custGeom>
            <a:avLst/>
            <a:gdLst/>
            <a:ahLst/>
            <a:rect l="l" t="t" r="r" b="b"/>
            <a:pathLst>
              <a:path w="315" h="35">
                <a:moveTo>
                  <a:pt x="0" y="12"/>
                </a:moveTo>
                <a:lnTo>
                  <a:pt x="285" y="12"/>
                </a:lnTo>
                <a:lnTo>
                  <a:pt x="285" y="23"/>
                </a:lnTo>
                <a:lnTo>
                  <a:pt x="0" y="23"/>
                </a:lnTo>
                <a:lnTo>
                  <a:pt x="0" y="12"/>
                </a:lnTo>
                <a:close/>
                <a:moveTo>
                  <a:pt x="279" y="0"/>
                </a:moveTo>
                <a:lnTo>
                  <a:pt x="315" y="18"/>
                </a:lnTo>
                <a:lnTo>
                  <a:pt x="279" y="35"/>
                </a:lnTo>
                <a:lnTo>
                  <a:pt x="27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174080" y="4987800"/>
            <a:ext cx="498240" cy="55800"/>
          </a:xfrm>
          <a:custGeom>
            <a:avLst/>
            <a:gdLst/>
            <a:ahLst/>
            <a:rect l="l" t="t" r="r" b="b"/>
            <a:pathLst>
              <a:path w="314" h="35">
                <a:moveTo>
                  <a:pt x="0" y="12"/>
                </a:moveTo>
                <a:lnTo>
                  <a:pt x="285" y="12"/>
                </a:lnTo>
                <a:lnTo>
                  <a:pt x="285" y="23"/>
                </a:lnTo>
                <a:lnTo>
                  <a:pt x="0" y="23"/>
                </a:lnTo>
                <a:lnTo>
                  <a:pt x="0" y="12"/>
                </a:lnTo>
                <a:close/>
                <a:moveTo>
                  <a:pt x="279" y="0"/>
                </a:moveTo>
                <a:lnTo>
                  <a:pt x="314" y="18"/>
                </a:lnTo>
                <a:lnTo>
                  <a:pt x="279" y="35"/>
                </a:lnTo>
                <a:lnTo>
                  <a:pt x="27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78400" y="4816440"/>
            <a:ext cx="498600" cy="55440"/>
          </a:xfrm>
          <a:custGeom>
            <a:avLst/>
            <a:gdLst/>
            <a:ahLst/>
            <a:rect l="l" t="t" r="r" b="b"/>
            <a:pathLst>
              <a:path w="314" h="35">
                <a:moveTo>
                  <a:pt x="0" y="12"/>
                </a:moveTo>
                <a:lnTo>
                  <a:pt x="284" y="12"/>
                </a:lnTo>
                <a:lnTo>
                  <a:pt x="284" y="24"/>
                </a:lnTo>
                <a:lnTo>
                  <a:pt x="0" y="24"/>
                </a:lnTo>
                <a:lnTo>
                  <a:pt x="0" y="12"/>
                </a:lnTo>
                <a:close/>
                <a:moveTo>
                  <a:pt x="279" y="0"/>
                </a:moveTo>
                <a:lnTo>
                  <a:pt x="314" y="18"/>
                </a:lnTo>
                <a:lnTo>
                  <a:pt x="279" y="35"/>
                </a:lnTo>
                <a:lnTo>
                  <a:pt x="27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75520" y="4844880"/>
            <a:ext cx="199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475320" y="4444560"/>
            <a:ext cx="1800" cy="399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75320" y="4444920"/>
            <a:ext cx="17463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8221680" y="4444560"/>
            <a:ext cx="1440" cy="399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072280" y="481644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94" y="24"/>
                </a:moveTo>
                <a:lnTo>
                  <a:pt x="29" y="24"/>
                </a:lnTo>
                <a:lnTo>
                  <a:pt x="29" y="12"/>
                </a:lnTo>
                <a:lnTo>
                  <a:pt x="94" y="12"/>
                </a:lnTo>
                <a:lnTo>
                  <a:pt x="94" y="24"/>
                </a:lnTo>
                <a:close/>
                <a:moveTo>
                  <a:pt x="35" y="35"/>
                </a:moveTo>
                <a:lnTo>
                  <a:pt x="0" y="18"/>
                </a:lnTo>
                <a:lnTo>
                  <a:pt x="35" y="0"/>
                </a:lnTo>
                <a:lnTo>
                  <a:pt x="35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174080" y="4816440"/>
            <a:ext cx="498240" cy="55440"/>
          </a:xfrm>
          <a:custGeom>
            <a:avLst/>
            <a:gdLst/>
            <a:ahLst/>
            <a:rect l="l" t="t" r="r" b="b"/>
            <a:pathLst>
              <a:path w="314" h="35">
                <a:moveTo>
                  <a:pt x="30" y="12"/>
                </a:moveTo>
                <a:lnTo>
                  <a:pt x="314" y="12"/>
                </a:lnTo>
                <a:lnTo>
                  <a:pt x="314" y="24"/>
                </a:lnTo>
                <a:lnTo>
                  <a:pt x="30" y="24"/>
                </a:lnTo>
                <a:lnTo>
                  <a:pt x="30" y="12"/>
                </a:lnTo>
                <a:close/>
                <a:moveTo>
                  <a:pt x="35" y="35"/>
                </a:moveTo>
                <a:lnTo>
                  <a:pt x="0" y="18"/>
                </a:lnTo>
                <a:lnTo>
                  <a:pt x="35" y="0"/>
                </a:lnTo>
                <a:lnTo>
                  <a:pt x="35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227560" y="4764240"/>
            <a:ext cx="150840" cy="149040"/>
            <a:chOff x="5227560" y="4764240"/>
            <a:chExt cx="150840" cy="149040"/>
          </a:xfrm>
        </p:grpSpPr>
        <p:sp>
          <p:nvSpPr>
            <p:cNvPr id="450" name=""/>
            <p:cNvSpPr/>
            <p:nvPr/>
          </p:nvSpPr>
          <p:spPr>
            <a:xfrm>
              <a:off x="5227560" y="4764240"/>
              <a:ext cx="150840" cy="149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27560" y="4764240"/>
              <a:ext cx="150840" cy="149040"/>
            </a:xfrm>
            <a:prstGeom prst="ellipse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5270040" y="476568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227560" y="4943520"/>
            <a:ext cx="150840" cy="150840"/>
            <a:chOff x="5227560" y="4943520"/>
            <a:chExt cx="150840" cy="150840"/>
          </a:xfrm>
        </p:grpSpPr>
        <p:sp>
          <p:nvSpPr>
            <p:cNvPr id="454" name=""/>
            <p:cNvSpPr/>
            <p:nvPr/>
          </p:nvSpPr>
          <p:spPr>
            <a:xfrm>
              <a:off x="5227560" y="4943520"/>
              <a:ext cx="150840" cy="150840"/>
            </a:xfrm>
            <a:prstGeom prst="ellipse">
              <a:avLst/>
            </a:prstGeom>
            <a:solidFill>
              <a:srgbClr val="3399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227560" y="4943520"/>
              <a:ext cx="150840" cy="150840"/>
            </a:xfrm>
            <a:prstGeom prst="ellipse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270040" y="494676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8570880" y="5062680"/>
            <a:ext cx="149400" cy="149040"/>
            <a:chOff x="8570880" y="5062680"/>
            <a:chExt cx="149400" cy="149040"/>
          </a:xfrm>
        </p:grpSpPr>
        <p:sp>
          <p:nvSpPr>
            <p:cNvPr id="458" name=""/>
            <p:cNvSpPr/>
            <p:nvPr/>
          </p:nvSpPr>
          <p:spPr>
            <a:xfrm>
              <a:off x="8570880" y="5062680"/>
              <a:ext cx="149400" cy="1490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570880" y="5062680"/>
              <a:ext cx="149400" cy="149040"/>
            </a:xfrm>
            <a:prstGeom prst="ellipse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613360" y="5064120"/>
            <a:ext cx="7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072280" y="5116680"/>
            <a:ext cx="498600" cy="55440"/>
          </a:xfrm>
          <a:custGeom>
            <a:avLst/>
            <a:gdLst/>
            <a:ahLst/>
            <a:rect l="l" t="t" r="r" b="b"/>
            <a:pathLst>
              <a:path w="314" h="35">
                <a:moveTo>
                  <a:pt x="29" y="11"/>
                </a:moveTo>
                <a:lnTo>
                  <a:pt x="314" y="11"/>
                </a:lnTo>
                <a:lnTo>
                  <a:pt x="314" y="23"/>
                </a:lnTo>
                <a:lnTo>
                  <a:pt x="29" y="23"/>
                </a:lnTo>
                <a:lnTo>
                  <a:pt x="29" y="11"/>
                </a:lnTo>
                <a:close/>
                <a:moveTo>
                  <a:pt x="35" y="35"/>
                </a:moveTo>
                <a:lnTo>
                  <a:pt x="0" y="17"/>
                </a:lnTo>
                <a:lnTo>
                  <a:pt x="35" y="0"/>
                </a:lnTo>
                <a:lnTo>
                  <a:pt x="35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73960" y="5143680"/>
            <a:ext cx="1983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727600" y="5143680"/>
            <a:ext cx="1800" cy="398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727600" y="5114880"/>
            <a:ext cx="149400" cy="57240"/>
          </a:xfrm>
          <a:custGeom>
            <a:avLst/>
            <a:gdLst/>
            <a:ahLst/>
            <a:rect l="l" t="t" r="r" b="b"/>
            <a:pathLst>
              <a:path w="94" h="36">
                <a:moveTo>
                  <a:pt x="64" y="24"/>
                </a:moveTo>
                <a:lnTo>
                  <a:pt x="0" y="24"/>
                </a:lnTo>
                <a:lnTo>
                  <a:pt x="0" y="12"/>
                </a:lnTo>
                <a:lnTo>
                  <a:pt x="64" y="12"/>
                </a:lnTo>
                <a:lnTo>
                  <a:pt x="64" y="24"/>
                </a:lnTo>
                <a:close/>
                <a:moveTo>
                  <a:pt x="59" y="0"/>
                </a:moveTo>
                <a:lnTo>
                  <a:pt x="94" y="18"/>
                </a:lnTo>
                <a:lnTo>
                  <a:pt x="59" y="3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624720" y="4816440"/>
            <a:ext cx="150840" cy="55440"/>
          </a:xfrm>
          <a:custGeom>
            <a:avLst/>
            <a:gdLst/>
            <a:ahLst/>
            <a:rect l="l" t="t" r="r" b="b"/>
            <a:pathLst>
              <a:path w="95" h="35">
                <a:moveTo>
                  <a:pt x="95" y="24"/>
                </a:moveTo>
                <a:lnTo>
                  <a:pt x="30" y="24"/>
                </a:lnTo>
                <a:lnTo>
                  <a:pt x="30" y="12"/>
                </a:lnTo>
                <a:lnTo>
                  <a:pt x="95" y="12"/>
                </a:lnTo>
                <a:lnTo>
                  <a:pt x="95" y="24"/>
                </a:lnTo>
                <a:close/>
                <a:moveTo>
                  <a:pt x="36" y="35"/>
                </a:moveTo>
                <a:lnTo>
                  <a:pt x="0" y="18"/>
                </a:lnTo>
                <a:lnTo>
                  <a:pt x="36" y="0"/>
                </a:lnTo>
                <a:lnTo>
                  <a:pt x="36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2280" y="4975200"/>
            <a:ext cx="14940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65" y="24"/>
                </a:moveTo>
                <a:lnTo>
                  <a:pt x="0" y="24"/>
                </a:lnTo>
                <a:lnTo>
                  <a:pt x="0" y="12"/>
                </a:lnTo>
                <a:lnTo>
                  <a:pt x="65" y="12"/>
                </a:lnTo>
                <a:lnTo>
                  <a:pt x="65" y="24"/>
                </a:lnTo>
                <a:close/>
                <a:moveTo>
                  <a:pt x="59" y="0"/>
                </a:moveTo>
                <a:lnTo>
                  <a:pt x="94" y="18"/>
                </a:lnTo>
                <a:lnTo>
                  <a:pt x="59" y="3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94600" y="5176800"/>
            <a:ext cx="149040" cy="55440"/>
          </a:xfrm>
          <a:custGeom>
            <a:avLst/>
            <a:gdLst/>
            <a:ahLst/>
            <a:rect l="l" t="t" r="r" b="b"/>
            <a:pathLst>
              <a:path w="94" h="35">
                <a:moveTo>
                  <a:pt x="65" y="23"/>
                </a:moveTo>
                <a:lnTo>
                  <a:pt x="0" y="23"/>
                </a:lnTo>
                <a:lnTo>
                  <a:pt x="0" y="11"/>
                </a:lnTo>
                <a:lnTo>
                  <a:pt x="65" y="11"/>
                </a:lnTo>
                <a:lnTo>
                  <a:pt x="65" y="23"/>
                </a:lnTo>
                <a:close/>
                <a:moveTo>
                  <a:pt x="59" y="0"/>
                </a:moveTo>
                <a:lnTo>
                  <a:pt x="94" y="17"/>
                </a:lnTo>
                <a:lnTo>
                  <a:pt x="59" y="3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443640" y="5157720"/>
            <a:ext cx="100080" cy="99720"/>
            <a:chOff x="6443640" y="5157720"/>
            <a:chExt cx="100080" cy="99720"/>
          </a:xfrm>
        </p:grpSpPr>
        <p:sp>
          <p:nvSpPr>
            <p:cNvPr id="469" name=""/>
            <p:cNvSpPr/>
            <p:nvPr/>
          </p:nvSpPr>
          <p:spPr>
            <a:xfrm>
              <a:off x="6443640" y="5157720"/>
              <a:ext cx="100080" cy="9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43640" y="5157720"/>
              <a:ext cx="100080" cy="99720"/>
            </a:xfrm>
            <a:prstGeom prst="rect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8221680" y="4956120"/>
            <a:ext cx="100080" cy="100080"/>
            <a:chOff x="8221680" y="4956120"/>
            <a:chExt cx="100080" cy="100080"/>
          </a:xfrm>
        </p:grpSpPr>
        <p:sp>
          <p:nvSpPr>
            <p:cNvPr id="472" name=""/>
            <p:cNvSpPr/>
            <p:nvPr/>
          </p:nvSpPr>
          <p:spPr>
            <a:xfrm>
              <a:off x="8221680" y="4956120"/>
              <a:ext cx="100080" cy="1000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21680" y="4956120"/>
              <a:ext cx="100080" cy="100080"/>
            </a:xfrm>
            <a:prstGeom prst="rect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527880" y="4794120"/>
            <a:ext cx="100080" cy="100080"/>
            <a:chOff x="6527880" y="4794120"/>
            <a:chExt cx="100080" cy="100080"/>
          </a:xfrm>
        </p:grpSpPr>
        <p:sp>
          <p:nvSpPr>
            <p:cNvPr id="475" name=""/>
            <p:cNvSpPr/>
            <p:nvPr/>
          </p:nvSpPr>
          <p:spPr>
            <a:xfrm>
              <a:off x="6527880" y="4794120"/>
              <a:ext cx="100080" cy="100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27880" y="4794120"/>
              <a:ext cx="100080" cy="100080"/>
            </a:xfrm>
            <a:prstGeom prst="rect">
              <a:avLst/>
            </a:prstGeom>
            <a:noFill/>
            <a:ln cap="rnd"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 flipH="1">
            <a:off x="5724360" y="5516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5164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Ejemplo, dos producto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060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836720" y="2335320"/>
            <a:ext cx="1224000" cy="2998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836360" y="2060640"/>
            <a:ext cx="42840" cy="15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84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890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7939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7083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0132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67960" y="3645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9888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034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178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6227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927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42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466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322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3716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879560" y="358128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515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56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89080" y="227664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421080" y="2924280"/>
            <a:ext cx="5904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78240" y="262260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4240" y="2335320"/>
            <a:ext cx="1224000" cy="2854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13520" y="3197160"/>
            <a:ext cx="28872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38600" y="290988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025880" y="3214800"/>
            <a:ext cx="299880" cy="3045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869000" y="2638440"/>
            <a:ext cx="930240" cy="258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275000" y="2335320"/>
            <a:ext cx="57960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19880" y="3198960"/>
            <a:ext cx="574560" cy="3031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16520" y="2897280"/>
            <a:ext cx="57636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84840" y="2652840"/>
            <a:ext cx="930240" cy="2584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91200" y="2351160"/>
            <a:ext cx="579240" cy="285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335720" y="3213000"/>
            <a:ext cx="574920" cy="3034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732720" y="2911320"/>
            <a:ext cx="576000" cy="287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09760" y="412272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Campañ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Fabricación de un numero determinado d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lotes de los distint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9400" y="5156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jemplo: Campaña AA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Tipos de campaña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3060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36720" y="2335320"/>
            <a:ext cx="1224000" cy="2998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1836360" y="2060640"/>
            <a:ext cx="42840" cy="15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84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890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939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7083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0132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767960" y="3645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9888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034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3178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6227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27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42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466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322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3716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879560" y="358128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515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56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89080" y="227664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21080" y="2924280"/>
            <a:ext cx="5904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78240" y="2622600"/>
            <a:ext cx="36036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054240" y="2335320"/>
            <a:ext cx="1224000" cy="2854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213520" y="3197160"/>
            <a:ext cx="288720" cy="2890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38600" y="2909880"/>
            <a:ext cx="576360" cy="2872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025880" y="3214800"/>
            <a:ext cx="299880" cy="3045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69000" y="2638440"/>
            <a:ext cx="960480" cy="258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275000" y="2335320"/>
            <a:ext cx="60984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64160" y="3198960"/>
            <a:ext cx="574920" cy="3031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816520" y="2897280"/>
            <a:ext cx="62244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829480" y="2652840"/>
            <a:ext cx="930240" cy="22860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91200" y="2335320"/>
            <a:ext cx="625320" cy="30168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334280" y="3213000"/>
            <a:ext cx="574560" cy="30348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46760" y="2897280"/>
            <a:ext cx="576360" cy="287280"/>
          </a:xfrm>
          <a:prstGeom prst="rect">
            <a:avLst/>
          </a:prstGeom>
          <a:solidFill>
            <a:srgbClr val="ff7c80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83040" y="513072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59040" y="4829040"/>
            <a:ext cx="1224000" cy="3002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1858680" y="4554000"/>
            <a:ext cx="4284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0680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1136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1628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73068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03560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790280" y="613872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21200" y="6010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425760" y="6010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34016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4508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95000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6440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16896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254560" y="6010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59480" y="6010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901880" y="607536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47388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778800" y="5999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211400" y="4770360"/>
            <a:ext cx="560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443400" y="5418000"/>
            <a:ext cx="590400" cy="2876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900680" y="5132520"/>
            <a:ext cx="34452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60840" y="4827600"/>
            <a:ext cx="1224000" cy="285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896080" y="5692680"/>
            <a:ext cx="288720" cy="2890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46640" y="5389560"/>
            <a:ext cx="620640" cy="2872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48200" y="5708520"/>
            <a:ext cx="299880" cy="3049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76680" y="5132520"/>
            <a:ext cx="930240" cy="2584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68640" y="4829040"/>
            <a:ext cx="609480" cy="287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57800" y="5692680"/>
            <a:ext cx="604800" cy="3034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608360" y="5405400"/>
            <a:ext cx="650880" cy="2714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477040" y="5146560"/>
            <a:ext cx="930240" cy="24444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97440" y="4829040"/>
            <a:ext cx="579600" cy="30168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997680" y="5676840"/>
            <a:ext cx="574560" cy="30312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410160" y="5391000"/>
            <a:ext cx="576360" cy="287640"/>
          </a:xfrm>
          <a:prstGeom prst="rect">
            <a:avLst/>
          </a:prstGeom>
          <a:solidFill>
            <a:srgbClr val="ff7c80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08200" y="1693800"/>
            <a:ext cx="51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ducto único  (single product campaign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SP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036960" y="4070520"/>
            <a:ext cx="57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ductos mezclados  (mixed product campaign </a:t>
            </a: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MP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89720" y="2187720"/>
            <a:ext cx="13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ABB  makespan 20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410600" y="4576680"/>
            <a:ext cx="13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BAB  makespan 19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879560" y="2233440"/>
            <a:ext cx="39337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9760" y="169380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de la campaña 1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909800" y="4692600"/>
            <a:ext cx="35290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6000" y="38131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de la campaña 12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Tipos de campaña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1571760" y="1593720"/>
            <a:ext cx="66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n general las campañas de productos mezclados MPC son mas eficaces, pero esto puede cambiar si se consideran los tiempos de limpieza necesarios asociados al cambio de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51200" y="320688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27200" y="2905200"/>
            <a:ext cx="1224000" cy="2998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 flipV="1">
            <a:off x="1626840" y="2630160"/>
            <a:ext cx="4284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7496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27952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8444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9884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0376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58440" y="421488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89360" y="408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193920" y="408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0832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41324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1816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3256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3712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022720" y="408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27640" y="4086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670040" y="415116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24204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546960" y="407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79560" y="2846520"/>
            <a:ext cx="560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211560" y="3494160"/>
            <a:ext cx="5904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068720" y="3192480"/>
            <a:ext cx="36036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844720" y="2905200"/>
            <a:ext cx="1224000" cy="285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03640" y="3767040"/>
            <a:ext cx="289080" cy="2890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429080" y="3479760"/>
            <a:ext cx="576360" cy="2872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3784680"/>
            <a:ext cx="299880" cy="3045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87560" y="526572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663560" y="4964040"/>
            <a:ext cx="1224000" cy="3002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1663200" y="4689000"/>
            <a:ext cx="4284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1132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1624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2080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53520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4012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595160" y="627372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925720" y="614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230640" y="614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4504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44960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75452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6892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97384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059440" y="614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64000" y="614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06400" y="621036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27840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583320" y="613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015920" y="490536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82920" y="5553000"/>
            <a:ext cx="5907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38640" y="5267160"/>
            <a:ext cx="34452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794040" y="4976640"/>
            <a:ext cx="1224000" cy="285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450120" y="5827680"/>
            <a:ext cx="28872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649840" y="5524560"/>
            <a:ext cx="620640" cy="2872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167360" y="5889600"/>
            <a:ext cx="299880" cy="2444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95840" y="5267160"/>
            <a:ext cx="930240" cy="258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038400" y="4962600"/>
            <a:ext cx="60984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678640" y="5827680"/>
            <a:ext cx="604800" cy="258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846680" y="5540400"/>
            <a:ext cx="650880" cy="2714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676840" y="5281560"/>
            <a:ext cx="930240" cy="24444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149800" y="4976640"/>
            <a:ext cx="517680" cy="28764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218360" y="5811840"/>
            <a:ext cx="574560" cy="30312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618240" y="5524560"/>
            <a:ext cx="576360" cy="272880"/>
          </a:xfrm>
          <a:prstGeom prst="rect">
            <a:avLst/>
          </a:prstGeom>
          <a:solidFill>
            <a:srgbClr val="ff7c80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70520" y="2903400"/>
            <a:ext cx="126720" cy="260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435560" y="3209760"/>
            <a:ext cx="127080" cy="260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021280" y="3479760"/>
            <a:ext cx="127080" cy="260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07120" y="3780000"/>
            <a:ext cx="126720" cy="260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808520" y="3208320"/>
            <a:ext cx="960480" cy="2588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14880" y="2905200"/>
            <a:ext cx="60948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04040" y="3768840"/>
            <a:ext cx="574560" cy="3031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756400" y="3467160"/>
            <a:ext cx="62208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69000" y="3222720"/>
            <a:ext cx="930240" cy="22860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130720" y="2905200"/>
            <a:ext cx="625680" cy="30168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273800" y="3782880"/>
            <a:ext cx="574920" cy="303480"/>
          </a:xfrm>
          <a:prstGeom prst="rect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686640" y="3467160"/>
            <a:ext cx="576000" cy="287280"/>
          </a:xfrm>
          <a:prstGeom prst="rect">
            <a:avLst/>
          </a:prstGeom>
          <a:solidFill>
            <a:srgbClr val="ff7c80"/>
          </a:solidFill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59080" y="5268960"/>
            <a:ext cx="127080" cy="260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95640" y="5554800"/>
            <a:ext cx="127080" cy="290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73720" y="5886360"/>
            <a:ext cx="126720" cy="230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665520" y="4983120"/>
            <a:ext cx="127080" cy="276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022720" y="4989600"/>
            <a:ext cx="125640" cy="26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705200" y="5261040"/>
            <a:ext cx="127080" cy="2761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484960" y="5289480"/>
            <a:ext cx="171360" cy="231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513400" y="5546880"/>
            <a:ext cx="127080" cy="2761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278400" y="5545080"/>
            <a:ext cx="127080" cy="2462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96040" y="5815080"/>
            <a:ext cx="141120" cy="290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57920" y="5830920"/>
            <a:ext cx="127080" cy="2761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4040" y="4975200"/>
            <a:ext cx="127080" cy="2761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Tipos de almacenamient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3181320" y="214632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957320" y="185904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130640" y="2705040"/>
            <a:ext cx="300240" cy="3049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 flipV="1">
            <a:off x="1956960" y="1569600"/>
            <a:ext cx="4284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30508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61000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91456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2896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13388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87480" y="3154320"/>
            <a:ext cx="31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219480" y="3025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524400" y="3025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38800" y="30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000160" y="3090960"/>
            <a:ext cx="329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09680" y="178596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541680" y="243360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92720" y="1628640"/>
            <a:ext cx="34178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Transferencia sin esper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No existe almacenamiento intermedio y el producto no puede mantenerse mas tiempo en la unidad  (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ZW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zero wa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lmacenamiento intermedio ilimitad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Existen tanques para almacenamiento intermedio de capacidad ilimitada (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UI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unlimited intermediate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95480" y="3836880"/>
            <a:ext cx="3267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lmacenamiento en la etap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No existen tanques de almacenamiento intermedio pero el producto puede mantenerse en la unidad (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NI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non-intermediate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859280" y="5805360"/>
                <a:ext cx="204480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7093080" y="5589720"/>
            <a:ext cx="1873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i,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nº de lotes del producto i  M,  nº de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755640" y="1989000"/>
          <a:ext cx="5495760" cy="1270080"/>
        </p:xfrm>
        <a:graphic>
          <a:graphicData uri="http://schemas.openxmlformats.org/drawingml/2006/table">
            <a:tbl>
              <a:tblPr/>
              <a:tblGrid>
                <a:gridCol w="1374840"/>
                <a:gridCol w="1373040"/>
                <a:gridCol w="1374840"/>
                <a:gridCol w="1373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u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apa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2" name=""/>
          <p:cNvSpPr/>
          <p:nvPr/>
        </p:nvSpPr>
        <p:spPr>
          <a:xfrm>
            <a:off x="6659640" y="1989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mpaña AB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16360" y="436572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044720" y="407664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042920" y="3789360"/>
            <a:ext cx="180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2084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62576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93032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84472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14964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904320" y="508464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235240" y="4956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540160" y="4956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45456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75912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06404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97844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28336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368960" y="4956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673520" y="4956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015920" y="502128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58792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892840" y="4944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96720" y="400536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067280" y="4653000"/>
            <a:ext cx="93636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56000" y="4365720"/>
            <a:ext cx="64944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492360" y="4076640"/>
            <a:ext cx="86364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5480" y="3927600"/>
            <a:ext cx="3260520" cy="61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003640" y="4653000"/>
            <a:ext cx="57636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260360" y="342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1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407664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380360" y="4653000"/>
            <a:ext cx="86364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659640" y="4076640"/>
            <a:ext cx="93492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8244000" y="4653000"/>
            <a:ext cx="50472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826920" y="5805360"/>
            <a:ext cx="71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ferencia sin es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596360" y="4365720"/>
            <a:ext cx="64908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227640" y="436572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Ejempl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"/>
          <p:cNvSpPr/>
          <p:nvPr/>
        </p:nvSpPr>
        <p:spPr>
          <a:xfrm>
            <a:off x="3059280" y="2494080"/>
            <a:ext cx="1223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187280" y="2205000"/>
            <a:ext cx="1872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1185840" y="191772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637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76832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324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98764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2925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047240" y="3213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7816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68272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59712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90204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2069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213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42592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51152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81644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158840" y="314964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3084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357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39640" y="213372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282920" y="2781360"/>
            <a:ext cx="86364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284720" y="2492280"/>
            <a:ext cx="57780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059280" y="2205000"/>
            <a:ext cx="93492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238400" y="2055960"/>
            <a:ext cx="3046320" cy="4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146560" y="2781360"/>
            <a:ext cx="50508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03280" y="155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1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56360" y="2492280"/>
            <a:ext cx="1224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84720" y="220500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380360" y="2781360"/>
            <a:ext cx="86364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381800" y="2492280"/>
            <a:ext cx="57780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156360" y="2205000"/>
            <a:ext cx="93492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244000" y="2781360"/>
            <a:ext cx="50472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916360" y="4869000"/>
            <a:ext cx="1224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16000" y="4581360"/>
            <a:ext cx="1800360" cy="2876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1114560" y="429408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39212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9704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00196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91636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22092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75960" y="558972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306520" y="5460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11440" y="5460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52584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3076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13532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04972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35464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440240" y="5460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745160" y="5460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087560" y="55260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65956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964120" y="545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8360" y="451008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140360" y="5157720"/>
            <a:ext cx="93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40360" y="4869000"/>
            <a:ext cx="57780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166760" y="4432320"/>
            <a:ext cx="2684520" cy="4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75280" y="5157720"/>
            <a:ext cx="57636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332000" y="3933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9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948360" y="1557360"/>
            <a:ext cx="20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macenamiento en la 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916360" y="4581360"/>
            <a:ext cx="93492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851280" y="4581360"/>
            <a:ext cx="1800360" cy="2876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651640" y="4581360"/>
            <a:ext cx="93492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651640" y="4869000"/>
            <a:ext cx="1224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75640" y="4869000"/>
            <a:ext cx="577800" cy="2872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77080" y="5157720"/>
            <a:ext cx="9367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812000" y="5157720"/>
            <a:ext cx="576360" cy="289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48360" y="3860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macenamiento intermedio ilim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51280" y="5805360"/>
            <a:ext cx="0" cy="5032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643280" y="5805360"/>
            <a:ext cx="0" cy="5032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16720" y="5805360"/>
            <a:ext cx="0" cy="5032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451640" y="5734080"/>
            <a:ext cx="0" cy="5032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932360" y="630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lma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995640" y="2205000"/>
            <a:ext cx="28908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859280" y="2492280"/>
            <a:ext cx="28908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211640" y="14842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lmacenamiento en la un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4140360" y="198900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5076360" y="1989000"/>
            <a:ext cx="71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093080" y="2205000"/>
            <a:ext cx="2887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956720" y="2492280"/>
            <a:ext cx="2887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Unidades paralela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844720" y="2276640"/>
            <a:ext cx="936720" cy="1079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788000" y="3213000"/>
            <a:ext cx="433440" cy="10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956040" y="373392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843360" y="33606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0054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087720" y="197964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462480" y="196524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86728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843280" y="4221000"/>
            <a:ext cx="936720" cy="10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476360" y="364500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086280" y="392436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460680" y="3909960"/>
            <a:ext cx="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805360" y="3664080"/>
            <a:ext cx="64944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580000" y="414972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s productos pueden procesarse en varias unidades similares en cada et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Indic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esos y plantas b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ceptos básicos de secuenci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ormulación de problemas de secuenci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olución por optimiz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ormulación de problemas de sínt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Unidades paralela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"/>
          <p:cNvSpPr/>
          <p:nvPr/>
        </p:nvSpPr>
        <p:spPr>
          <a:xfrm>
            <a:off x="3851280" y="2492280"/>
            <a:ext cx="64944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050920" y="2205000"/>
            <a:ext cx="1800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049480" y="191772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2740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6319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93688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5128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15620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910880" y="3213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4180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4636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4607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76568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07060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98500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28956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37516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80080" y="3084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022480" y="314964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9448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99400" y="307332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03280" y="213372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101680" y="2055960"/>
            <a:ext cx="1749600" cy="4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651640" y="2492280"/>
            <a:ext cx="64908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851280" y="2205000"/>
            <a:ext cx="1800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987640" y="357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in unidades paral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51280" y="4941720"/>
            <a:ext cx="64944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052720" y="4365720"/>
            <a:ext cx="1800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2050920" y="4078080"/>
            <a:ext cx="1800" cy="16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32884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6337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93832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85272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15764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912320" y="580536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24324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54816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4625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76712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07204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98644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2913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37696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68152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023920" y="5742000"/>
            <a:ext cx="5410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59592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90084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258920" y="4294080"/>
            <a:ext cx="7063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500720" y="537372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724360" y="4941720"/>
            <a:ext cx="57636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51280" y="4365720"/>
            <a:ext cx="1800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500720" y="4941720"/>
            <a:ext cx="576000" cy="28908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00360" y="4653000"/>
            <a:ext cx="1800360" cy="28728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500720" y="4653000"/>
            <a:ext cx="1800000" cy="28728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908000" y="155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6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300720" y="4941720"/>
            <a:ext cx="576360" cy="28908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96000" y="5229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4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124000" y="61657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n dos unidades  unidades paralelas en la etap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99"/>
                </a:solidFill>
                <a:latin typeface="Tahoma"/>
              </a:rPr>
              <a:t>Planificación y secuenciamien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lanning and Schedu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erte demanda indust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otencial para optimiz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blem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o mode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o plantear la solución en términos de optim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o resolver el problema de optim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99"/>
                </a:solidFill>
                <a:latin typeface="Tahoma"/>
              </a:rPr>
              <a:t>Planificación y secuenciamien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684360" y="5516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Decisiones jerarquicas multinivel con diferentes modelos, escalas de tiempo e incertidumb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659640" y="393372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Nuevas herramientas: Sistemas de informacion + 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062000" y="2368440"/>
            <a:ext cx="1979640" cy="582840"/>
          </a:xfrm>
          <a:prstGeom prst="rect">
            <a:avLst/>
          </a:prstGeom>
          <a:solidFill>
            <a:srgbClr val="00c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62000" y="3416400"/>
            <a:ext cx="1979640" cy="582480"/>
          </a:xfrm>
          <a:prstGeom prst="rect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62000" y="4581360"/>
            <a:ext cx="1979640" cy="582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1339920" y="2944440"/>
            <a:ext cx="142920" cy="478080"/>
            <a:chOff x="1339920" y="2944440"/>
            <a:chExt cx="142920" cy="478080"/>
          </a:xfrm>
        </p:grpSpPr>
        <p:sp>
          <p:nvSpPr>
            <p:cNvPr id="914" name=""/>
            <p:cNvSpPr/>
            <p:nvPr/>
          </p:nvSpPr>
          <p:spPr>
            <a:xfrm>
              <a:off x="1339920" y="324180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10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41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53960" y="3255840"/>
              <a:ext cx="12888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40" y="105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40" y="105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1405080" y="2944440"/>
              <a:ext cx="1440" cy="2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1339920" y="3992040"/>
            <a:ext cx="142920" cy="595800"/>
            <a:chOff x="1339920" y="3992040"/>
            <a:chExt cx="142920" cy="595800"/>
          </a:xfrm>
        </p:grpSpPr>
        <p:sp>
          <p:nvSpPr>
            <p:cNvPr id="918" name=""/>
            <p:cNvSpPr/>
            <p:nvPr/>
          </p:nvSpPr>
          <p:spPr>
            <a:xfrm>
              <a:off x="1339920" y="440676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106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41" y="10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353960" y="4419720"/>
              <a:ext cx="128880" cy="16812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40" y="106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40" y="10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1405080" y="3992040"/>
              <a:ext cx="1440" cy="4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2505240" y="2944800"/>
            <a:ext cx="142560" cy="464760"/>
            <a:chOff x="2505240" y="2944800"/>
            <a:chExt cx="142560" cy="464760"/>
          </a:xfrm>
        </p:grpSpPr>
        <p:sp>
          <p:nvSpPr>
            <p:cNvPr id="922" name=""/>
            <p:cNvSpPr/>
            <p:nvPr/>
          </p:nvSpPr>
          <p:spPr>
            <a:xfrm>
              <a:off x="2505240" y="294480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0"/>
                  </a:moveTo>
                  <a:lnTo>
                    <a:pt x="82" y="106"/>
                  </a:lnTo>
                  <a:lnTo>
                    <a:pt x="41" y="106"/>
                  </a:lnTo>
                  <a:lnTo>
                    <a:pt x="0" y="10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7840" y="295740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0"/>
                  </a:moveTo>
                  <a:lnTo>
                    <a:pt x="82" y="106"/>
                  </a:lnTo>
                  <a:lnTo>
                    <a:pt x="41" y="106"/>
                  </a:lnTo>
                  <a:lnTo>
                    <a:pt x="0" y="10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2570040" y="3112560"/>
              <a:ext cx="1800" cy="2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505240" y="3992400"/>
            <a:ext cx="142560" cy="582480"/>
            <a:chOff x="2505240" y="3992400"/>
            <a:chExt cx="142560" cy="582480"/>
          </a:xfrm>
        </p:grpSpPr>
        <p:sp>
          <p:nvSpPr>
            <p:cNvPr id="926" name=""/>
            <p:cNvSpPr/>
            <p:nvPr/>
          </p:nvSpPr>
          <p:spPr>
            <a:xfrm>
              <a:off x="2505240" y="3992400"/>
              <a:ext cx="129960" cy="16848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0"/>
                  </a:moveTo>
                  <a:lnTo>
                    <a:pt x="82" y="106"/>
                  </a:lnTo>
                  <a:lnTo>
                    <a:pt x="41" y="106"/>
                  </a:lnTo>
                  <a:lnTo>
                    <a:pt x="0" y="10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17840" y="4005360"/>
              <a:ext cx="129960" cy="168120"/>
            </a:xfrm>
            <a:custGeom>
              <a:avLst/>
              <a:gdLst/>
              <a:ahLst/>
              <a:rect l="l" t="t" r="r" b="b"/>
              <a:pathLst>
                <a:path w="82" h="106">
                  <a:moveTo>
                    <a:pt x="41" y="0"/>
                  </a:moveTo>
                  <a:lnTo>
                    <a:pt x="82" y="106"/>
                  </a:lnTo>
                  <a:lnTo>
                    <a:pt x="41" y="106"/>
                  </a:lnTo>
                  <a:lnTo>
                    <a:pt x="0" y="10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2570040" y="4160520"/>
              <a:ext cx="1800" cy="4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1536480" y="2556000"/>
            <a:ext cx="88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19480" y="3603600"/>
            <a:ext cx="112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535760" y="474192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514680" y="2608200"/>
            <a:ext cx="3494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475080" y="2542680"/>
            <a:ext cx="1440" cy="11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008840" y="2542680"/>
            <a:ext cx="1440" cy="11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475080" y="3681360"/>
            <a:ext cx="14619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449520" y="3618000"/>
            <a:ext cx="18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5060880" y="3487680"/>
            <a:ext cx="18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540240" y="4781520"/>
            <a:ext cx="439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3514680" y="4730760"/>
            <a:ext cx="18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4006800" y="4730760"/>
            <a:ext cx="18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912200" y="267192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0000"/>
                </a:solidFill>
                <a:latin typeface="Arial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293800" y="33577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0000"/>
                </a:solidFill>
                <a:latin typeface="Arial"/>
              </a:rPr>
              <a:t>Factibi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295600" y="3589200"/>
            <a:ext cx="267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0000"/>
                </a:solidFill>
                <a:latin typeface="Arial"/>
              </a:rPr>
              <a:t>Cumplimiento de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926520" y="4941720"/>
            <a:ext cx="240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dd0000"/>
                </a:solidFill>
                <a:latin typeface="Arial"/>
              </a:rPr>
              <a:t>Prestaciones diná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270320" y="2276640"/>
            <a:ext cx="74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ses, a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204800" y="247824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777840" y="3429000"/>
            <a:ext cx="90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as , sem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345480" y="4437000"/>
            <a:ext cx="116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gundos, minu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3399"/>
                </a:solidFill>
                <a:latin typeface="Tahoma"/>
              </a:rPr>
              <a:t>Visión ampliada de la planificación y el secuenciamiento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5761080" cy="2502000"/>
          </a:xfrm>
          <a:prstGeom prst="rect">
            <a:avLst/>
          </a:prstGeom>
          <a:ln w="0">
            <a:noFill/>
          </a:ln>
        </p:spPr>
      </p:pic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476280" y="2276640"/>
            <a:ext cx="5338800" cy="204120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5651640" y="1916280"/>
            <a:ext cx="331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ppl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dena de suministro: empresa, almacenes, suministros,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3399"/>
                </a:solidFill>
                <a:latin typeface="Tahoma"/>
              </a:rPr>
              <a:t>Secuenciamiento cíclico en una planta tipo flowshop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2987640" y="270828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116000" y="242100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1114560" y="213372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3921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970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0019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9163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2209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975960" y="3429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0652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61144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5258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307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1353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0497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3546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44024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74516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087560" y="336564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6595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41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68360" y="234936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138560" y="2997360"/>
            <a:ext cx="93672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427640" y="2709720"/>
            <a:ext cx="649080" cy="287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564000" y="2421000"/>
            <a:ext cx="86364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187280" y="2276640"/>
            <a:ext cx="4464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075280" y="2997360"/>
            <a:ext cx="57636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332000" y="177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1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427640" y="2421000"/>
            <a:ext cx="1224000" cy="2872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04000" y="2997360"/>
            <a:ext cx="863640" cy="288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651640" y="2708280"/>
            <a:ext cx="1150920" cy="2872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68360" y="4076640"/>
            <a:ext cx="8351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¿En que orden deben procesarse los lotes si tenemos N produc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ado su carácter cíclico, basta resolver el problema para el primer cic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riterio puede ser escoger el orden para minimizar el tiempo de cic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651640" y="242100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524720" y="270828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8388360" y="29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115092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3399"/>
                </a:solidFill>
                <a:latin typeface="Tahoma"/>
              </a:rPr>
              <a:t>Secuenciamiento cíclico en una planta tipo flowsho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987640" y="270828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16000" y="242100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1114560" y="2133720"/>
            <a:ext cx="144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3921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6970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0019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9163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2209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975960" y="3429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30652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61144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5258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8307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1353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0497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35464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4024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45160" y="3300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87560" y="336564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65956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964120" y="328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68360" y="2349360"/>
            <a:ext cx="5605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138560" y="2997360"/>
            <a:ext cx="93672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427640" y="2709720"/>
            <a:ext cx="649080" cy="2876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564000" y="2421000"/>
            <a:ext cx="86364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187280" y="2276640"/>
            <a:ext cx="4464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075280" y="2997360"/>
            <a:ext cx="576360" cy="2887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332000" y="1773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1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427640" y="2421000"/>
            <a:ext cx="1224000" cy="2872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804000" y="2997360"/>
            <a:ext cx="863640" cy="2887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651640" y="2708280"/>
            <a:ext cx="1150920" cy="2872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95280" y="3860640"/>
            <a:ext cx="835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ra determinar el tiempo de ciclo hay que calcular los tiempos muertos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ikj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entre productos, con tiempos de limpieza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ikj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Un posible algoritmo 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651640" y="2421000"/>
            <a:ext cx="187164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7524720" y="2708280"/>
            <a:ext cx="115092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388360" y="2997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635280" y="1628640"/>
            <a:ext cx="5040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ahoma"/>
              </a:rPr>
              <a:t>ikj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tiempo muerto entre los productos i y k en la etapa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3276720" y="1916280"/>
            <a:ext cx="3585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611280" y="4816440"/>
                <a:ext cx="345600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j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084640" y="4869000"/>
                <a:ext cx="1351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Low>
                        <m:r>
                          <m:t xml:space="preserve">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3399"/>
                </a:solidFill>
                <a:latin typeface="Tahoma"/>
              </a:rPr>
              <a:t>Secuencia óptima para minimizar el tiempo de cicl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960480" y="1700280"/>
                <a:ext cx="68324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 el producto i va seguido del producto  m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1187280" y="2924280"/>
                <a:ext cx="2737080" cy="31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y</m:t>
                            </m:r>
                          </m:lim>
                        </m:limLow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m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jeto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4643280" y="2997360"/>
            <a:ext cx="39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asegurar que la secuencia resultante sea cíc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4788000" y="4076640"/>
                <a:ext cx="2160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Q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∈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m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⊆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t xml:space="preserve">∅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,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4427640" y="59500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todo subconjunto Q d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333399"/>
                </a:solidFill>
                <a:latin typeface="Tahoma"/>
              </a:rPr>
              <a:t>Secuenciamiento mono-etapa multiproduct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6" name=""/>
          <p:cNvSpPr/>
          <p:nvPr/>
        </p:nvSpPr>
        <p:spPr>
          <a:xfrm>
            <a:off x="1258920" y="2565360"/>
            <a:ext cx="1944720" cy="71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042920" y="2492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851280" y="2492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971640" y="3068640"/>
            <a:ext cx="151128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547640" y="3573360"/>
            <a:ext cx="1511640" cy="7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547640" y="4437000"/>
            <a:ext cx="2808360" cy="7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403280" y="3860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1128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76720" y="2924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2589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28472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971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42764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50920" y="5373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mínimo de 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49236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máximo  de fin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05092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uración de la 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826920" y="479736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356000" y="4797360"/>
            <a:ext cx="216000" cy="36036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556000" y="4581360"/>
            <a:ext cx="215640" cy="360360"/>
          </a:xfrm>
          <a:prstGeom prst="upArrow">
            <a:avLst>
              <a:gd name="adj1" fmla="val 50000"/>
              <a:gd name="adj2" fmla="val 4177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619280" y="2205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re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116000" y="2708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r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692360" y="3141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re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95640" y="4005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rea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651640" y="1989000"/>
            <a:ext cx="1655640" cy="64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quip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651640" y="2852640"/>
            <a:ext cx="165564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quip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651640" y="4076640"/>
            <a:ext cx="165564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quipo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651640" y="537372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L equipos similares para realizar las tareas pero, quizas, con costos di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332000" y="602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Tareas correspondientes a los n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796000" y="3645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Asignación y secuenciamient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6" name=""/>
          <p:cNvSpPr/>
          <p:nvPr/>
        </p:nvSpPr>
        <p:spPr>
          <a:xfrm>
            <a:off x="393840" y="292572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93840" y="335772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93840" y="386064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138920" y="357336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138920" y="407664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4138920" y="4581360"/>
            <a:ext cx="83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736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03480" y="300528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36920" y="300528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297080" y="346068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503440" y="346068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92400" y="3978360"/>
            <a:ext cx="0" cy="1126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56040" y="3981600"/>
            <a:ext cx="0" cy="1126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3419640" y="3494160"/>
            <a:ext cx="2233440" cy="115920"/>
            <a:chOff x="3419640" y="3494160"/>
            <a:chExt cx="2233440" cy="115920"/>
          </a:xfrm>
        </p:grpSpPr>
        <p:sp>
          <p:nvSpPr>
            <p:cNvPr id="1079" name=""/>
            <p:cNvSpPr/>
            <p:nvPr/>
          </p:nvSpPr>
          <p:spPr>
            <a:xfrm>
              <a:off x="3445560" y="3552120"/>
              <a:ext cx="217692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419640" y="3497040"/>
              <a:ext cx="0" cy="1130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53080" y="3494160"/>
              <a:ext cx="0" cy="1130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3419640" y="3981600"/>
            <a:ext cx="2233440" cy="117000"/>
            <a:chOff x="3419640" y="3981600"/>
            <a:chExt cx="2233440" cy="117000"/>
          </a:xfrm>
        </p:grpSpPr>
        <p:sp>
          <p:nvSpPr>
            <p:cNvPr id="1083" name=""/>
            <p:cNvSpPr/>
            <p:nvPr/>
          </p:nvSpPr>
          <p:spPr>
            <a:xfrm>
              <a:off x="3445560" y="4041360"/>
              <a:ext cx="217692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19640" y="3984480"/>
              <a:ext cx="0" cy="1141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653080" y="3981600"/>
              <a:ext cx="0" cy="1141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3419640" y="4468680"/>
            <a:ext cx="2233440" cy="117360"/>
            <a:chOff x="3419640" y="4468680"/>
            <a:chExt cx="2233440" cy="117360"/>
          </a:xfrm>
        </p:grpSpPr>
        <p:sp>
          <p:nvSpPr>
            <p:cNvPr id="1087" name=""/>
            <p:cNvSpPr/>
            <p:nvPr/>
          </p:nvSpPr>
          <p:spPr>
            <a:xfrm>
              <a:off x="3445560" y="4527360"/>
              <a:ext cx="217692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419640" y="4471560"/>
              <a:ext cx="0" cy="1144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653080" y="4468680"/>
              <a:ext cx="0" cy="1144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1968480" y="5394240"/>
            <a:ext cx="988920" cy="88920"/>
          </a:xfrm>
          <a:prstGeom prst="roundRect">
            <a:avLst>
              <a:gd name="adj" fmla="val 161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657440" y="3473280"/>
            <a:ext cx="647640" cy="88920"/>
          </a:xfrm>
          <a:prstGeom prst="roundRect">
            <a:avLst>
              <a:gd name="adj" fmla="val 161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251000" y="3019320"/>
            <a:ext cx="990720" cy="87480"/>
          </a:xfrm>
          <a:prstGeom prst="roundRect">
            <a:avLst>
              <a:gd name="adj" fmla="val 161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970600" y="3075120"/>
            <a:ext cx="0" cy="200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6315120" y="3745080"/>
            <a:ext cx="2233440" cy="115200"/>
            <a:chOff x="6315120" y="3745080"/>
            <a:chExt cx="2233440" cy="115200"/>
          </a:xfrm>
        </p:grpSpPr>
        <p:sp>
          <p:nvSpPr>
            <p:cNvPr id="1095" name=""/>
            <p:cNvSpPr/>
            <p:nvPr/>
          </p:nvSpPr>
          <p:spPr>
            <a:xfrm>
              <a:off x="6339240" y="3803400"/>
              <a:ext cx="218016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315120" y="3746160"/>
              <a:ext cx="0" cy="1141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548560" y="3745080"/>
              <a:ext cx="0" cy="1126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315120" y="4233960"/>
            <a:ext cx="2233440" cy="115560"/>
            <a:chOff x="6315120" y="4233960"/>
            <a:chExt cx="2233440" cy="115560"/>
          </a:xfrm>
        </p:grpSpPr>
        <p:sp>
          <p:nvSpPr>
            <p:cNvPr id="1099" name=""/>
            <p:cNvSpPr/>
            <p:nvPr/>
          </p:nvSpPr>
          <p:spPr>
            <a:xfrm>
              <a:off x="6339240" y="4292640"/>
              <a:ext cx="218016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15120" y="4236840"/>
              <a:ext cx="0" cy="1126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548560" y="4233960"/>
              <a:ext cx="0" cy="1144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315120" y="4718160"/>
            <a:ext cx="2233440" cy="117000"/>
            <a:chOff x="6315120" y="4718160"/>
            <a:chExt cx="2233440" cy="117000"/>
          </a:xfrm>
        </p:grpSpPr>
        <p:sp>
          <p:nvSpPr>
            <p:cNvPr id="1103" name=""/>
            <p:cNvSpPr/>
            <p:nvPr/>
          </p:nvSpPr>
          <p:spPr>
            <a:xfrm>
              <a:off x="6339240" y="4777920"/>
              <a:ext cx="218016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15120" y="4721040"/>
              <a:ext cx="0" cy="1141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548560" y="4718160"/>
              <a:ext cx="0" cy="1141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392880" y="3692520"/>
            <a:ext cx="506520" cy="61920"/>
          </a:xfrm>
          <a:prstGeom prst="roundRect">
            <a:avLst>
              <a:gd name="adj" fmla="val 2269"/>
            </a:avLst>
          </a:prstGeom>
          <a:solidFill>
            <a:srgbClr val="6b4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765920" y="3692520"/>
            <a:ext cx="507960" cy="61920"/>
          </a:xfrm>
          <a:prstGeom prst="roundRect">
            <a:avLst>
              <a:gd name="adj" fmla="val 2269"/>
            </a:avLst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067520" y="3692520"/>
            <a:ext cx="507960" cy="61920"/>
          </a:xfrm>
          <a:prstGeom prst="roundRect">
            <a:avLst>
              <a:gd name="adj" fmla="val 226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399440" y="4170240"/>
            <a:ext cx="506160" cy="63720"/>
          </a:xfrm>
          <a:prstGeom prst="roundRect">
            <a:avLst>
              <a:gd name="adj" fmla="val 226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624720" y="4170240"/>
            <a:ext cx="506160" cy="63720"/>
          </a:xfrm>
          <a:prstGeom prst="roundRect">
            <a:avLst>
              <a:gd name="adj" fmla="val 2269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020000" y="4662360"/>
            <a:ext cx="506160" cy="61920"/>
          </a:xfrm>
          <a:prstGeom prst="roundRect">
            <a:avLst>
              <a:gd name="adj" fmla="val 226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6583320" y="3068640"/>
            <a:ext cx="1549440" cy="557280"/>
          </a:xfrm>
          <a:custGeom>
            <a:avLst/>
            <a:gdLst/>
            <a:ahLst/>
            <a:rect l="l" t="t" r="r" b="b"/>
            <a:pathLst>
              <a:path w="4748" h="1713">
                <a:moveTo>
                  <a:pt x="0" y="1673"/>
                </a:moveTo>
                <a:cubicBezTo>
                  <a:pt x="856" y="623"/>
                  <a:pt x="3541" y="0"/>
                  <a:pt x="4747" y="1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788160" y="3843360"/>
            <a:ext cx="838080" cy="264960"/>
          </a:xfrm>
          <a:custGeom>
            <a:avLst/>
            <a:gdLst/>
            <a:ahLst/>
            <a:rect l="l" t="t" r="r" b="b"/>
            <a:pathLst>
              <a:path w="2569" h="818">
                <a:moveTo>
                  <a:pt x="0" y="817"/>
                </a:moveTo>
                <a:cubicBezTo>
                  <a:pt x="895" y="0"/>
                  <a:pt x="1712" y="117"/>
                  <a:pt x="2568" y="8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383600" y="3411360"/>
            <a:ext cx="609480" cy="228600"/>
          </a:xfrm>
          <a:custGeom>
            <a:avLst/>
            <a:gdLst/>
            <a:ahLst/>
            <a:rect l="l" t="t" r="r" b="b"/>
            <a:pathLst>
              <a:path w="1868" h="701">
                <a:moveTo>
                  <a:pt x="0" y="700"/>
                </a:moveTo>
                <a:cubicBezTo>
                  <a:pt x="661" y="0"/>
                  <a:pt x="1284" y="194"/>
                  <a:pt x="1867" y="7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73680" y="3463920"/>
            <a:ext cx="595440" cy="189000"/>
          </a:xfrm>
          <a:custGeom>
            <a:avLst/>
            <a:gdLst/>
            <a:ahLst/>
            <a:rect l="l" t="t" r="r" b="b"/>
            <a:pathLst>
              <a:path w="1828" h="584">
                <a:moveTo>
                  <a:pt x="0" y="583"/>
                </a:moveTo>
                <a:cubicBezTo>
                  <a:pt x="467" y="0"/>
                  <a:pt x="1321" y="36"/>
                  <a:pt x="1827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3840" y="429408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93840" y="479736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93840" y="5229360"/>
            <a:ext cx="69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ea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398600" y="4410000"/>
            <a:ext cx="0" cy="1144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536920" y="4410000"/>
            <a:ext cx="0" cy="1144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98520" y="4865760"/>
            <a:ext cx="0" cy="114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797200" y="4865760"/>
            <a:ext cx="0" cy="114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619280" y="538164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3316320" y="5384880"/>
            <a:ext cx="0" cy="1159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708200" y="3990960"/>
            <a:ext cx="988920" cy="87480"/>
          </a:xfrm>
          <a:prstGeom prst="roundRect">
            <a:avLst>
              <a:gd name="adj" fmla="val 1611"/>
            </a:avLst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1657440" y="4879800"/>
            <a:ext cx="647640" cy="87480"/>
          </a:xfrm>
          <a:prstGeom prst="roundRect">
            <a:avLst>
              <a:gd name="adj" fmla="val 1611"/>
            </a:avLst>
          </a:prstGeom>
          <a:solidFill>
            <a:srgbClr val="6b47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481040" y="4422600"/>
            <a:ext cx="989280" cy="87480"/>
          </a:xfrm>
          <a:prstGeom prst="roundRect">
            <a:avLst>
              <a:gd name="adj" fmla="val 1611"/>
            </a:avLst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982880" y="2739960"/>
            <a:ext cx="2109600" cy="747720"/>
          </a:xfrm>
          <a:custGeom>
            <a:avLst/>
            <a:gdLst/>
            <a:ahLst/>
            <a:rect l="l" t="t" r="r" b="b"/>
            <a:pathLst>
              <a:path w="6463" h="2291">
                <a:moveTo>
                  <a:pt x="0" y="710"/>
                </a:moveTo>
                <a:cubicBezTo>
                  <a:pt x="1658" y="0"/>
                  <a:pt x="5317" y="513"/>
                  <a:pt x="6462" y="22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833560" y="4570560"/>
            <a:ext cx="992160" cy="787320"/>
          </a:xfrm>
          <a:custGeom>
            <a:avLst/>
            <a:gdLst/>
            <a:ahLst/>
            <a:rect l="l" t="t" r="r" b="b"/>
            <a:pathLst>
              <a:path w="3041" h="2410">
                <a:moveTo>
                  <a:pt x="0" y="2409"/>
                </a:moveTo>
                <a:cubicBezTo>
                  <a:pt x="1184" y="2251"/>
                  <a:pt x="2645" y="1343"/>
                  <a:pt x="30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266920" y="4094280"/>
            <a:ext cx="1635120" cy="554040"/>
          </a:xfrm>
          <a:custGeom>
            <a:avLst/>
            <a:gdLst/>
            <a:ahLst/>
            <a:rect l="l" t="t" r="r" b="b"/>
            <a:pathLst>
              <a:path w="5016" h="1699">
                <a:moveTo>
                  <a:pt x="0" y="1382"/>
                </a:moveTo>
                <a:cubicBezTo>
                  <a:pt x="1816" y="1698"/>
                  <a:pt x="3751" y="1027"/>
                  <a:pt x="501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076480" y="3151080"/>
            <a:ext cx="1714320" cy="811440"/>
          </a:xfrm>
          <a:custGeom>
            <a:avLst/>
            <a:gdLst/>
            <a:ahLst/>
            <a:rect l="l" t="t" r="r" b="b"/>
            <a:pathLst>
              <a:path w="5253" h="2489">
                <a:moveTo>
                  <a:pt x="0" y="711"/>
                </a:moveTo>
                <a:cubicBezTo>
                  <a:pt x="1935" y="0"/>
                  <a:pt x="4068" y="1106"/>
                  <a:pt x="5252" y="2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448000" y="3062160"/>
            <a:ext cx="1103400" cy="862200"/>
          </a:xfrm>
          <a:custGeom>
            <a:avLst/>
            <a:gdLst/>
            <a:ahLst/>
            <a:rect l="l" t="t" r="r" b="b"/>
            <a:pathLst>
              <a:path w="3383" h="2647">
                <a:moveTo>
                  <a:pt x="0" y="2646"/>
                </a:moveTo>
                <a:cubicBezTo>
                  <a:pt x="65" y="1382"/>
                  <a:pt x="2158" y="0"/>
                  <a:pt x="3382" y="1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289240" y="3592440"/>
            <a:ext cx="1519200" cy="1249560"/>
          </a:xfrm>
          <a:custGeom>
            <a:avLst/>
            <a:gdLst/>
            <a:ahLst/>
            <a:rect l="l" t="t" r="r" b="b"/>
            <a:pathLst>
              <a:path w="4660" h="3831">
                <a:moveTo>
                  <a:pt x="0" y="3830"/>
                </a:moveTo>
                <a:cubicBezTo>
                  <a:pt x="2290" y="3159"/>
                  <a:pt x="3869" y="1540"/>
                  <a:pt x="465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620720" y="58770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300360" y="587700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cue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258920" y="162864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Asignar cada tarea a un equipo, y el orden y tiempo de ejecución en los mismos, de forma que se cumplan las restricciones de tiempos y se minimizen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Plantas batch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2360" y="18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medida que la fabricación de productos de alto valor añadido (químicos, farmaceúticos, alimentos, ciertos polímeros…) y producción limitada va generalizándose, tiene mas interés la fabricación en forma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gualmente tiene creciente interés el reutilizar los equipos para fabricar distintos productos, dando lugar a fábricas flexibles multiproducto situadas cerca de los lugares de consu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to requiere planificar y secuenciar la producción decidiendo qué productos se procesan, en qué equipos, en qué orden y los tiempos de inicio y fin de cada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Unidades batch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6460920" cy="4354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20000" y="2349360"/>
            <a:ext cx="1871640" cy="2025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Secuencia de operaciones internas en la 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es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3080" y="4724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ceta para la 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59600" y="55926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asicamente problemas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45200" y="1784520"/>
            <a:ext cx="17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O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Plantas batch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4400" y="2309760"/>
            <a:ext cx="4262400" cy="3195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00560" y="2428920"/>
            <a:ext cx="358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uando se considera un conjunto de unidades batch, el problema fundamental es saber cuando arrancar y descargar cada una, de forma que se procese un determinado flujo de productos y se satisfagan las restricciones de energia, calidad, almacenamiento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Fabricación monoproducto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071720" y="1865160"/>
            <a:ext cx="727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ormalmente, la fabricación de un producto implica varias etapas que se llevan a cabo secuencialmente en varios equipos de acuerdo a una receta de fabr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0200" y="3789360"/>
            <a:ext cx="936720" cy="10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1840" y="3789360"/>
            <a:ext cx="433440" cy="1079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3645000"/>
            <a:ext cx="1224000" cy="936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entrif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3789360"/>
            <a:ext cx="1225440" cy="934920"/>
          </a:xfrm>
          <a:custGeom>
            <a:avLst/>
            <a:gdLst>
              <a:gd name="textAreaLeft" fmla="*/ 269280 w 1225440"/>
              <a:gd name="textAreaRight" fmla="*/ 956160 w 1225440"/>
              <a:gd name="textAreaTop" fmla="*/ 205560 h 934920"/>
              <a:gd name="textAreaBottom" fmla="*/ 7293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9720" y="4299120"/>
            <a:ext cx="6494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09840" y="4292640"/>
            <a:ext cx="6494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78200" y="4221000"/>
            <a:ext cx="6494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4292640"/>
            <a:ext cx="6494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4292640"/>
            <a:ext cx="64908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57117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n el ejemplo, la fabricación del producto A implica cuatro etapas (cada en una unidad de proceso) sucesivas empleando en cada una los tiempos indi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54080" y="495288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tapa 1, 4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92720" y="4581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4400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50028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ez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14400" y="3597120"/>
            <a:ext cx="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93880" y="4973760"/>
            <a:ext cx="14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tapa 2, 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62600" y="4933800"/>
            <a:ext cx="14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tapa 4, 1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57600" y="4950000"/>
            <a:ext cx="14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tapa 3, 2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Diagrama de Gant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060720" y="292572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6720" y="263844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10040" y="3484440"/>
            <a:ext cx="299880" cy="3049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836360" y="2349000"/>
            <a:ext cx="4284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8448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904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9396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1328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7960" y="393372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98880" y="380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03440" y="380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784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2276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2768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4208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4664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32240" y="380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37160" y="3805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79560" y="387036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5156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56480" y="3794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89080" y="256536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1080" y="321300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64000" y="4797360"/>
            <a:ext cx="360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24000" y="4508640"/>
            <a:ext cx="122400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5373720"/>
            <a:ext cx="28728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1908000" y="4220640"/>
            <a:ext cx="4320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557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6068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6560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845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9600" y="580536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7016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7508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8948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9440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989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133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1828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0388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08800" y="56768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51200" y="57420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2320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27760" y="566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60360" y="443700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5084640"/>
            <a:ext cx="57600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4508640"/>
            <a:ext cx="216000" cy="28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4508640"/>
            <a:ext cx="216000" cy="28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4797360"/>
            <a:ext cx="228600" cy="287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4797360"/>
            <a:ext cx="216000" cy="28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5084640"/>
            <a:ext cx="216000" cy="28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6360" y="5084640"/>
            <a:ext cx="216000" cy="289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16360" y="5373720"/>
            <a:ext cx="216000" cy="288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5373720"/>
            <a:ext cx="216000" cy="288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4508640"/>
            <a:ext cx="216000" cy="28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4437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ferencia entre 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Diagrama de Gant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3060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6720" y="234936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836360" y="2060640"/>
            <a:ext cx="42840" cy="15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84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90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939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083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0132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7960" y="3645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9888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034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178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227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27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42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466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322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3716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79560" y="358128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515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6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89080" y="227664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1080" y="2924280"/>
            <a:ext cx="5904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4720" y="234936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3640" y="3211560"/>
            <a:ext cx="28908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69080" y="2924280"/>
            <a:ext cx="576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27640" y="1916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peración no-sola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32000" y="472608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4437000"/>
            <a:ext cx="1224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5300640"/>
            <a:ext cx="28872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908000" y="4149360"/>
            <a:ext cx="4320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557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606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656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800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845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600" y="573408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7016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894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944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989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133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182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0388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0880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51200" y="567072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232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277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60360" y="436572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501336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4724280"/>
            <a:ext cx="36036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32000" y="4437000"/>
            <a:ext cx="1224000" cy="285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91280" y="5299200"/>
            <a:ext cx="288720" cy="28872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5011560"/>
            <a:ext cx="576360" cy="2876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27640" y="429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peración sola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25880" y="3214800"/>
            <a:ext cx="299880" cy="30456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Tiempo de ciclo (Cycle Time)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3060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36720" y="234936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95640" y="3211560"/>
            <a:ext cx="28908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1836360" y="2060640"/>
            <a:ext cx="42840" cy="153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84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90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939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083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132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67960" y="364500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9888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034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78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227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27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42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4664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3224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7160" y="3516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79560" y="358128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5156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56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89080" y="227664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21080" y="292428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08720" y="2637000"/>
            <a:ext cx="360360" cy="2743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84720" y="2349360"/>
            <a:ext cx="1224000" cy="28584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43640" y="3211560"/>
            <a:ext cx="289080" cy="2887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9080" y="2924280"/>
            <a:ext cx="576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4726080"/>
            <a:ext cx="360360" cy="2746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08000" y="4437000"/>
            <a:ext cx="122400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67280" y="5300640"/>
            <a:ext cx="288720" cy="2890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1908000" y="4149360"/>
            <a:ext cx="43200" cy="1536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557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606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656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00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39600" y="5734080"/>
            <a:ext cx="564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0            2           4           6            8           10          12         14          16   t (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7016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7508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894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944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9989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133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828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0388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08800" y="560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51200" y="567072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2320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27760" y="5594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60360" y="4365720"/>
            <a:ext cx="5605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U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360" y="5013360"/>
            <a:ext cx="576360" cy="28728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56000" y="4724280"/>
            <a:ext cx="360360" cy="27468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32000" y="4437000"/>
            <a:ext cx="1224000" cy="2858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91280" y="5299200"/>
            <a:ext cx="288720" cy="28872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16360" y="5011560"/>
            <a:ext cx="576360" cy="28764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69880" y="6135840"/>
            <a:ext cx="64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Intervalo de tiempo entre el comienzo de dos cic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220500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0920" y="177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= 8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79640" y="4292640"/>
            <a:ext cx="1152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95640" y="38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iempo de ciclo = 4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7102440" y="2276640"/>
                <a:ext cx="1168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093080" y="4437000"/>
                <a:ext cx="15238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7596360" y="328464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 = nº de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1:38:32Z</dcterms:created>
  <dc:creator>Dpto. de Ing. de Sistemas y Automatica</dc:creator>
  <dc:description/>
  <dc:language>en-US</dc:language>
  <cp:lastModifiedBy>isa</cp:lastModifiedBy>
  <dcterms:modified xsi:type="dcterms:W3CDTF">2008-05-27T12:18:59Z</dcterms:modified>
  <cp:revision>15</cp:revision>
  <dc:subject/>
  <dc:title>Planificación y secuenciamiento de procesos por lotes</dc:title>
</cp:coreProperties>
</file>