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5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5FE-311F-4C8B-AD87-135A40BE65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0297-0DF5-4452-97BA-7CCD37EAEA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FA4-1CB2-4CC1-8C69-BF85CADC08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C514-D132-4B2D-9C7A-69AA38818D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8EB-6AE7-464F-9737-5842484DFAB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976B-4995-4B3A-9108-9E111D49D7C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037-755A-4676-89E9-5AB4473B2D3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FFD-BEED-42AE-8B67-8779811D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C59-AFDA-4C3D-949F-24EB9546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1F1-1A2C-46A4-ADCA-74DD7BBC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F5F-B8AF-4CB1-AF09-E1E3FAB6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447-B103-444A-83CB-743C2B19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950-EEF4-4CD8-B919-F4815E07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05D-3D95-43CC-B78D-9B76D9F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5D5-6ADA-49CB-97CF-8C43DAA7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56B-28F3-41C2-8D51-3EC6A280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730-5989-4203-B601-4C0E93A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566-DE59-493E-B389-C6D43179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D9E-8F64-49A3-B8D3-FD2C2DE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8384-0595-4510-80B5-854605446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C:\programas\simumodu\SIMUMODU.EXE" TargetMode="External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C:\EDIT\CLASE\Control\segundoorden.exe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C:\EDIT\CLASE\Control\termicos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Programas\CSTATION\Cstation.exe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sistemas en el domini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. Cesar de P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pt. Ingenieria de Sistemas y Auto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ultad de Ci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Vallad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ada@autom.uva.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valores de la atenuación 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 y el desf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rg(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que introduce un sistema lineal dependen solo de G(s) y pueden representarse en función de la frecuenc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diversos tipos de diagramas sin mas que sustituir la variable s por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G(s) y calcular el módulo y argumento del complejo 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sul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79400" y="4213080"/>
                <a:ext cx="71294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00280" y="1581120"/>
            <a:ext cx="6248160" cy="4684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grama de B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" y="4114800"/>
            <a:ext cx="16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g(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) en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240" y="19810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2960" y="36576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scala logarit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867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B = 20log | .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2895480"/>
            <a:ext cx="0" cy="865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19520" y="291924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567400" y="5246280"/>
            <a:ext cx="0" cy="34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98640" y="523728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37520" y="599436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: bode(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fase en g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32040" y="2571840"/>
            <a:ext cx="572940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33760" y="2241720"/>
            <a:ext cx="2832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83160" y="2317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º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3746520"/>
            <a:ext cx="572904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0800" y="3441600"/>
            <a:ext cx="7416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2800" y="29448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1600" y="480060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desf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grados puede traducirse a tiempo de retardo como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/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79640" y="1720800"/>
            <a:ext cx="5905440" cy="4427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21120" y="3897360"/>
            <a:ext cx="42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27520" y="2214720"/>
            <a:ext cx="0" cy="33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520" y="3897360"/>
            <a:ext cx="1473480" cy="1349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6440" y="3897360"/>
            <a:ext cx="162000" cy="309600"/>
          </a:xfrm>
          <a:custGeom>
            <a:avLst/>
            <a:gdLst/>
            <a:ahLst/>
            <a:rect l="l" t="t" r="r" b="b"/>
            <a:pathLst>
              <a:path w="102" h="195">
                <a:moveTo>
                  <a:pt x="102" y="0"/>
                </a:moveTo>
                <a:cubicBezTo>
                  <a:pt x="98" y="45"/>
                  <a:pt x="95" y="91"/>
                  <a:pt x="86" y="117"/>
                </a:cubicBezTo>
                <a:cubicBezTo>
                  <a:pt x="77" y="143"/>
                  <a:pt x="61" y="143"/>
                  <a:pt x="47" y="156"/>
                </a:cubicBezTo>
                <a:cubicBezTo>
                  <a:pt x="33" y="169"/>
                  <a:pt x="16" y="182"/>
                  <a:pt x="0" y="19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835600" y="4649760"/>
                <a:ext cx="736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188040" y="4057560"/>
                <a:ext cx="1168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093440" y="505296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520" y="2214720"/>
            <a:ext cx="19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cada valor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 dibuja el módulo y argumento de 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0280" y="4897440"/>
            <a:ext cx="20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polar: parametrizado en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63640" y="606888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: nyquist(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3860640"/>
            <a:ext cx="73080" cy="73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30400" y="1800360"/>
            <a:ext cx="5384880" cy="4037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ich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1040" y="2670120"/>
            <a:ext cx="26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s de 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en dB en función de arg(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en 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9560" y="507996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lab: nichols(s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Por qué diagramas logaritmic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1916280"/>
                <a:ext cx="759636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τ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τ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j</m:t>
                                    </m:r>
                                    <m:r>
                                      <m:t xml:space="preserve">ω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j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τ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τjω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81120" y="4305240"/>
            <a:ext cx="77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dB, el diagrama de |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|  puede obtenerse por superposición de los diagramas de términos elementales correspondientes a cada polo, cero, ganancia y ret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9280" y="5589720"/>
                <a:ext cx="846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τj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polo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56160" y="2665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3360" y="4772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6240" y="2671920"/>
            <a:ext cx="2043360" cy="890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6320" y="26226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83160" y="22510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21360" y="23493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59400" y="44560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5630760"/>
            <a:ext cx="220176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4160" y="53690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76200" y="1598760"/>
                <a:ext cx="51307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τ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-20dB 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, 0 d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753160" y="322884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89600" y="2997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0080" y="322884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92920" y="272052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92920" y="26607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75480" y="22557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68760" y="2720880"/>
            <a:ext cx="129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38840" y="2733840"/>
            <a:ext cx="2289240" cy="65556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86680" y="111276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16600" y="1979640"/>
            <a:ext cx="457200" cy="345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18160" y="485604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85120" y="47545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1960" y="438300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1880" y="4886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25880" y="525780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84800" y="50259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33760" y="2179800"/>
            <a:ext cx="4326120" cy="38941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polo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654600" y="2647440"/>
            <a:ext cx="1670040" cy="1335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2733840"/>
            <a:ext cx="1881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23200" y="35290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0" y="2374920"/>
            <a:ext cx="3538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nuación pequeña hasta la frecuencia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luego crece progres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lento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nde) tienen frecuencias de corte pequeñas y atenuan los cambios rápidos. Sistemas rápidos responden a un rango mayor de velocidad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013280" y="1820880"/>
            <a:ext cx="4325760" cy="3894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60680" y="355428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ho de b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62440" y="2585880"/>
            <a:ext cx="1608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70560" y="2585880"/>
            <a:ext cx="0" cy="1063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36376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3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5440" y="1968480"/>
            <a:ext cx="28670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ecuencia a la cual la atenuación es de -3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una medida del rango de velocidades de cambio de la entrada al que el sistema responde sin atenuación no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15080" y="1930320"/>
            <a:ext cx="0" cy="253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2040" y="2720880"/>
            <a:ext cx="34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95320" y="1954080"/>
                <a:ext cx="5130720" cy="38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5815080" y="2720880"/>
            <a:ext cx="1844640" cy="839880"/>
          </a:xfrm>
          <a:custGeom>
            <a:avLst/>
            <a:gdLst/>
            <a:ahLst/>
            <a:rect l="l" t="t" r="r" b="b"/>
            <a:pathLst>
              <a:path w="1162" h="529">
                <a:moveTo>
                  <a:pt x="1162" y="0"/>
                </a:moveTo>
                <a:cubicBezTo>
                  <a:pt x="1159" y="57"/>
                  <a:pt x="1157" y="115"/>
                  <a:pt x="1138" y="172"/>
                </a:cubicBezTo>
                <a:cubicBezTo>
                  <a:pt x="1119" y="229"/>
                  <a:pt x="1081" y="295"/>
                  <a:pt x="1045" y="343"/>
                </a:cubicBezTo>
                <a:cubicBezTo>
                  <a:pt x="1009" y="391"/>
                  <a:pt x="982" y="430"/>
                  <a:pt x="920" y="460"/>
                </a:cubicBezTo>
                <a:cubicBezTo>
                  <a:pt x="858" y="490"/>
                  <a:pt x="754" y="517"/>
                  <a:pt x="671" y="523"/>
                </a:cubicBezTo>
                <a:cubicBezTo>
                  <a:pt x="588" y="529"/>
                  <a:pt x="495" y="520"/>
                  <a:pt x="421" y="499"/>
                </a:cubicBezTo>
                <a:cubicBezTo>
                  <a:pt x="347" y="478"/>
                  <a:pt x="280" y="439"/>
                  <a:pt x="226" y="398"/>
                </a:cubicBezTo>
                <a:cubicBezTo>
                  <a:pt x="172" y="357"/>
                  <a:pt x="125" y="294"/>
                  <a:pt x="94" y="250"/>
                </a:cubicBezTo>
                <a:cubicBezTo>
                  <a:pt x="63" y="206"/>
                  <a:pt x="55" y="173"/>
                  <a:pt x="39" y="133"/>
                </a:cubicBezTo>
                <a:cubicBezTo>
                  <a:pt x="23" y="93"/>
                  <a:pt x="11" y="50"/>
                  <a:pt x="0" y="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96280" y="228924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15080" y="2720880"/>
            <a:ext cx="1546200" cy="63180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737400" y="2793960"/>
                <a:ext cx="736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ominio frecu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estudio en el dominio frecuencial permite ver y analizar los sistemas de control desde otra perspectiva. Muchos aspectos se ven mas fácilmente desde el dominio de   la frecu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114800" y="5181480"/>
          <a:ext cx="83016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181480"/>
                    <a:ext cx="83016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648320" y="2147760"/>
          <a:ext cx="3809880" cy="37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47760"/>
                    <a:ext cx="380988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7924680" y="5638680"/>
          <a:ext cx="986040" cy="91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5638680"/>
                    <a:ext cx="986040" cy="9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Cero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56160" y="26654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3360" y="47721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93120" y="3755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69200" y="1879560"/>
            <a:ext cx="2043000" cy="890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556320" y="26226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83160" y="22510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21360" y="23493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3720" y="481500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40280" y="405936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15480" y="3871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53160" y="322884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89600" y="2997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50080" y="322884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2920" y="272088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792920" y="26604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5480" y="22557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2720880"/>
            <a:ext cx="129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800680" y="2040840"/>
            <a:ext cx="2289240" cy="65556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86680" y="111276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816600" y="1979640"/>
            <a:ext cx="457200" cy="345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630760" y="406476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5120" y="47545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38880" y="501336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1880" y="4441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825880" y="442908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9240" y="41846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96800" y="1763640"/>
                <a:ext cx="4889520" cy="431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20dB 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, 0 d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ωc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6024600" y="5616720"/>
            <a:ext cx="25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recuencias altas se amplif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polo do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31840" y="1770120"/>
                <a:ext cx="5295960" cy="43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τ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-40dB 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, 0 dB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962680" y="184320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67320" y="274644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0000" y="269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98400" y="17352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54760" y="397512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9400" y="48783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97200" y="4797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93040" y="2684520"/>
            <a:ext cx="1746000" cy="13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80160" y="26478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07000" y="22766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5200" y="23749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3240" y="44816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77080" y="5656320"/>
            <a:ext cx="220176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51920" y="545616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51440" y="361332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62680" y="33940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4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6840" y="3613320"/>
            <a:ext cx="18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769160" y="274608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69160" y="26859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39120" y="22575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92600" y="2746440"/>
            <a:ext cx="12988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08560" y="2771640"/>
            <a:ext cx="1770120" cy="105120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0520" y="1138320"/>
            <a:ext cx="164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cuencia de c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940440" y="2004840"/>
            <a:ext cx="457200" cy="346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42000" y="4881600"/>
            <a:ext cx="2324160" cy="74592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08600" y="478008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5800" y="440856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5720" y="49118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949720" y="52833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1000" y="50641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15080" y="1930320"/>
            <a:ext cx="0" cy="253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2040" y="2720880"/>
            <a:ext cx="3425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812880" y="1878120"/>
                <a:ext cx="5295960" cy="39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)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φ</m:t>
                                  </m:r>
                                  <m:r>
                                    <m:t xml:space="preserve">→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80</m:t>
                                  </m:r>
                                  <m:r>
                                    <m:t xml:space="preserve">º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ótonamente decreciente,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7496280" y="2289240"/>
            <a:ext cx="3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15080" y="2720880"/>
            <a:ext cx="1409760" cy="10033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686640" y="2905200"/>
                <a:ext cx="7365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5375160" y="273384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e: polos complejos conjug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258920" y="1976400"/>
                <a:ext cx="6199200" cy="396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j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0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 de pendiente -40 dB y que pasa por 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057560" y="4478400"/>
            <a:ext cx="2090880" cy="4460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e: polos complejos conjug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74600" y="1994040"/>
                <a:ext cx="6326280" cy="37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¿Presenta un máximo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dω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δ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  existirá un máximo 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conocido  como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co de resonancia  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 la frecuencia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799240" y="5627520"/>
                <a:ext cx="2717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δ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7227720" y="151776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32720" y="2421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63800" y="14097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17080" y="2708280"/>
            <a:ext cx="647640" cy="50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3920" y="23842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62960" y="1938240"/>
            <a:ext cx="5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04360" y="242244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4360" y="242100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02600" y="2379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508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e: polos complejos conjug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57360" y="2085840"/>
                <a:ext cx="556272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j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0.707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10280" y="190980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14920" y="281304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46000" y="18018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02360" y="4041720"/>
            <a:ext cx="0" cy="180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07000" y="49449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44800" y="4863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40720" y="3871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24760" y="2751120"/>
            <a:ext cx="1560240" cy="1211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86680" y="271476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75360" y="2268360"/>
            <a:ext cx="5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44152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30840" y="454824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24320" y="577224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43560" y="55357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99040" y="367992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96160" y="3102120"/>
            <a:ext cx="9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40 dB por dé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6760" y="275256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40200" y="2813040"/>
            <a:ext cx="15955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373800" y="2319480"/>
            <a:ext cx="457200" cy="345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6320" y="4997520"/>
            <a:ext cx="2324160" cy="74592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42120" y="48466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50040" y="50277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5223960" y="539748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5320" y="518004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0440" y="1943280"/>
            <a:ext cx="32036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nancia: La amplitud de la salida se ve amplificada a ciertas frecuencias y es máxima par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reciendo inversamente c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0920" y="287964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6840" y="2505240"/>
            <a:ext cx="2349360" cy="1170000"/>
          </a:xfrm>
          <a:custGeom>
            <a:avLst/>
            <a:gdLst/>
            <a:ahLst/>
            <a:rect l="l" t="t" r="r" b="b"/>
            <a:pathLst>
              <a:path w="1480" h="737">
                <a:moveTo>
                  <a:pt x="0" y="184"/>
                </a:moveTo>
                <a:cubicBezTo>
                  <a:pt x="45" y="190"/>
                  <a:pt x="91" y="196"/>
                  <a:pt x="132" y="191"/>
                </a:cubicBezTo>
                <a:cubicBezTo>
                  <a:pt x="173" y="186"/>
                  <a:pt x="219" y="170"/>
                  <a:pt x="249" y="153"/>
                </a:cubicBezTo>
                <a:cubicBezTo>
                  <a:pt x="279" y="136"/>
                  <a:pt x="290" y="109"/>
                  <a:pt x="311" y="90"/>
                </a:cubicBezTo>
                <a:cubicBezTo>
                  <a:pt x="332" y="71"/>
                  <a:pt x="355" y="50"/>
                  <a:pt x="374" y="36"/>
                </a:cubicBezTo>
                <a:cubicBezTo>
                  <a:pt x="393" y="22"/>
                  <a:pt x="401" y="0"/>
                  <a:pt x="428" y="4"/>
                </a:cubicBezTo>
                <a:cubicBezTo>
                  <a:pt x="455" y="8"/>
                  <a:pt x="498" y="25"/>
                  <a:pt x="537" y="59"/>
                </a:cubicBezTo>
                <a:cubicBezTo>
                  <a:pt x="576" y="93"/>
                  <a:pt x="620" y="166"/>
                  <a:pt x="662" y="207"/>
                </a:cubicBezTo>
                <a:cubicBezTo>
                  <a:pt x="704" y="248"/>
                  <a:pt x="722" y="269"/>
                  <a:pt x="787" y="308"/>
                </a:cubicBezTo>
                <a:cubicBezTo>
                  <a:pt x="852" y="347"/>
                  <a:pt x="982" y="405"/>
                  <a:pt x="1052" y="441"/>
                </a:cubicBezTo>
                <a:cubicBezTo>
                  <a:pt x="1122" y="477"/>
                  <a:pt x="1137" y="478"/>
                  <a:pt x="1208" y="527"/>
                </a:cubicBezTo>
                <a:cubicBezTo>
                  <a:pt x="1279" y="576"/>
                  <a:pt x="1379" y="656"/>
                  <a:pt x="1480" y="73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27097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59600" y="170820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cuencia de tran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4475160"/>
            <a:ext cx="582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06400" y="5121360"/>
            <a:ext cx="1101960" cy="59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87560" y="5467320"/>
            <a:ext cx="61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19520" y="5442120"/>
            <a:ext cx="77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36880" y="4689360"/>
            <a:ext cx="1349280" cy="6541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000" y="5029200"/>
            <a:ext cx="1349280" cy="20808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33440" y="2600280"/>
            <a:ext cx="4025880" cy="3017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4686480" y="2762280"/>
            <a:ext cx="3822480" cy="28670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flipV="1">
            <a:off x="6462720" y="3068640"/>
            <a:ext cx="0" cy="216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64000" y="4149720"/>
            <a:ext cx="27370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gt; 0.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45280" y="181944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49920" y="2722680"/>
            <a:ext cx="31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81000" y="17114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7000" y="39513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42000" y="4854600"/>
            <a:ext cx="31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79800" y="47736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75360" y="37814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75280" y="2660760"/>
            <a:ext cx="1746360" cy="1360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62760" y="26240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27440" y="235116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65840" y="44578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59320" y="563256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34160" y="54324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18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34040" y="3589200"/>
            <a:ext cx="1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4920" y="337032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4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29080" y="3589200"/>
            <a:ext cx="18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7151760" y="27223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51760" y="266220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21360" y="22334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75200" y="2722680"/>
            <a:ext cx="12985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91160" y="2747880"/>
            <a:ext cx="1770120" cy="105084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149520" y="1981080"/>
            <a:ext cx="630360" cy="606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24600" y="4857840"/>
            <a:ext cx="2323800" cy="74592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1200" y="475632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87960" y="4888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331960" y="52592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13600" y="5040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18772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81160" y="2144880"/>
            <a:ext cx="22384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Resonancia, la atenuacion en monótonamente decreciente, con pendiente -40dB por década para frecuencias superiores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89640" y="141444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cuencia de tran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83120" y="4338720"/>
            <a:ext cx="58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 K, retar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776160" y="2157480"/>
                <a:ext cx="1727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o  -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2413080" y="207792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una c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36400" y="4395960"/>
                <a:ext cx="257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d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d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8081280" y="2874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3360" y="5006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15000" y="2362320"/>
            <a:ext cx="2263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94480" y="2724120"/>
            <a:ext cx="22636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87280" y="5492880"/>
            <a:ext cx="9036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78000" y="3171960"/>
            <a:ext cx="903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45240" y="4853160"/>
            <a:ext cx="2263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29240" y="4935600"/>
            <a:ext cx="1682640" cy="977760"/>
          </a:xfrm>
          <a:custGeom>
            <a:avLst/>
            <a:gdLst/>
            <a:ahLst/>
            <a:rect l="l" t="t" r="r" b="b"/>
            <a:pathLst>
              <a:path w="1060" h="616">
                <a:moveTo>
                  <a:pt x="0" y="8"/>
                </a:moveTo>
                <a:cubicBezTo>
                  <a:pt x="93" y="4"/>
                  <a:pt x="187" y="0"/>
                  <a:pt x="265" y="8"/>
                </a:cubicBezTo>
                <a:cubicBezTo>
                  <a:pt x="343" y="16"/>
                  <a:pt x="391" y="19"/>
                  <a:pt x="468" y="55"/>
                </a:cubicBezTo>
                <a:cubicBezTo>
                  <a:pt x="545" y="91"/>
                  <a:pt x="626" y="133"/>
                  <a:pt x="725" y="226"/>
                </a:cubicBezTo>
                <a:cubicBezTo>
                  <a:pt x="824" y="319"/>
                  <a:pt x="1004" y="551"/>
                  <a:pt x="1060" y="6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27720" y="248616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3840" y="46180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Como responden los sistemas ante entradas de distinta velocidad de cambio ó cualquier tipo de entr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señales se pueden expresar como valores en el tiempo, o como suma de señales sinusoidales de distinta frecuenc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r el comportamiento dinámico desde el punto de vista de l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rado de señ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r orden mas retar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64400" y="2413080"/>
            <a:ext cx="10800" cy="282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45040" y="3809880"/>
            <a:ext cx="356220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6280" y="2214720"/>
                <a:ext cx="46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341280" y="3654360"/>
            <a:ext cx="3060720" cy="229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332000" y="5969160"/>
                <a:ext cx="469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492360" y="1719360"/>
            <a:ext cx="4996080" cy="37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ta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ando existen retardos es difícil aplicar ciertas técnicas de análisis, tales como el lugar de las ra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a técnica requiere aproximar el retardo por Pade mediante ceros y p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 embargo, en el dominio de la frecuencia, el análisis con diagramas de Nyquist o Bode no presenta especial dificult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997360" y="3968640"/>
                <a:ext cx="2514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e: integr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38840" y="18176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43480" y="272088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81280" y="2874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74560" y="1709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30920" y="39495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560" y="485316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73360" y="5006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93120" y="3805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 en 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2362320"/>
            <a:ext cx="2103480" cy="87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130400" y="2308320"/>
                <a:ext cx="220968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556320" y="26226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83160" y="2251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27720" y="248616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03840" y="46180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29320" y="5369040"/>
            <a:ext cx="2201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23000" y="51595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4880" y="4057560"/>
            <a:ext cx="338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ta de pendiente -20 dB que pasa por 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1, 0 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r orden mas integr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336840" y="1974960"/>
            <a:ext cx="5002200" cy="375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27200" y="2516040"/>
                <a:ext cx="722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7542360" y="2349360"/>
            <a:ext cx="0" cy="2924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11640" y="4014720"/>
            <a:ext cx="36464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l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2205000"/>
            <a:ext cx="1828800" cy="1066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27464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476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164360" y="299736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2360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51280" y="20606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404640"/>
            <a:ext cx="2057400" cy="774720"/>
          </a:xfrm>
          <a:custGeom>
            <a:avLst/>
            <a:gdLst/>
            <a:ahLst/>
            <a:rect l="l" t="t" r="r" b="b"/>
            <a:pathLst>
              <a:path w="1296" h="488">
                <a:moveTo>
                  <a:pt x="0" y="368"/>
                </a:moveTo>
                <a:cubicBezTo>
                  <a:pt x="32" y="324"/>
                  <a:pt x="64" y="280"/>
                  <a:pt x="96" y="224"/>
                </a:cubicBezTo>
                <a:cubicBezTo>
                  <a:pt x="128" y="168"/>
                  <a:pt x="168" y="24"/>
                  <a:pt x="192" y="32"/>
                </a:cubicBezTo>
                <a:cubicBezTo>
                  <a:pt x="216" y="40"/>
                  <a:pt x="224" y="224"/>
                  <a:pt x="240" y="272"/>
                </a:cubicBezTo>
                <a:cubicBezTo>
                  <a:pt x="256" y="320"/>
                  <a:pt x="280" y="320"/>
                  <a:pt x="288" y="320"/>
                </a:cubicBezTo>
                <a:cubicBezTo>
                  <a:pt x="296" y="320"/>
                  <a:pt x="288" y="296"/>
                  <a:pt x="288" y="272"/>
                </a:cubicBezTo>
                <a:cubicBezTo>
                  <a:pt x="288" y="248"/>
                  <a:pt x="280" y="176"/>
                  <a:pt x="288" y="176"/>
                </a:cubicBezTo>
                <a:cubicBezTo>
                  <a:pt x="296" y="176"/>
                  <a:pt x="328" y="240"/>
                  <a:pt x="336" y="272"/>
                </a:cubicBezTo>
                <a:cubicBezTo>
                  <a:pt x="344" y="304"/>
                  <a:pt x="312" y="352"/>
                  <a:pt x="336" y="368"/>
                </a:cubicBezTo>
                <a:cubicBezTo>
                  <a:pt x="360" y="384"/>
                  <a:pt x="448" y="392"/>
                  <a:pt x="480" y="368"/>
                </a:cubicBezTo>
                <a:cubicBezTo>
                  <a:pt x="512" y="344"/>
                  <a:pt x="504" y="280"/>
                  <a:pt x="528" y="224"/>
                </a:cubicBezTo>
                <a:cubicBezTo>
                  <a:pt x="552" y="168"/>
                  <a:pt x="600" y="64"/>
                  <a:pt x="624" y="32"/>
                </a:cubicBezTo>
                <a:cubicBezTo>
                  <a:pt x="648" y="0"/>
                  <a:pt x="656" y="24"/>
                  <a:pt x="672" y="32"/>
                </a:cubicBezTo>
                <a:cubicBezTo>
                  <a:pt x="688" y="40"/>
                  <a:pt x="704" y="48"/>
                  <a:pt x="720" y="80"/>
                </a:cubicBezTo>
                <a:cubicBezTo>
                  <a:pt x="736" y="112"/>
                  <a:pt x="760" y="216"/>
                  <a:pt x="768" y="224"/>
                </a:cubicBezTo>
                <a:cubicBezTo>
                  <a:pt x="776" y="232"/>
                  <a:pt x="760" y="136"/>
                  <a:pt x="768" y="128"/>
                </a:cubicBezTo>
                <a:cubicBezTo>
                  <a:pt x="776" y="120"/>
                  <a:pt x="808" y="152"/>
                  <a:pt x="816" y="176"/>
                </a:cubicBezTo>
                <a:cubicBezTo>
                  <a:pt x="824" y="200"/>
                  <a:pt x="808" y="224"/>
                  <a:pt x="816" y="272"/>
                </a:cubicBezTo>
                <a:cubicBezTo>
                  <a:pt x="824" y="320"/>
                  <a:pt x="848" y="440"/>
                  <a:pt x="864" y="464"/>
                </a:cubicBezTo>
                <a:cubicBezTo>
                  <a:pt x="880" y="488"/>
                  <a:pt x="904" y="440"/>
                  <a:pt x="912" y="416"/>
                </a:cubicBezTo>
                <a:cubicBezTo>
                  <a:pt x="920" y="392"/>
                  <a:pt x="896" y="344"/>
                  <a:pt x="912" y="320"/>
                </a:cubicBezTo>
                <a:cubicBezTo>
                  <a:pt x="928" y="296"/>
                  <a:pt x="952" y="296"/>
                  <a:pt x="1008" y="272"/>
                </a:cubicBezTo>
                <a:cubicBezTo>
                  <a:pt x="1064" y="248"/>
                  <a:pt x="1200" y="200"/>
                  <a:pt x="1248" y="176"/>
                </a:cubicBezTo>
                <a:cubicBezTo>
                  <a:pt x="1296" y="152"/>
                  <a:pt x="1288" y="136"/>
                  <a:pt x="1296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30480" y="264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35280" y="155736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06640" y="2781360"/>
            <a:ext cx="650880" cy="43344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124000" y="2276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44880" y="3254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24000" y="3716280"/>
            <a:ext cx="287280" cy="252360"/>
          </a:xfrm>
          <a:custGeom>
            <a:avLst/>
            <a:gdLst/>
            <a:ahLst/>
            <a:rect l="l" t="t" r="r" b="b"/>
            <a:pathLst>
              <a:path w="272" h="144">
                <a:moveTo>
                  <a:pt x="0" y="91"/>
                </a:moveTo>
                <a:cubicBezTo>
                  <a:pt x="15" y="45"/>
                  <a:pt x="30" y="0"/>
                  <a:pt x="45" y="0"/>
                </a:cubicBezTo>
                <a:cubicBezTo>
                  <a:pt x="60" y="0"/>
                  <a:pt x="76" y="68"/>
                  <a:pt x="91" y="91"/>
                </a:cubicBezTo>
                <a:cubicBezTo>
                  <a:pt x="106" y="114"/>
                  <a:pt x="129" y="144"/>
                  <a:pt x="136" y="137"/>
                </a:cubicBezTo>
                <a:cubicBezTo>
                  <a:pt x="143" y="130"/>
                  <a:pt x="128" y="69"/>
                  <a:pt x="136" y="46"/>
                </a:cubicBezTo>
                <a:cubicBezTo>
                  <a:pt x="144" y="23"/>
                  <a:pt x="167" y="0"/>
                  <a:pt x="182" y="0"/>
                </a:cubicBezTo>
                <a:cubicBezTo>
                  <a:pt x="197" y="0"/>
                  <a:pt x="220" y="23"/>
                  <a:pt x="227" y="46"/>
                </a:cubicBezTo>
                <a:cubicBezTo>
                  <a:pt x="234" y="69"/>
                  <a:pt x="220" y="130"/>
                  <a:pt x="227" y="137"/>
                </a:cubicBezTo>
                <a:cubicBezTo>
                  <a:pt x="234" y="144"/>
                  <a:pt x="265" y="99"/>
                  <a:pt x="27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49920" y="3843360"/>
            <a:ext cx="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4560" y="474660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926160" y="378936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|G(j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7400" y="464832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32440" y="4375080"/>
            <a:ext cx="7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64000" y="4724280"/>
            <a:ext cx="1770120" cy="1051200"/>
          </a:xfrm>
          <a:custGeom>
            <a:avLst/>
            <a:gdLst/>
            <a:ahLst/>
            <a:rect l="l" t="t" r="r" b="b"/>
            <a:pathLst>
              <a:path w="1442" h="413">
                <a:moveTo>
                  <a:pt x="0" y="0"/>
                </a:moveTo>
                <a:cubicBezTo>
                  <a:pt x="44" y="2"/>
                  <a:pt x="89" y="4"/>
                  <a:pt x="140" y="8"/>
                </a:cubicBezTo>
                <a:cubicBezTo>
                  <a:pt x="191" y="12"/>
                  <a:pt x="256" y="16"/>
                  <a:pt x="304" y="24"/>
                </a:cubicBezTo>
                <a:cubicBezTo>
                  <a:pt x="352" y="32"/>
                  <a:pt x="369" y="38"/>
                  <a:pt x="429" y="55"/>
                </a:cubicBezTo>
                <a:cubicBezTo>
                  <a:pt x="489" y="72"/>
                  <a:pt x="596" y="106"/>
                  <a:pt x="662" y="125"/>
                </a:cubicBezTo>
                <a:cubicBezTo>
                  <a:pt x="728" y="144"/>
                  <a:pt x="769" y="154"/>
                  <a:pt x="826" y="172"/>
                </a:cubicBezTo>
                <a:cubicBezTo>
                  <a:pt x="883" y="190"/>
                  <a:pt x="939" y="209"/>
                  <a:pt x="1005" y="234"/>
                </a:cubicBezTo>
                <a:cubicBezTo>
                  <a:pt x="1071" y="259"/>
                  <a:pt x="1151" y="290"/>
                  <a:pt x="1224" y="320"/>
                </a:cubicBezTo>
                <a:cubicBezTo>
                  <a:pt x="1297" y="350"/>
                  <a:pt x="1406" y="396"/>
                  <a:pt x="1442" y="413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5654160" y="4005360"/>
            <a:ext cx="630360" cy="6062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3657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859280" y="4724280"/>
            <a:ext cx="504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1280" y="4292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 filtro es un dispositivo que permite eliminar frecuencias no deseadas en una señ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56360" y="5877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e un retar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1"/>
          </p:cNvPr>
          <p:cNvSpPr/>
          <p:nvPr/>
        </p:nvSpPr>
        <p:spPr>
          <a:xfrm>
            <a:off x="7308720" y="5229360"/>
            <a:ext cx="1440000" cy="50472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1598" h="21600">
                <a:moveTo>
                  <a:pt x="0" y="0"/>
                </a:moveTo>
                <a:lnTo>
                  <a:pt x="61598" y="0"/>
                </a:lnTo>
                <a:lnTo>
                  <a:pt x="61598" y="21600"/>
                </a:lnTo>
                <a:lnTo>
                  <a:pt x="0" y="21600"/>
                </a:lnTo>
                <a:close/>
              </a:path>
              <a:path fill="lightenLess" w="61598" h="21600">
                <a:moveTo>
                  <a:pt x="0" y="0"/>
                </a:moveTo>
                <a:lnTo>
                  <a:pt x="61598" y="0"/>
                </a:lnTo>
                <a:lnTo>
                  <a:pt x="60198" y="1400"/>
                </a:lnTo>
                <a:lnTo>
                  <a:pt x="1400" y="1400"/>
                </a:lnTo>
                <a:close/>
              </a:path>
              <a:path fill="darken" w="61598" h="21600">
                <a:moveTo>
                  <a:pt x="61598" y="0"/>
                </a:moveTo>
                <a:lnTo>
                  <a:pt x="61598" y="21600"/>
                </a:lnTo>
                <a:lnTo>
                  <a:pt x="60198" y="20200"/>
                </a:lnTo>
                <a:lnTo>
                  <a:pt x="60198" y="1400"/>
                </a:lnTo>
                <a:close/>
              </a:path>
              <a:path fill="darkenLess" w="61598" h="21600">
                <a:moveTo>
                  <a:pt x="61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98" y="20200"/>
                </a:lnTo>
                <a:close/>
              </a:path>
              <a:path fill="lighten" w="61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d/Lag   Cero/p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11280" y="1584360"/>
            <a:ext cx="4276800" cy="320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141640" y="4960800"/>
                <a:ext cx="583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662360" y="1584360"/>
            <a:ext cx="4365720" cy="327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6494400" y="5005440"/>
                <a:ext cx="698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3041640" y="4870440"/>
            <a:ext cx="319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 posición del cero determina el comportamiento a altas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81640" y="5905440"/>
            <a:ext cx="188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61280" y="5815080"/>
            <a:ext cx="181080" cy="17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42000" y="581508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641640" y="581508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6640" y="5951520"/>
            <a:ext cx="188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57360" y="5861160"/>
            <a:ext cx="181080" cy="17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57360" y="586116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457000" y="5861160"/>
            <a:ext cx="179640" cy="17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81640" y="62197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r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62000" y="6173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o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puesta en frecuencia en lazo cer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16280" y="4959360"/>
            <a:ext cx="5838480" cy="8380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86280" y="253224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97200" y="2532240"/>
            <a:ext cx="86976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666960" y="2836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86480" y="2836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3160" y="283680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837800" y="36622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14400" y="30175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19600" y="23796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66760" y="28368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76400" y="2836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609560" y="2608200"/>
            <a:ext cx="457200" cy="474840"/>
            <a:chOff x="1609560" y="2608200"/>
            <a:chExt cx="457200" cy="474840"/>
          </a:xfrm>
        </p:grpSpPr>
        <p:sp>
          <p:nvSpPr>
            <p:cNvPr id="489" name=""/>
            <p:cNvSpPr/>
            <p:nvPr/>
          </p:nvSpPr>
          <p:spPr>
            <a:xfrm>
              <a:off x="1609560" y="26082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9560" y="2684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61840" y="2836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095960" y="2379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47720" y="22557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22560" y="2319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328840" y="4022640"/>
                <a:ext cx="4584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6956280" y="271296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38840" y="164628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539040" y="1951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72200" y="1951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05320" y="1951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67240" y="164628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2832120" y="5065560"/>
                <a:ext cx="37339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puesta en frecuencia en lazo cer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86280" y="253224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97200" y="2532240"/>
            <a:ext cx="86976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66960" y="2836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86480" y="28368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53160" y="283680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837800" y="36622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814400" y="30175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9600" y="23796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66760" y="28368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76400" y="2836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609560" y="2608200"/>
            <a:ext cx="457200" cy="474840"/>
            <a:chOff x="1609560" y="2608200"/>
            <a:chExt cx="457200" cy="474840"/>
          </a:xfrm>
        </p:grpSpPr>
        <p:sp>
          <p:nvSpPr>
            <p:cNvPr id="515" name=""/>
            <p:cNvSpPr/>
            <p:nvPr/>
          </p:nvSpPr>
          <p:spPr>
            <a:xfrm>
              <a:off x="1609560" y="26082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9560" y="2684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61840" y="2836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7095960" y="23796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47720" y="22557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22560" y="2319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56280" y="271296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38840" y="164628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9040" y="1951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72200" y="195120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05320" y="1951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67240" y="164628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062000" y="4176720"/>
                <a:ext cx="37339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5776920" y="410688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30960" y="4873680"/>
            <a:ext cx="29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6920" y="4600440"/>
            <a:ext cx="2709720" cy="1103400"/>
          </a:xfrm>
          <a:custGeom>
            <a:avLst/>
            <a:gdLst/>
            <a:ahLst/>
            <a:rect l="l" t="t" r="r" b="b"/>
            <a:pathLst>
              <a:path w="1707" h="695">
                <a:moveTo>
                  <a:pt x="0" y="172"/>
                </a:moveTo>
                <a:cubicBezTo>
                  <a:pt x="55" y="176"/>
                  <a:pt x="110" y="181"/>
                  <a:pt x="226" y="172"/>
                </a:cubicBezTo>
                <a:cubicBezTo>
                  <a:pt x="342" y="163"/>
                  <a:pt x="582" y="143"/>
                  <a:pt x="694" y="118"/>
                </a:cubicBezTo>
                <a:cubicBezTo>
                  <a:pt x="806" y="93"/>
                  <a:pt x="821" y="32"/>
                  <a:pt x="896" y="24"/>
                </a:cubicBezTo>
                <a:cubicBezTo>
                  <a:pt x="971" y="16"/>
                  <a:pt x="1046" y="0"/>
                  <a:pt x="1146" y="71"/>
                </a:cubicBezTo>
                <a:cubicBezTo>
                  <a:pt x="1246" y="142"/>
                  <a:pt x="1403" y="349"/>
                  <a:pt x="1496" y="453"/>
                </a:cubicBezTo>
                <a:cubicBezTo>
                  <a:pt x="1589" y="557"/>
                  <a:pt x="1672" y="655"/>
                  <a:pt x="1707" y="69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98920" y="4525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8640" y="5035680"/>
            <a:ext cx="433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estudiarse el rechazo de ruidos o perturbaciones, así como la rapidez de respuesta con el ancho de b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6407280" y="5753160"/>
            <a:ext cx="1744560" cy="56844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25480" y="2374920"/>
            <a:ext cx="1479600" cy="1609560"/>
          </a:xfrm>
          <a:custGeom>
            <a:avLst/>
            <a:gdLst/>
            <a:ahLst/>
            <a:rect l="l" t="t" r="r" b="b"/>
            <a:pathLst>
              <a:path w="932" h="1014">
                <a:moveTo>
                  <a:pt x="542" y="24"/>
                </a:moveTo>
                <a:cubicBezTo>
                  <a:pt x="620" y="29"/>
                  <a:pt x="705" y="3"/>
                  <a:pt x="768" y="78"/>
                </a:cubicBezTo>
                <a:cubicBezTo>
                  <a:pt x="831" y="153"/>
                  <a:pt x="914" y="334"/>
                  <a:pt x="923" y="476"/>
                </a:cubicBezTo>
                <a:cubicBezTo>
                  <a:pt x="932" y="618"/>
                  <a:pt x="929" y="844"/>
                  <a:pt x="822" y="928"/>
                </a:cubicBezTo>
                <a:cubicBezTo>
                  <a:pt x="715" y="1012"/>
                  <a:pt x="414" y="1014"/>
                  <a:pt x="284" y="982"/>
                </a:cubicBezTo>
                <a:cubicBezTo>
                  <a:pt x="154" y="950"/>
                  <a:pt x="83" y="845"/>
                  <a:pt x="43" y="733"/>
                </a:cubicBezTo>
                <a:cubicBezTo>
                  <a:pt x="3" y="621"/>
                  <a:pt x="0" y="426"/>
                  <a:pt x="43" y="312"/>
                </a:cubicBezTo>
                <a:cubicBezTo>
                  <a:pt x="86" y="198"/>
                  <a:pt x="217" y="94"/>
                  <a:pt x="300" y="47"/>
                </a:cubicBezTo>
                <a:cubicBezTo>
                  <a:pt x="383" y="0"/>
                  <a:pt x="464" y="19"/>
                  <a:pt x="542" y="24"/>
                </a:cubicBez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ema del argu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38560" y="223992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38320" y="3290760"/>
            <a:ext cx="26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313320" y="2232000"/>
            <a:ext cx="0" cy="21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113440" y="3282840"/>
            <a:ext cx="26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092040" y="2660760"/>
            <a:ext cx="49320" cy="11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993760" y="2733480"/>
            <a:ext cx="98280" cy="3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17880" y="2201760"/>
            <a:ext cx="4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95640" y="209088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959280" y="2610000"/>
            <a:ext cx="803160" cy="149040"/>
          </a:xfrm>
          <a:prstGeom prst="rightArrow">
            <a:avLst>
              <a:gd name="adj1" fmla="val 50000"/>
              <a:gd name="adj2" fmla="val 134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40360" y="2386080"/>
            <a:ext cx="1738440" cy="1847880"/>
          </a:xfrm>
          <a:custGeom>
            <a:avLst/>
            <a:gdLst/>
            <a:ahLst/>
            <a:rect l="l" t="t" r="r" b="b"/>
            <a:pathLst>
              <a:path w="1095" h="1164">
                <a:moveTo>
                  <a:pt x="427" y="24"/>
                </a:moveTo>
                <a:cubicBezTo>
                  <a:pt x="455" y="12"/>
                  <a:pt x="484" y="0"/>
                  <a:pt x="536" y="32"/>
                </a:cubicBezTo>
                <a:cubicBezTo>
                  <a:pt x="588" y="64"/>
                  <a:pt x="678" y="132"/>
                  <a:pt x="739" y="219"/>
                </a:cubicBezTo>
                <a:cubicBezTo>
                  <a:pt x="800" y="306"/>
                  <a:pt x="845" y="435"/>
                  <a:pt x="902" y="554"/>
                </a:cubicBezTo>
                <a:cubicBezTo>
                  <a:pt x="959" y="673"/>
                  <a:pt x="1095" y="836"/>
                  <a:pt x="1081" y="936"/>
                </a:cubicBezTo>
                <a:cubicBezTo>
                  <a:pt x="1067" y="1036"/>
                  <a:pt x="917" y="1144"/>
                  <a:pt x="816" y="1154"/>
                </a:cubicBezTo>
                <a:cubicBezTo>
                  <a:pt x="715" y="1164"/>
                  <a:pt x="586" y="1056"/>
                  <a:pt x="474" y="999"/>
                </a:cubicBezTo>
                <a:cubicBezTo>
                  <a:pt x="362" y="942"/>
                  <a:pt x="223" y="890"/>
                  <a:pt x="146" y="812"/>
                </a:cubicBezTo>
                <a:cubicBezTo>
                  <a:pt x="69" y="734"/>
                  <a:pt x="28" y="637"/>
                  <a:pt x="14" y="531"/>
                </a:cubicBezTo>
                <a:cubicBezTo>
                  <a:pt x="0" y="425"/>
                  <a:pt x="12" y="255"/>
                  <a:pt x="61" y="173"/>
                </a:cubicBezTo>
                <a:cubicBezTo>
                  <a:pt x="110" y="91"/>
                  <a:pt x="257" y="62"/>
                  <a:pt x="310" y="40"/>
                </a:cubicBezTo>
                <a:cubicBezTo>
                  <a:pt x="363" y="18"/>
                  <a:pt x="362" y="41"/>
                  <a:pt x="380" y="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360" y="1535040"/>
            <a:ext cx="34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orno cerrado que no pasa por ninguna singularidad de F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60440" y="4552920"/>
            <a:ext cx="607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    nº de polos de F(s) dentro del contorno         Z     nº de ceros de F(s) dentro del contorno         N    nº de rodeos al origen de F(s) en el sentido h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18240" y="58388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Z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892160" y="4329000"/>
            <a:ext cx="5838840" cy="838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86280" y="2681280"/>
            <a:ext cx="1600200" cy="6094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97200" y="2681280"/>
            <a:ext cx="869760" cy="60948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6960" y="2986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486480" y="29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53160" y="29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837800" y="38116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814400" y="316656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19600" y="252900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66760" y="29862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076400" y="29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609560" y="2757600"/>
            <a:ext cx="457200" cy="474840"/>
            <a:chOff x="1609560" y="2757600"/>
            <a:chExt cx="457200" cy="474840"/>
          </a:xfrm>
        </p:grpSpPr>
        <p:sp>
          <p:nvSpPr>
            <p:cNvPr id="561" name=""/>
            <p:cNvSpPr/>
            <p:nvPr/>
          </p:nvSpPr>
          <p:spPr>
            <a:xfrm>
              <a:off x="1609560" y="27576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09560" y="28339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61840" y="2986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7095960" y="252900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7720" y="24051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22560" y="2468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341440" y="4443480"/>
                <a:ext cx="4584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6956280" y="2862360"/>
            <a:ext cx="228600" cy="22860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38840" y="1795320"/>
            <a:ext cx="1600200" cy="6098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539040" y="2100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72200" y="21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05320" y="2100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7240" y="1795320"/>
            <a:ext cx="81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ilidad en lazo cer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460520" y="5479920"/>
            <a:ext cx="65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Cuantas raices de 1 + G(s)R(s) = 0 son positiv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ñales sinus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9560" y="2138400"/>
            <a:ext cx="134964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0600" y="3759120"/>
            <a:ext cx="572904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4840" y="2116080"/>
            <a:ext cx="30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 frecuencia: cambio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4884840"/>
            <a:ext cx="253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a frecuencia: cambio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62160" y="507204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  rad/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3429000"/>
            <a:ext cx="2832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0320" y="5702400"/>
            <a:ext cx="26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= A se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0" y="5486400"/>
            <a:ext cx="200664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terio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4360" y="1892160"/>
            <a:ext cx="0" cy="21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27000" y="2906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383160" y="195588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0320" y="2906640"/>
            <a:ext cx="26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538440" y="173196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G(s)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33720" y="2289240"/>
            <a:ext cx="816120" cy="196920"/>
          </a:xfrm>
          <a:prstGeom prst="rightArrow">
            <a:avLst>
              <a:gd name="adj1" fmla="val 50000"/>
              <a:gd name="adj2" fmla="val 1036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582560" y="2139480"/>
            <a:ext cx="0" cy="167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14480" y="231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82560" y="1538280"/>
            <a:ext cx="1370160" cy="2841480"/>
          </a:xfrm>
          <a:custGeom>
            <a:avLst/>
            <a:gdLst/>
            <a:ahLst/>
            <a:rect l="l" t="t" r="r" b="b"/>
            <a:pathLst>
              <a:path w="863" h="1790">
                <a:moveTo>
                  <a:pt x="0" y="5"/>
                </a:moveTo>
                <a:cubicBezTo>
                  <a:pt x="68" y="2"/>
                  <a:pt x="137" y="0"/>
                  <a:pt x="211" y="21"/>
                </a:cubicBezTo>
                <a:cubicBezTo>
                  <a:pt x="285" y="42"/>
                  <a:pt x="367" y="72"/>
                  <a:pt x="445" y="130"/>
                </a:cubicBezTo>
                <a:cubicBezTo>
                  <a:pt x="523" y="188"/>
                  <a:pt x="618" y="283"/>
                  <a:pt x="678" y="371"/>
                </a:cubicBezTo>
                <a:cubicBezTo>
                  <a:pt x="738" y="459"/>
                  <a:pt x="774" y="557"/>
                  <a:pt x="803" y="660"/>
                </a:cubicBezTo>
                <a:cubicBezTo>
                  <a:pt x="832" y="763"/>
                  <a:pt x="863" y="872"/>
                  <a:pt x="850" y="987"/>
                </a:cubicBezTo>
                <a:cubicBezTo>
                  <a:pt x="837" y="1102"/>
                  <a:pt x="782" y="1245"/>
                  <a:pt x="725" y="1353"/>
                </a:cubicBezTo>
                <a:cubicBezTo>
                  <a:pt x="668" y="1461"/>
                  <a:pt x="582" y="1568"/>
                  <a:pt x="507" y="1634"/>
                </a:cubicBezTo>
                <a:cubicBezTo>
                  <a:pt x="432" y="1700"/>
                  <a:pt x="347" y="1725"/>
                  <a:pt x="273" y="1751"/>
                </a:cubicBezTo>
                <a:cubicBezTo>
                  <a:pt x="199" y="1777"/>
                  <a:pt x="98" y="1784"/>
                  <a:pt x="63" y="179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582560" y="2312640"/>
            <a:ext cx="1101960" cy="5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66960" y="21528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37080" y="29066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429160" y="178380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16240" y="3289320"/>
            <a:ext cx="27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orno que encierra el semiplano derecho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484200" y="4757760"/>
                <a:ext cx="3301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4316400" y="4614840"/>
            <a:ext cx="449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nº de polos inestables de 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nº de ceros de 1+GR en el semiplan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4200" y="5494320"/>
            <a:ext cx="251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los de 1+GR = polos de 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7251840" y="3919680"/>
                <a:ext cx="1612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6184800" y="5900760"/>
            <a:ext cx="1497240" cy="55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389400" y="3241800"/>
            <a:ext cx="1484280" cy="5443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terio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84360" y="1892160"/>
            <a:ext cx="0" cy="21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27000" y="2906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83160" y="195588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70320" y="2906640"/>
            <a:ext cx="26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38440" y="173196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G(s)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33720" y="2289240"/>
            <a:ext cx="816120" cy="196920"/>
          </a:xfrm>
          <a:prstGeom prst="rightArrow">
            <a:avLst>
              <a:gd name="adj1" fmla="val 50000"/>
              <a:gd name="adj2" fmla="val 1036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2560" y="2139480"/>
            <a:ext cx="0" cy="1670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14480" y="231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81200" y="1538280"/>
            <a:ext cx="1271520" cy="2482920"/>
          </a:xfrm>
          <a:custGeom>
            <a:avLst/>
            <a:gdLst/>
            <a:ahLst/>
            <a:rect l="l" t="t" r="r" b="b"/>
            <a:pathLst>
              <a:path w="863" h="1790">
                <a:moveTo>
                  <a:pt x="0" y="5"/>
                </a:moveTo>
                <a:cubicBezTo>
                  <a:pt x="68" y="2"/>
                  <a:pt x="137" y="0"/>
                  <a:pt x="211" y="21"/>
                </a:cubicBezTo>
                <a:cubicBezTo>
                  <a:pt x="285" y="42"/>
                  <a:pt x="367" y="72"/>
                  <a:pt x="445" y="130"/>
                </a:cubicBezTo>
                <a:cubicBezTo>
                  <a:pt x="523" y="188"/>
                  <a:pt x="618" y="283"/>
                  <a:pt x="678" y="371"/>
                </a:cubicBezTo>
                <a:cubicBezTo>
                  <a:pt x="738" y="459"/>
                  <a:pt x="774" y="557"/>
                  <a:pt x="803" y="660"/>
                </a:cubicBezTo>
                <a:cubicBezTo>
                  <a:pt x="832" y="763"/>
                  <a:pt x="863" y="872"/>
                  <a:pt x="850" y="987"/>
                </a:cubicBezTo>
                <a:cubicBezTo>
                  <a:pt x="837" y="1102"/>
                  <a:pt x="782" y="1245"/>
                  <a:pt x="725" y="1353"/>
                </a:cubicBezTo>
                <a:cubicBezTo>
                  <a:pt x="668" y="1461"/>
                  <a:pt x="582" y="1568"/>
                  <a:pt x="507" y="1634"/>
                </a:cubicBezTo>
                <a:cubicBezTo>
                  <a:pt x="432" y="1700"/>
                  <a:pt x="347" y="1725"/>
                  <a:pt x="273" y="1751"/>
                </a:cubicBezTo>
                <a:cubicBezTo>
                  <a:pt x="199" y="1777"/>
                  <a:pt x="98" y="1784"/>
                  <a:pt x="63" y="1790"/>
                </a:cubicBezTo>
              </a:path>
            </a:pathLst>
          </a:custGeom>
          <a:noFill/>
          <a:ln w="936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1582560" y="2312640"/>
            <a:ext cx="1101960" cy="59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6960" y="2152800"/>
            <a:ext cx="3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37080" y="29066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429160" y="178380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4680" y="4035600"/>
            <a:ext cx="46767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nº de polos inestables de 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nº de ceros de 1+GR en el semiplano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nº de rodeos al origen de 1+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n sentido ho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63920" y="3303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Z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691240" y="4352760"/>
            <a:ext cx="27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la estabilidad del sistema en lazo cerrado  Z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81720" y="592776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-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7251840" y="3919680"/>
                <a:ext cx="1612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701640" y="593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riterio de Nyqu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77000" y="194328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37320" y="2889360"/>
            <a:ext cx="297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116760" y="2892600"/>
            <a:ext cx="2347920" cy="112212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097680" y="17636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02000" y="3024360"/>
            <a:ext cx="256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igual considerar los rodeos al origen de 1+G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e los rodeos de G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l punto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596960" y="4908600"/>
            <a:ext cx="633276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el sistema es estable en lazo abierto P = 0, y la estabilidad en lazo cerrado se logra si el diagrama de Nyquist no envuelve al punto (-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9800" y="1947960"/>
            <a:ext cx="0" cy="23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96960" y="2898720"/>
            <a:ext cx="269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963720" y="289872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955800" y="1776240"/>
            <a:ext cx="2347920" cy="1122480"/>
          </a:xfrm>
          <a:custGeom>
            <a:avLst/>
            <a:gdLst/>
            <a:ahLst/>
            <a:rect l="l" t="t" r="r" b="b"/>
            <a:pathLst>
              <a:path w="1479" h="707">
                <a:moveTo>
                  <a:pt x="1477" y="7"/>
                </a:moveTo>
                <a:cubicBezTo>
                  <a:pt x="1478" y="56"/>
                  <a:pt x="1479" y="105"/>
                  <a:pt x="1470" y="156"/>
                </a:cubicBezTo>
                <a:cubicBezTo>
                  <a:pt x="1461" y="207"/>
                  <a:pt x="1452" y="253"/>
                  <a:pt x="1423" y="311"/>
                </a:cubicBezTo>
                <a:cubicBezTo>
                  <a:pt x="1394" y="369"/>
                  <a:pt x="1358" y="449"/>
                  <a:pt x="1298" y="506"/>
                </a:cubicBezTo>
                <a:cubicBezTo>
                  <a:pt x="1238" y="563"/>
                  <a:pt x="1154" y="622"/>
                  <a:pt x="1064" y="654"/>
                </a:cubicBezTo>
                <a:cubicBezTo>
                  <a:pt x="974" y="686"/>
                  <a:pt x="844" y="695"/>
                  <a:pt x="760" y="701"/>
                </a:cubicBezTo>
                <a:cubicBezTo>
                  <a:pt x="676" y="707"/>
                  <a:pt x="629" y="705"/>
                  <a:pt x="558" y="693"/>
                </a:cubicBezTo>
                <a:cubicBezTo>
                  <a:pt x="487" y="681"/>
                  <a:pt x="403" y="662"/>
                  <a:pt x="332" y="631"/>
                </a:cubicBezTo>
                <a:cubicBezTo>
                  <a:pt x="261" y="600"/>
                  <a:pt x="183" y="564"/>
                  <a:pt x="129" y="506"/>
                </a:cubicBezTo>
                <a:cubicBezTo>
                  <a:pt x="75" y="448"/>
                  <a:pt x="10" y="357"/>
                  <a:pt x="5" y="280"/>
                </a:cubicBezTo>
                <a:cubicBezTo>
                  <a:pt x="0" y="203"/>
                  <a:pt x="49" y="92"/>
                  <a:pt x="98" y="46"/>
                </a:cubicBezTo>
                <a:cubicBezTo>
                  <a:pt x="147" y="0"/>
                  <a:pt x="224" y="3"/>
                  <a:pt x="301" y="7"/>
                </a:cubicBez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16080" y="4010040"/>
                <a:ext cx="16128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6880320" y="3387600"/>
                <a:ext cx="13078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7008840" y="279576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62880" y="242424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rId1"/>
          </p:cNvPr>
          <p:cNvSpPr/>
          <p:nvPr/>
        </p:nvSpPr>
        <p:spPr>
          <a:xfrm>
            <a:off x="6732720" y="6264360"/>
            <a:ext cx="1665000" cy="404640"/>
          </a:xfrm>
          <a:custGeom>
            <a:avLst/>
            <a:gdLst>
              <a:gd name="textAreaLeft" fmla="*/ 25920 w 1665000"/>
              <a:gd name="textAreaRight" fmla="*/ 1639080 w 1665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88819" h="21600">
                <a:moveTo>
                  <a:pt x="0" y="0"/>
                </a:moveTo>
                <a:lnTo>
                  <a:pt x="88819" y="0"/>
                </a:lnTo>
                <a:lnTo>
                  <a:pt x="88819" y="21600"/>
                </a:lnTo>
                <a:lnTo>
                  <a:pt x="0" y="21600"/>
                </a:lnTo>
                <a:close/>
              </a:path>
              <a:path fill="lightenLess" w="88819" h="21600">
                <a:moveTo>
                  <a:pt x="0" y="0"/>
                </a:moveTo>
                <a:lnTo>
                  <a:pt x="88819" y="0"/>
                </a:lnTo>
                <a:lnTo>
                  <a:pt x="87419" y="1400"/>
                </a:lnTo>
                <a:lnTo>
                  <a:pt x="1400" y="1400"/>
                </a:lnTo>
                <a:close/>
              </a:path>
              <a:path fill="darken" w="88819" h="21600">
                <a:moveTo>
                  <a:pt x="88819" y="0"/>
                </a:moveTo>
                <a:lnTo>
                  <a:pt x="88819" y="21600"/>
                </a:lnTo>
                <a:lnTo>
                  <a:pt x="87419" y="20200"/>
                </a:lnTo>
                <a:lnTo>
                  <a:pt x="87419" y="1400"/>
                </a:lnTo>
                <a:close/>
              </a:path>
              <a:path fill="darkenLess" w="88819" h="21600">
                <a:moveTo>
                  <a:pt x="8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419" y="20200"/>
                </a:lnTo>
                <a:close/>
              </a:path>
              <a:path fill="lighten" w="8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das de robuste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27640" y="2184480"/>
            <a:ext cx="1084320" cy="59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02240" y="24573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2473200"/>
            <a:ext cx="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28560" y="3068640"/>
            <a:ext cx="38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449440" y="2598480"/>
            <a:ext cx="180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279520" y="2298600"/>
            <a:ext cx="419400" cy="34308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682720" y="2457360"/>
            <a:ext cx="40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3760" y="245736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5680" y="2001960"/>
            <a:ext cx="37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52720" y="190332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21360" y="192564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05000" y="2189160"/>
            <a:ext cx="668520" cy="56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87720" y="22305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73520" y="24750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43720" y="3438360"/>
            <a:ext cx="0" cy="217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4379760"/>
            <a:ext cx="283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43440" y="4146480"/>
            <a:ext cx="2098800" cy="1227240"/>
          </a:xfrm>
          <a:custGeom>
            <a:avLst/>
            <a:gdLst/>
            <a:ahLst/>
            <a:rect l="l" t="t" r="r" b="b"/>
            <a:pathLst>
              <a:path w="1322" h="773">
                <a:moveTo>
                  <a:pt x="1322" y="147"/>
                </a:moveTo>
                <a:cubicBezTo>
                  <a:pt x="1321" y="262"/>
                  <a:pt x="1320" y="377"/>
                  <a:pt x="1245" y="474"/>
                </a:cubicBezTo>
                <a:cubicBezTo>
                  <a:pt x="1170" y="571"/>
                  <a:pt x="1056" y="692"/>
                  <a:pt x="871" y="731"/>
                </a:cubicBezTo>
                <a:cubicBezTo>
                  <a:pt x="686" y="770"/>
                  <a:pt x="276" y="773"/>
                  <a:pt x="138" y="708"/>
                </a:cubicBezTo>
                <a:cubicBezTo>
                  <a:pt x="0" y="643"/>
                  <a:pt x="29" y="451"/>
                  <a:pt x="45" y="342"/>
                </a:cubicBezTo>
                <a:cubicBezTo>
                  <a:pt x="61" y="233"/>
                  <a:pt x="168" y="106"/>
                  <a:pt x="232" y="53"/>
                </a:cubicBezTo>
                <a:cubicBezTo>
                  <a:pt x="296" y="0"/>
                  <a:pt x="381" y="8"/>
                  <a:pt x="426" y="22"/>
                </a:cubicBezTo>
                <a:cubicBezTo>
                  <a:pt x="471" y="36"/>
                  <a:pt x="487" y="87"/>
                  <a:pt x="504" y="13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32320" y="3921120"/>
            <a:ext cx="5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40480" y="4317840"/>
            <a:ext cx="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22360" y="3429000"/>
            <a:ext cx="3600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l modelo no es correcto, cambia o se modifica la sintonía, ¿seguirá el sistema siendo estable en lazo cerr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an cerca está el sistema en lazo cerrado de la inestab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10400" y="4307040"/>
            <a:ext cx="741240" cy="1866600"/>
          </a:xfrm>
          <a:custGeom>
            <a:avLst/>
            <a:gdLst/>
            <a:ahLst/>
            <a:rect l="l" t="t" r="r" b="b"/>
            <a:pathLst>
              <a:path w="467" h="1176">
                <a:moveTo>
                  <a:pt x="467" y="71"/>
                </a:moveTo>
                <a:cubicBezTo>
                  <a:pt x="443" y="47"/>
                  <a:pt x="420" y="23"/>
                  <a:pt x="382" y="14"/>
                </a:cubicBezTo>
                <a:cubicBezTo>
                  <a:pt x="344" y="5"/>
                  <a:pt x="279" y="0"/>
                  <a:pt x="241" y="14"/>
                </a:cubicBezTo>
                <a:cubicBezTo>
                  <a:pt x="203" y="28"/>
                  <a:pt x="184" y="52"/>
                  <a:pt x="156" y="99"/>
                </a:cubicBezTo>
                <a:cubicBezTo>
                  <a:pt x="128" y="146"/>
                  <a:pt x="94" y="226"/>
                  <a:pt x="70" y="297"/>
                </a:cubicBezTo>
                <a:cubicBezTo>
                  <a:pt x="46" y="368"/>
                  <a:pt x="23" y="458"/>
                  <a:pt x="14" y="524"/>
                </a:cubicBezTo>
                <a:cubicBezTo>
                  <a:pt x="5" y="590"/>
                  <a:pt x="0" y="637"/>
                  <a:pt x="14" y="694"/>
                </a:cubicBezTo>
                <a:cubicBezTo>
                  <a:pt x="28" y="751"/>
                  <a:pt x="75" y="826"/>
                  <a:pt x="99" y="864"/>
                </a:cubicBezTo>
                <a:cubicBezTo>
                  <a:pt x="123" y="902"/>
                  <a:pt x="132" y="893"/>
                  <a:pt x="156" y="921"/>
                </a:cubicBezTo>
                <a:cubicBezTo>
                  <a:pt x="180" y="949"/>
                  <a:pt x="213" y="993"/>
                  <a:pt x="241" y="1035"/>
                </a:cubicBezTo>
                <a:cubicBezTo>
                  <a:pt x="269" y="1077"/>
                  <a:pt x="307" y="1153"/>
                  <a:pt x="326" y="1176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fase 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3520" y="274320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677960" y="2897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0520" y="2744640"/>
            <a:ext cx="2619360" cy="1627200"/>
          </a:xfrm>
          <a:custGeom>
            <a:avLst/>
            <a:gdLst/>
            <a:ahLst/>
            <a:rect l="l" t="t" r="r" b="b"/>
            <a:pathLst>
              <a:path w="1650" h="1025">
                <a:moveTo>
                  <a:pt x="339" y="0"/>
                </a:moveTo>
                <a:lnTo>
                  <a:pt x="217" y="152"/>
                </a:lnTo>
                <a:lnTo>
                  <a:pt x="167" y="228"/>
                </a:lnTo>
                <a:lnTo>
                  <a:pt x="116" y="300"/>
                </a:lnTo>
                <a:lnTo>
                  <a:pt x="71" y="371"/>
                </a:lnTo>
                <a:lnTo>
                  <a:pt x="35" y="443"/>
                </a:lnTo>
                <a:lnTo>
                  <a:pt x="10" y="510"/>
                </a:lnTo>
                <a:lnTo>
                  <a:pt x="0" y="577"/>
                </a:lnTo>
                <a:lnTo>
                  <a:pt x="0" y="639"/>
                </a:lnTo>
                <a:lnTo>
                  <a:pt x="10" y="706"/>
                </a:lnTo>
                <a:lnTo>
                  <a:pt x="35" y="774"/>
                </a:lnTo>
                <a:lnTo>
                  <a:pt x="66" y="832"/>
                </a:lnTo>
                <a:lnTo>
                  <a:pt x="101" y="890"/>
                </a:lnTo>
                <a:lnTo>
                  <a:pt x="147" y="939"/>
                </a:lnTo>
                <a:lnTo>
                  <a:pt x="192" y="979"/>
                </a:lnTo>
                <a:lnTo>
                  <a:pt x="243" y="1006"/>
                </a:lnTo>
                <a:lnTo>
                  <a:pt x="298" y="1024"/>
                </a:lnTo>
                <a:lnTo>
                  <a:pt x="359" y="1024"/>
                </a:lnTo>
                <a:lnTo>
                  <a:pt x="430" y="1019"/>
                </a:lnTo>
                <a:lnTo>
                  <a:pt x="501" y="1006"/>
                </a:lnTo>
                <a:lnTo>
                  <a:pt x="577" y="988"/>
                </a:lnTo>
                <a:lnTo>
                  <a:pt x="657" y="966"/>
                </a:lnTo>
                <a:lnTo>
                  <a:pt x="819" y="912"/>
                </a:lnTo>
                <a:lnTo>
                  <a:pt x="905" y="881"/>
                </a:lnTo>
                <a:lnTo>
                  <a:pt x="1001" y="836"/>
                </a:lnTo>
                <a:lnTo>
                  <a:pt x="1102" y="787"/>
                </a:lnTo>
                <a:lnTo>
                  <a:pt x="1209" y="738"/>
                </a:lnTo>
                <a:lnTo>
                  <a:pt x="1305" y="689"/>
                </a:lnTo>
                <a:lnTo>
                  <a:pt x="1396" y="644"/>
                </a:lnTo>
                <a:lnTo>
                  <a:pt x="1477" y="604"/>
                </a:lnTo>
                <a:lnTo>
                  <a:pt x="1507" y="590"/>
                </a:lnTo>
                <a:lnTo>
                  <a:pt x="1537" y="577"/>
                </a:lnTo>
                <a:lnTo>
                  <a:pt x="1583" y="559"/>
                </a:lnTo>
                <a:lnTo>
                  <a:pt x="1613" y="550"/>
                </a:lnTo>
                <a:lnTo>
                  <a:pt x="1634" y="541"/>
                </a:lnTo>
                <a:lnTo>
                  <a:pt x="1644" y="546"/>
                </a:lnTo>
                <a:lnTo>
                  <a:pt x="1649" y="550"/>
                </a:lnTo>
                <a:lnTo>
                  <a:pt x="1649" y="555"/>
                </a:lnTo>
                <a:lnTo>
                  <a:pt x="1634" y="57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11800" y="381492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476280" y="5072040"/>
                <a:ext cx="81151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mayor frecuencia a la que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angulo que verifica                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4282920"/>
            <a:ext cx="0" cy="141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006560" y="5486400"/>
            <a:ext cx="28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70160" y="4478400"/>
            <a:ext cx="2595240" cy="1011240"/>
          </a:xfrm>
          <a:custGeom>
            <a:avLst/>
            <a:gdLst/>
            <a:ahLst/>
            <a:rect l="l" t="t" r="r" b="b"/>
            <a:pathLst>
              <a:path w="1635" h="637">
                <a:moveTo>
                  <a:pt x="0" y="636"/>
                </a:moveTo>
                <a:lnTo>
                  <a:pt x="48" y="531"/>
                </a:lnTo>
                <a:lnTo>
                  <a:pt x="96" y="431"/>
                </a:lnTo>
                <a:lnTo>
                  <a:pt x="144" y="332"/>
                </a:lnTo>
                <a:lnTo>
                  <a:pt x="192" y="249"/>
                </a:lnTo>
                <a:lnTo>
                  <a:pt x="240" y="177"/>
                </a:lnTo>
                <a:lnTo>
                  <a:pt x="284" y="105"/>
                </a:lnTo>
                <a:lnTo>
                  <a:pt x="332" y="50"/>
                </a:lnTo>
                <a:lnTo>
                  <a:pt x="356" y="28"/>
                </a:lnTo>
                <a:lnTo>
                  <a:pt x="384" y="11"/>
                </a:lnTo>
                <a:lnTo>
                  <a:pt x="411" y="0"/>
                </a:lnTo>
                <a:lnTo>
                  <a:pt x="439" y="0"/>
                </a:lnTo>
                <a:lnTo>
                  <a:pt x="503" y="11"/>
                </a:lnTo>
                <a:lnTo>
                  <a:pt x="567" y="33"/>
                </a:lnTo>
                <a:lnTo>
                  <a:pt x="623" y="61"/>
                </a:lnTo>
                <a:lnTo>
                  <a:pt x="651" y="77"/>
                </a:lnTo>
                <a:lnTo>
                  <a:pt x="675" y="94"/>
                </a:lnTo>
                <a:lnTo>
                  <a:pt x="719" y="138"/>
                </a:lnTo>
                <a:lnTo>
                  <a:pt x="767" y="182"/>
                </a:lnTo>
                <a:lnTo>
                  <a:pt x="791" y="199"/>
                </a:lnTo>
                <a:lnTo>
                  <a:pt x="819" y="205"/>
                </a:lnTo>
                <a:lnTo>
                  <a:pt x="847" y="205"/>
                </a:lnTo>
                <a:lnTo>
                  <a:pt x="875" y="194"/>
                </a:lnTo>
                <a:lnTo>
                  <a:pt x="939" y="160"/>
                </a:lnTo>
                <a:lnTo>
                  <a:pt x="1003" y="127"/>
                </a:lnTo>
                <a:lnTo>
                  <a:pt x="1031" y="111"/>
                </a:lnTo>
                <a:lnTo>
                  <a:pt x="1059" y="105"/>
                </a:lnTo>
                <a:lnTo>
                  <a:pt x="1111" y="111"/>
                </a:lnTo>
                <a:lnTo>
                  <a:pt x="1155" y="127"/>
                </a:lnTo>
                <a:lnTo>
                  <a:pt x="1199" y="144"/>
                </a:lnTo>
                <a:lnTo>
                  <a:pt x="1250" y="155"/>
                </a:lnTo>
                <a:lnTo>
                  <a:pt x="1310" y="155"/>
                </a:lnTo>
                <a:lnTo>
                  <a:pt x="1374" y="155"/>
                </a:lnTo>
                <a:lnTo>
                  <a:pt x="1434" y="155"/>
                </a:lnTo>
                <a:lnTo>
                  <a:pt x="1490" y="155"/>
                </a:lnTo>
                <a:lnTo>
                  <a:pt x="1534" y="155"/>
                </a:lnTo>
                <a:lnTo>
                  <a:pt x="1570" y="155"/>
                </a:lnTo>
                <a:lnTo>
                  <a:pt x="1602" y="155"/>
                </a:lnTo>
                <a:lnTo>
                  <a:pt x="1634" y="15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06760" y="5564160"/>
            <a:ext cx="3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839880" y="41925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2560" y="4573440"/>
            <a:ext cx="4721400" cy="15742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margen de f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ta relacio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el sobrepico y la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recuenc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 relacionada con la velocidad de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27640" y="2184480"/>
            <a:ext cx="1084320" cy="5950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02240" y="2457360"/>
            <a:ext cx="149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48520" y="2473200"/>
            <a:ext cx="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28560" y="3068640"/>
            <a:ext cx="383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449440" y="2598480"/>
            <a:ext cx="1800" cy="49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279520" y="2298600"/>
            <a:ext cx="419400" cy="34308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2682720" y="2457360"/>
            <a:ext cx="40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63760" y="2457360"/>
            <a:ext cx="809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5680" y="2001960"/>
            <a:ext cx="37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52720" y="190332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021360" y="192564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105000" y="2189160"/>
            <a:ext cx="668520" cy="56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87720" y="223056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773520" y="2475000"/>
            <a:ext cx="64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stemas de mayor orden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83520" y="274320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92360" y="28893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0520" y="2744640"/>
            <a:ext cx="2619360" cy="1627200"/>
          </a:xfrm>
          <a:custGeom>
            <a:avLst/>
            <a:gdLst/>
            <a:ahLst/>
            <a:rect l="l" t="t" r="r" b="b"/>
            <a:pathLst>
              <a:path w="1650" h="1025">
                <a:moveTo>
                  <a:pt x="339" y="0"/>
                </a:moveTo>
                <a:lnTo>
                  <a:pt x="217" y="152"/>
                </a:lnTo>
                <a:lnTo>
                  <a:pt x="167" y="228"/>
                </a:lnTo>
                <a:lnTo>
                  <a:pt x="116" y="300"/>
                </a:lnTo>
                <a:lnTo>
                  <a:pt x="71" y="371"/>
                </a:lnTo>
                <a:lnTo>
                  <a:pt x="35" y="443"/>
                </a:lnTo>
                <a:lnTo>
                  <a:pt x="10" y="510"/>
                </a:lnTo>
                <a:lnTo>
                  <a:pt x="0" y="577"/>
                </a:lnTo>
                <a:lnTo>
                  <a:pt x="0" y="639"/>
                </a:lnTo>
                <a:lnTo>
                  <a:pt x="10" y="706"/>
                </a:lnTo>
                <a:lnTo>
                  <a:pt x="35" y="774"/>
                </a:lnTo>
                <a:lnTo>
                  <a:pt x="66" y="832"/>
                </a:lnTo>
                <a:lnTo>
                  <a:pt x="101" y="890"/>
                </a:lnTo>
                <a:lnTo>
                  <a:pt x="147" y="939"/>
                </a:lnTo>
                <a:lnTo>
                  <a:pt x="192" y="979"/>
                </a:lnTo>
                <a:lnTo>
                  <a:pt x="243" y="1006"/>
                </a:lnTo>
                <a:lnTo>
                  <a:pt x="298" y="1024"/>
                </a:lnTo>
                <a:lnTo>
                  <a:pt x="359" y="1024"/>
                </a:lnTo>
                <a:lnTo>
                  <a:pt x="430" y="1019"/>
                </a:lnTo>
                <a:lnTo>
                  <a:pt x="501" y="1006"/>
                </a:lnTo>
                <a:lnTo>
                  <a:pt x="577" y="988"/>
                </a:lnTo>
                <a:lnTo>
                  <a:pt x="657" y="966"/>
                </a:lnTo>
                <a:lnTo>
                  <a:pt x="819" y="912"/>
                </a:lnTo>
                <a:lnTo>
                  <a:pt x="905" y="881"/>
                </a:lnTo>
                <a:lnTo>
                  <a:pt x="1001" y="836"/>
                </a:lnTo>
                <a:lnTo>
                  <a:pt x="1102" y="787"/>
                </a:lnTo>
                <a:lnTo>
                  <a:pt x="1209" y="738"/>
                </a:lnTo>
                <a:lnTo>
                  <a:pt x="1305" y="689"/>
                </a:lnTo>
                <a:lnTo>
                  <a:pt x="1396" y="644"/>
                </a:lnTo>
                <a:lnTo>
                  <a:pt x="1477" y="604"/>
                </a:lnTo>
                <a:lnTo>
                  <a:pt x="1507" y="590"/>
                </a:lnTo>
                <a:lnTo>
                  <a:pt x="1537" y="577"/>
                </a:lnTo>
                <a:lnTo>
                  <a:pt x="1583" y="559"/>
                </a:lnTo>
                <a:lnTo>
                  <a:pt x="1613" y="550"/>
                </a:lnTo>
                <a:lnTo>
                  <a:pt x="1634" y="541"/>
                </a:lnTo>
                <a:lnTo>
                  <a:pt x="1644" y="546"/>
                </a:lnTo>
                <a:lnTo>
                  <a:pt x="1649" y="550"/>
                </a:lnTo>
                <a:lnTo>
                  <a:pt x="1649" y="555"/>
                </a:lnTo>
                <a:lnTo>
                  <a:pt x="1634" y="57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1280" y="342900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510200">
            <a:off x="1916280" y="2979360"/>
            <a:ext cx="2619360" cy="1627200"/>
          </a:xfrm>
          <a:custGeom>
            <a:avLst/>
            <a:gdLst/>
            <a:ahLst/>
            <a:rect l="l" t="t" r="r" b="b"/>
            <a:pathLst>
              <a:path w="1650" h="1025">
                <a:moveTo>
                  <a:pt x="339" y="0"/>
                </a:moveTo>
                <a:lnTo>
                  <a:pt x="217" y="152"/>
                </a:lnTo>
                <a:lnTo>
                  <a:pt x="167" y="228"/>
                </a:lnTo>
                <a:lnTo>
                  <a:pt x="116" y="300"/>
                </a:lnTo>
                <a:lnTo>
                  <a:pt x="71" y="371"/>
                </a:lnTo>
                <a:lnTo>
                  <a:pt x="35" y="443"/>
                </a:lnTo>
                <a:lnTo>
                  <a:pt x="10" y="510"/>
                </a:lnTo>
                <a:lnTo>
                  <a:pt x="0" y="577"/>
                </a:lnTo>
                <a:lnTo>
                  <a:pt x="0" y="639"/>
                </a:lnTo>
                <a:lnTo>
                  <a:pt x="10" y="706"/>
                </a:lnTo>
                <a:lnTo>
                  <a:pt x="35" y="774"/>
                </a:lnTo>
                <a:lnTo>
                  <a:pt x="66" y="832"/>
                </a:lnTo>
                <a:lnTo>
                  <a:pt x="101" y="890"/>
                </a:lnTo>
                <a:lnTo>
                  <a:pt x="147" y="939"/>
                </a:lnTo>
                <a:lnTo>
                  <a:pt x="192" y="979"/>
                </a:lnTo>
                <a:lnTo>
                  <a:pt x="243" y="1006"/>
                </a:lnTo>
                <a:lnTo>
                  <a:pt x="298" y="1024"/>
                </a:lnTo>
                <a:lnTo>
                  <a:pt x="359" y="1024"/>
                </a:lnTo>
                <a:lnTo>
                  <a:pt x="430" y="1019"/>
                </a:lnTo>
                <a:lnTo>
                  <a:pt x="501" y="1006"/>
                </a:lnTo>
                <a:lnTo>
                  <a:pt x="577" y="988"/>
                </a:lnTo>
                <a:lnTo>
                  <a:pt x="657" y="966"/>
                </a:lnTo>
                <a:lnTo>
                  <a:pt x="819" y="912"/>
                </a:lnTo>
                <a:lnTo>
                  <a:pt x="905" y="881"/>
                </a:lnTo>
                <a:lnTo>
                  <a:pt x="1001" y="836"/>
                </a:lnTo>
                <a:lnTo>
                  <a:pt x="1102" y="787"/>
                </a:lnTo>
                <a:lnTo>
                  <a:pt x="1209" y="738"/>
                </a:lnTo>
                <a:lnTo>
                  <a:pt x="1305" y="689"/>
                </a:lnTo>
                <a:lnTo>
                  <a:pt x="1396" y="644"/>
                </a:lnTo>
                <a:lnTo>
                  <a:pt x="1477" y="604"/>
                </a:lnTo>
                <a:lnTo>
                  <a:pt x="1507" y="590"/>
                </a:lnTo>
                <a:lnTo>
                  <a:pt x="1537" y="577"/>
                </a:lnTo>
                <a:lnTo>
                  <a:pt x="1583" y="559"/>
                </a:lnTo>
                <a:lnTo>
                  <a:pt x="1613" y="550"/>
                </a:lnTo>
                <a:lnTo>
                  <a:pt x="1634" y="541"/>
                </a:lnTo>
                <a:lnTo>
                  <a:pt x="1644" y="546"/>
                </a:lnTo>
                <a:lnTo>
                  <a:pt x="1649" y="550"/>
                </a:lnTo>
                <a:lnTo>
                  <a:pt x="1649" y="555"/>
                </a:lnTo>
                <a:lnTo>
                  <a:pt x="1634" y="577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4572000" y="4194000"/>
                <a:ext cx="13334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τ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2" name=""/>
          <p:cNvSpPr/>
          <p:nvPr/>
        </p:nvSpPr>
        <p:spPr>
          <a:xfrm flipH="1">
            <a:off x="1645920" y="2754360"/>
            <a:ext cx="1260360" cy="1079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71640" y="3564000"/>
            <a:ext cx="90360" cy="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511280" y="41940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146640" y="4014720"/>
            <a:ext cx="279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stemas con polos adicionales (por añadir un filtro, etc.) son mas dificiles de controlar (mas cercanos a la inestabi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1640" y="5049720"/>
            <a:ext cx="36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 aumentar el número de polos sobre el de ceros se aumenta el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gen de fase, 2º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48320" y="1905120"/>
            <a:ext cx="1828800" cy="7617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87480" y="1981080"/>
            <a:ext cx="87012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57600" y="2286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7120" y="22860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4380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828440" y="31114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805040" y="24667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1828800"/>
            <a:ext cx="81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22860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06668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600200" y="2057400"/>
            <a:ext cx="457200" cy="474840"/>
            <a:chOff x="1600200" y="2057400"/>
            <a:chExt cx="457200" cy="474840"/>
          </a:xfrm>
        </p:grpSpPr>
        <p:sp>
          <p:nvSpPr>
            <p:cNvPr id="729" name=""/>
            <p:cNvSpPr/>
            <p:nvPr/>
          </p:nvSpPr>
          <p:spPr>
            <a:xfrm>
              <a:off x="1600200" y="20574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0200" y="21337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52480" y="2286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7086600" y="182880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8360" y="17049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112840" y="176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4952880" y="1905120"/>
                <a:ext cx="1206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860400" y="4022640"/>
                <a:ext cx="3530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979560" y="340056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lazo cer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672000" y="4915080"/>
            <a:ext cx="49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Cual es el MF de este sistema?      Que relación tiene el comportamiento en lazo cerrado y el M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gen de fase , 2º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648320" y="1905120"/>
            <a:ext cx="1828800" cy="7617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87480" y="1981080"/>
            <a:ext cx="870120" cy="609840"/>
          </a:xfrm>
          <a:prstGeom prst="rect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57600" y="22860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22860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828440" y="31114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805040" y="24667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09880" y="1828800"/>
            <a:ext cx="814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228600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066680" y="22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00200" y="2057400"/>
            <a:ext cx="457200" cy="474840"/>
            <a:chOff x="1600200" y="2057400"/>
            <a:chExt cx="457200" cy="474840"/>
          </a:xfrm>
        </p:grpSpPr>
        <p:sp>
          <p:nvSpPr>
            <p:cNvPr id="751" name=""/>
            <p:cNvSpPr/>
            <p:nvPr/>
          </p:nvSpPr>
          <p:spPr>
            <a:xfrm>
              <a:off x="1600200" y="20574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600200" y="21337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752480" y="2286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7086600" y="1828800"/>
            <a:ext cx="8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38360" y="17049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12840" y="176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068480" y="3833640"/>
                <a:ext cx="69595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K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δ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j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b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δ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1068480" y="321948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l margen de fase corresponde a la frecuenci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952880" y="1905120"/>
                <a:ext cx="1206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K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argen de fase, 2º 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220680" y="2576520"/>
                <a:ext cx="86184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±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4</m:t>
                                    </m:r>
                                    <m:sSup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p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rad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2359080" y="1938240"/>
                <a:ext cx="3213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411120" y="3645000"/>
            <a:ext cx="80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ay una relación directa entre el Margen de Fase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el amortiguamient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un sistema de 2º orden. Para órdenes mas altos la relación solo es aproxim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86680" y="4826160"/>
            <a:ext cx="0" cy="14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6000" y="6021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51640" y="486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70920" y="609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299280" y="4629240"/>
            <a:ext cx="1655640" cy="1392120"/>
          </a:xfrm>
          <a:custGeom>
            <a:avLst/>
            <a:gdLst/>
            <a:ahLst/>
            <a:rect l="l" t="t" r="r" b="b"/>
            <a:pathLst>
              <a:path w="1043" h="877">
                <a:moveTo>
                  <a:pt x="0" y="877"/>
                </a:moveTo>
                <a:cubicBezTo>
                  <a:pt x="7" y="812"/>
                  <a:pt x="15" y="748"/>
                  <a:pt x="45" y="650"/>
                </a:cubicBezTo>
                <a:cubicBezTo>
                  <a:pt x="75" y="552"/>
                  <a:pt x="114" y="378"/>
                  <a:pt x="182" y="287"/>
                </a:cubicBezTo>
                <a:cubicBezTo>
                  <a:pt x="250" y="196"/>
                  <a:pt x="348" y="151"/>
                  <a:pt x="454" y="106"/>
                </a:cubicBezTo>
                <a:cubicBezTo>
                  <a:pt x="560" y="61"/>
                  <a:pt x="719" y="30"/>
                  <a:pt x="817" y="15"/>
                </a:cubicBezTo>
                <a:cubicBezTo>
                  <a:pt x="915" y="0"/>
                  <a:pt x="979" y="7"/>
                  <a:pt x="1043" y="1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es de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9810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álisis de 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2768760"/>
            <a:ext cx="2057400" cy="774720"/>
          </a:xfrm>
          <a:custGeom>
            <a:avLst/>
            <a:gdLst/>
            <a:ahLst/>
            <a:rect l="l" t="t" r="r" b="b"/>
            <a:pathLst>
              <a:path w="1296" h="488">
                <a:moveTo>
                  <a:pt x="0" y="368"/>
                </a:moveTo>
                <a:cubicBezTo>
                  <a:pt x="32" y="324"/>
                  <a:pt x="64" y="280"/>
                  <a:pt x="96" y="224"/>
                </a:cubicBezTo>
                <a:cubicBezTo>
                  <a:pt x="128" y="168"/>
                  <a:pt x="168" y="24"/>
                  <a:pt x="192" y="32"/>
                </a:cubicBezTo>
                <a:cubicBezTo>
                  <a:pt x="216" y="40"/>
                  <a:pt x="224" y="224"/>
                  <a:pt x="240" y="272"/>
                </a:cubicBezTo>
                <a:cubicBezTo>
                  <a:pt x="256" y="320"/>
                  <a:pt x="280" y="320"/>
                  <a:pt x="288" y="320"/>
                </a:cubicBezTo>
                <a:cubicBezTo>
                  <a:pt x="296" y="320"/>
                  <a:pt x="288" y="296"/>
                  <a:pt x="288" y="272"/>
                </a:cubicBezTo>
                <a:cubicBezTo>
                  <a:pt x="288" y="248"/>
                  <a:pt x="280" y="176"/>
                  <a:pt x="288" y="176"/>
                </a:cubicBezTo>
                <a:cubicBezTo>
                  <a:pt x="296" y="176"/>
                  <a:pt x="328" y="240"/>
                  <a:pt x="336" y="272"/>
                </a:cubicBezTo>
                <a:cubicBezTo>
                  <a:pt x="344" y="304"/>
                  <a:pt x="312" y="352"/>
                  <a:pt x="336" y="368"/>
                </a:cubicBezTo>
                <a:cubicBezTo>
                  <a:pt x="360" y="384"/>
                  <a:pt x="448" y="392"/>
                  <a:pt x="480" y="368"/>
                </a:cubicBezTo>
                <a:cubicBezTo>
                  <a:pt x="512" y="344"/>
                  <a:pt x="504" y="280"/>
                  <a:pt x="528" y="224"/>
                </a:cubicBezTo>
                <a:cubicBezTo>
                  <a:pt x="552" y="168"/>
                  <a:pt x="600" y="64"/>
                  <a:pt x="624" y="32"/>
                </a:cubicBezTo>
                <a:cubicBezTo>
                  <a:pt x="648" y="0"/>
                  <a:pt x="656" y="24"/>
                  <a:pt x="672" y="32"/>
                </a:cubicBezTo>
                <a:cubicBezTo>
                  <a:pt x="688" y="40"/>
                  <a:pt x="704" y="48"/>
                  <a:pt x="720" y="80"/>
                </a:cubicBezTo>
                <a:cubicBezTo>
                  <a:pt x="736" y="112"/>
                  <a:pt x="760" y="216"/>
                  <a:pt x="768" y="224"/>
                </a:cubicBezTo>
                <a:cubicBezTo>
                  <a:pt x="776" y="232"/>
                  <a:pt x="760" y="136"/>
                  <a:pt x="768" y="128"/>
                </a:cubicBezTo>
                <a:cubicBezTo>
                  <a:pt x="776" y="120"/>
                  <a:pt x="808" y="152"/>
                  <a:pt x="816" y="176"/>
                </a:cubicBezTo>
                <a:cubicBezTo>
                  <a:pt x="824" y="200"/>
                  <a:pt x="808" y="224"/>
                  <a:pt x="816" y="272"/>
                </a:cubicBezTo>
                <a:cubicBezTo>
                  <a:pt x="824" y="320"/>
                  <a:pt x="848" y="440"/>
                  <a:pt x="864" y="464"/>
                </a:cubicBezTo>
                <a:cubicBezTo>
                  <a:pt x="880" y="488"/>
                  <a:pt x="904" y="440"/>
                  <a:pt x="912" y="416"/>
                </a:cubicBezTo>
                <a:cubicBezTo>
                  <a:pt x="920" y="392"/>
                  <a:pt x="896" y="344"/>
                  <a:pt x="912" y="320"/>
                </a:cubicBezTo>
                <a:cubicBezTo>
                  <a:pt x="928" y="296"/>
                  <a:pt x="952" y="296"/>
                  <a:pt x="1008" y="272"/>
                </a:cubicBezTo>
                <a:cubicBezTo>
                  <a:pt x="1064" y="248"/>
                  <a:pt x="1200" y="200"/>
                  <a:pt x="1248" y="176"/>
                </a:cubicBezTo>
                <a:cubicBezTo>
                  <a:pt x="1296" y="152"/>
                  <a:pt x="1288" y="136"/>
                  <a:pt x="1296" y="1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43400" y="274320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057400"/>
            <a:ext cx="2133720" cy="43344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886200"/>
            <a:ext cx="533520" cy="43344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42920" y="4581360"/>
                <a:ext cx="500400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dω</m:t>
                        </m:r>
                      </m:e>
                    </m:nary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6504120" y="2760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75520" y="4056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08880" y="4208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87360" y="38275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80080" y="2684520"/>
                <a:ext cx="5828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732720" y="44370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tro de f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04120" y="3129120"/>
            <a:ext cx="1904760" cy="850680"/>
          </a:xfrm>
          <a:custGeom>
            <a:avLst/>
            <a:gdLst/>
            <a:ahLst/>
            <a:rect l="l" t="t" r="r" b="b"/>
            <a:pathLst>
              <a:path w="1200" h="536">
                <a:moveTo>
                  <a:pt x="0" y="344"/>
                </a:moveTo>
                <a:cubicBezTo>
                  <a:pt x="80" y="336"/>
                  <a:pt x="160" y="328"/>
                  <a:pt x="240" y="296"/>
                </a:cubicBezTo>
                <a:cubicBezTo>
                  <a:pt x="320" y="264"/>
                  <a:pt x="424" y="200"/>
                  <a:pt x="480" y="152"/>
                </a:cubicBezTo>
                <a:cubicBezTo>
                  <a:pt x="536" y="104"/>
                  <a:pt x="528" y="16"/>
                  <a:pt x="576" y="8"/>
                </a:cubicBezTo>
                <a:cubicBezTo>
                  <a:pt x="624" y="0"/>
                  <a:pt x="712" y="40"/>
                  <a:pt x="768" y="104"/>
                </a:cubicBezTo>
                <a:cubicBezTo>
                  <a:pt x="824" y="168"/>
                  <a:pt x="848" y="328"/>
                  <a:pt x="912" y="392"/>
                </a:cubicBezTo>
                <a:cubicBezTo>
                  <a:pt x="976" y="456"/>
                  <a:pt x="1104" y="464"/>
                  <a:pt x="1152" y="488"/>
                </a:cubicBezTo>
                <a:cubicBezTo>
                  <a:pt x="1200" y="512"/>
                  <a:pt x="1200" y="524"/>
                  <a:pt x="1200" y="5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516640"/>
            <a:ext cx="68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a respuesta de G(s) ante una señal cualquiera es la suma de las respuestas a cada una de las senoides que la comp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09680" y="2149560"/>
            <a:ext cx="0" cy="21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114800"/>
            <a:ext cx="56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211480" y="2475000"/>
            <a:ext cx="4878360" cy="1617480"/>
          </a:xfrm>
          <a:custGeom>
            <a:avLst/>
            <a:gdLst/>
            <a:ahLst/>
            <a:rect l="l" t="t" r="r" b="b"/>
            <a:pathLst>
              <a:path w="3073" h="1019">
                <a:moveTo>
                  <a:pt x="0" y="1018"/>
                </a:moveTo>
                <a:lnTo>
                  <a:pt x="86" y="828"/>
                </a:lnTo>
                <a:lnTo>
                  <a:pt x="136" y="729"/>
                </a:lnTo>
                <a:lnTo>
                  <a:pt x="193" y="635"/>
                </a:lnTo>
                <a:lnTo>
                  <a:pt x="257" y="536"/>
                </a:lnTo>
                <a:lnTo>
                  <a:pt x="336" y="433"/>
                </a:lnTo>
                <a:lnTo>
                  <a:pt x="407" y="334"/>
                </a:lnTo>
                <a:lnTo>
                  <a:pt x="443" y="288"/>
                </a:lnTo>
                <a:lnTo>
                  <a:pt x="479" y="247"/>
                </a:lnTo>
                <a:lnTo>
                  <a:pt x="543" y="173"/>
                </a:lnTo>
                <a:lnTo>
                  <a:pt x="600" y="103"/>
                </a:lnTo>
                <a:lnTo>
                  <a:pt x="629" y="70"/>
                </a:lnTo>
                <a:lnTo>
                  <a:pt x="657" y="45"/>
                </a:lnTo>
                <a:lnTo>
                  <a:pt x="693" y="24"/>
                </a:lnTo>
                <a:lnTo>
                  <a:pt x="722" y="8"/>
                </a:lnTo>
                <a:lnTo>
                  <a:pt x="750" y="0"/>
                </a:lnTo>
                <a:lnTo>
                  <a:pt x="786" y="0"/>
                </a:lnTo>
                <a:lnTo>
                  <a:pt x="814" y="4"/>
                </a:lnTo>
                <a:lnTo>
                  <a:pt x="843" y="8"/>
                </a:lnTo>
                <a:lnTo>
                  <a:pt x="907" y="33"/>
                </a:lnTo>
                <a:lnTo>
                  <a:pt x="957" y="57"/>
                </a:lnTo>
                <a:lnTo>
                  <a:pt x="979" y="74"/>
                </a:lnTo>
                <a:lnTo>
                  <a:pt x="1000" y="90"/>
                </a:lnTo>
                <a:lnTo>
                  <a:pt x="1029" y="136"/>
                </a:lnTo>
                <a:lnTo>
                  <a:pt x="1057" y="177"/>
                </a:lnTo>
                <a:lnTo>
                  <a:pt x="1079" y="193"/>
                </a:lnTo>
                <a:lnTo>
                  <a:pt x="1100" y="202"/>
                </a:lnTo>
                <a:lnTo>
                  <a:pt x="1129" y="206"/>
                </a:lnTo>
                <a:lnTo>
                  <a:pt x="1165" y="202"/>
                </a:lnTo>
                <a:lnTo>
                  <a:pt x="1236" y="189"/>
                </a:lnTo>
                <a:lnTo>
                  <a:pt x="1315" y="169"/>
                </a:lnTo>
                <a:lnTo>
                  <a:pt x="1393" y="152"/>
                </a:lnTo>
                <a:lnTo>
                  <a:pt x="1465" y="136"/>
                </a:lnTo>
                <a:lnTo>
                  <a:pt x="1529" y="119"/>
                </a:lnTo>
                <a:lnTo>
                  <a:pt x="1600" y="107"/>
                </a:lnTo>
                <a:lnTo>
                  <a:pt x="1643" y="107"/>
                </a:lnTo>
                <a:lnTo>
                  <a:pt x="1679" y="107"/>
                </a:lnTo>
                <a:lnTo>
                  <a:pt x="1722" y="115"/>
                </a:lnTo>
                <a:lnTo>
                  <a:pt x="1765" y="123"/>
                </a:lnTo>
                <a:lnTo>
                  <a:pt x="1858" y="156"/>
                </a:lnTo>
                <a:lnTo>
                  <a:pt x="1943" y="185"/>
                </a:lnTo>
                <a:lnTo>
                  <a:pt x="1979" y="197"/>
                </a:lnTo>
                <a:lnTo>
                  <a:pt x="2015" y="202"/>
                </a:lnTo>
                <a:lnTo>
                  <a:pt x="2043" y="202"/>
                </a:lnTo>
                <a:lnTo>
                  <a:pt x="2072" y="197"/>
                </a:lnTo>
                <a:lnTo>
                  <a:pt x="2122" y="185"/>
                </a:lnTo>
                <a:lnTo>
                  <a:pt x="2165" y="164"/>
                </a:lnTo>
                <a:lnTo>
                  <a:pt x="2208" y="152"/>
                </a:lnTo>
                <a:lnTo>
                  <a:pt x="2229" y="148"/>
                </a:lnTo>
                <a:lnTo>
                  <a:pt x="2243" y="148"/>
                </a:lnTo>
                <a:lnTo>
                  <a:pt x="2272" y="148"/>
                </a:lnTo>
                <a:lnTo>
                  <a:pt x="2293" y="152"/>
                </a:lnTo>
                <a:lnTo>
                  <a:pt x="2322" y="152"/>
                </a:lnTo>
                <a:lnTo>
                  <a:pt x="2350" y="152"/>
                </a:lnTo>
                <a:lnTo>
                  <a:pt x="2400" y="152"/>
                </a:lnTo>
                <a:lnTo>
                  <a:pt x="2458" y="152"/>
                </a:lnTo>
                <a:lnTo>
                  <a:pt x="2529" y="152"/>
                </a:lnTo>
                <a:lnTo>
                  <a:pt x="2608" y="152"/>
                </a:lnTo>
                <a:lnTo>
                  <a:pt x="2693" y="152"/>
                </a:lnTo>
                <a:lnTo>
                  <a:pt x="2879" y="152"/>
                </a:lnTo>
                <a:lnTo>
                  <a:pt x="3072" y="15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170080" y="2498760"/>
            <a:ext cx="5452920" cy="1630440"/>
          </a:xfrm>
          <a:custGeom>
            <a:avLst/>
            <a:gdLst/>
            <a:ahLst/>
            <a:rect l="l" t="t" r="r" b="b"/>
            <a:pathLst>
              <a:path w="3435" h="1027">
                <a:moveTo>
                  <a:pt x="23" y="1018"/>
                </a:moveTo>
                <a:lnTo>
                  <a:pt x="8" y="1026"/>
                </a:lnTo>
                <a:lnTo>
                  <a:pt x="0" y="1026"/>
                </a:lnTo>
                <a:lnTo>
                  <a:pt x="8" y="1022"/>
                </a:lnTo>
                <a:lnTo>
                  <a:pt x="16" y="1010"/>
                </a:lnTo>
                <a:lnTo>
                  <a:pt x="39" y="997"/>
                </a:lnTo>
                <a:lnTo>
                  <a:pt x="69" y="972"/>
                </a:lnTo>
                <a:lnTo>
                  <a:pt x="123" y="938"/>
                </a:lnTo>
                <a:lnTo>
                  <a:pt x="185" y="892"/>
                </a:lnTo>
                <a:lnTo>
                  <a:pt x="261" y="842"/>
                </a:lnTo>
                <a:lnTo>
                  <a:pt x="346" y="783"/>
                </a:lnTo>
                <a:lnTo>
                  <a:pt x="430" y="729"/>
                </a:lnTo>
                <a:lnTo>
                  <a:pt x="515" y="675"/>
                </a:lnTo>
                <a:lnTo>
                  <a:pt x="584" y="624"/>
                </a:lnTo>
                <a:lnTo>
                  <a:pt x="646" y="587"/>
                </a:lnTo>
                <a:lnTo>
                  <a:pt x="692" y="557"/>
                </a:lnTo>
                <a:lnTo>
                  <a:pt x="730" y="536"/>
                </a:lnTo>
                <a:lnTo>
                  <a:pt x="768" y="520"/>
                </a:lnTo>
                <a:lnTo>
                  <a:pt x="792" y="507"/>
                </a:lnTo>
                <a:lnTo>
                  <a:pt x="853" y="478"/>
                </a:lnTo>
                <a:lnTo>
                  <a:pt x="891" y="461"/>
                </a:lnTo>
                <a:lnTo>
                  <a:pt x="937" y="440"/>
                </a:lnTo>
                <a:lnTo>
                  <a:pt x="991" y="415"/>
                </a:lnTo>
                <a:lnTo>
                  <a:pt x="1060" y="386"/>
                </a:lnTo>
                <a:lnTo>
                  <a:pt x="1199" y="319"/>
                </a:lnTo>
                <a:lnTo>
                  <a:pt x="1345" y="256"/>
                </a:lnTo>
                <a:lnTo>
                  <a:pt x="1406" y="226"/>
                </a:lnTo>
                <a:lnTo>
                  <a:pt x="1468" y="201"/>
                </a:lnTo>
                <a:lnTo>
                  <a:pt x="1521" y="185"/>
                </a:lnTo>
                <a:lnTo>
                  <a:pt x="1567" y="168"/>
                </a:lnTo>
                <a:lnTo>
                  <a:pt x="1652" y="147"/>
                </a:lnTo>
                <a:lnTo>
                  <a:pt x="1729" y="126"/>
                </a:lnTo>
                <a:lnTo>
                  <a:pt x="1798" y="105"/>
                </a:lnTo>
                <a:lnTo>
                  <a:pt x="1859" y="80"/>
                </a:lnTo>
                <a:lnTo>
                  <a:pt x="1905" y="51"/>
                </a:lnTo>
                <a:lnTo>
                  <a:pt x="1944" y="26"/>
                </a:lnTo>
                <a:lnTo>
                  <a:pt x="1990" y="9"/>
                </a:lnTo>
                <a:lnTo>
                  <a:pt x="2044" y="0"/>
                </a:lnTo>
                <a:lnTo>
                  <a:pt x="2105" y="0"/>
                </a:lnTo>
                <a:lnTo>
                  <a:pt x="2167" y="5"/>
                </a:lnTo>
                <a:lnTo>
                  <a:pt x="2236" y="9"/>
                </a:lnTo>
                <a:lnTo>
                  <a:pt x="2320" y="17"/>
                </a:lnTo>
                <a:lnTo>
                  <a:pt x="2420" y="30"/>
                </a:lnTo>
                <a:lnTo>
                  <a:pt x="2520" y="42"/>
                </a:lnTo>
                <a:lnTo>
                  <a:pt x="2620" y="59"/>
                </a:lnTo>
                <a:lnTo>
                  <a:pt x="2720" y="80"/>
                </a:lnTo>
                <a:lnTo>
                  <a:pt x="2819" y="105"/>
                </a:lnTo>
                <a:lnTo>
                  <a:pt x="2919" y="134"/>
                </a:lnTo>
                <a:lnTo>
                  <a:pt x="3004" y="155"/>
                </a:lnTo>
                <a:lnTo>
                  <a:pt x="3073" y="172"/>
                </a:lnTo>
                <a:lnTo>
                  <a:pt x="3134" y="185"/>
                </a:lnTo>
                <a:lnTo>
                  <a:pt x="3188" y="197"/>
                </a:lnTo>
                <a:lnTo>
                  <a:pt x="3242" y="201"/>
                </a:lnTo>
                <a:lnTo>
                  <a:pt x="3296" y="197"/>
                </a:lnTo>
                <a:lnTo>
                  <a:pt x="3342" y="185"/>
                </a:lnTo>
                <a:lnTo>
                  <a:pt x="3434" y="15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01840" y="2743200"/>
            <a:ext cx="6067440" cy="0"/>
          </a:xfrm>
          <a:prstGeom prst="line">
            <a:avLst/>
          </a:prstGeom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30840" y="365904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830240" y="205884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01640" y="4649760"/>
            <a:ext cx="6473880" cy="13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y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nor sobre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s mayores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n respuestas mas  rápidas y controles mas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gana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2073240"/>
            <a:ext cx="0" cy="25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11120" y="3352680"/>
            <a:ext cx="49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08280" y="2774880"/>
            <a:ext cx="1333440" cy="2714760"/>
          </a:xfrm>
          <a:custGeom>
            <a:avLst/>
            <a:gdLst/>
            <a:ahLst/>
            <a:rect l="l" t="t" r="r" b="b"/>
            <a:pathLst>
              <a:path w="840" h="1710">
                <a:moveTo>
                  <a:pt x="839" y="365"/>
                </a:moveTo>
                <a:lnTo>
                  <a:pt x="774" y="260"/>
                </a:lnTo>
                <a:lnTo>
                  <a:pt x="709" y="166"/>
                </a:lnTo>
                <a:lnTo>
                  <a:pt x="672" y="122"/>
                </a:lnTo>
                <a:lnTo>
                  <a:pt x="631" y="83"/>
                </a:lnTo>
                <a:lnTo>
                  <a:pt x="595" y="50"/>
                </a:lnTo>
                <a:lnTo>
                  <a:pt x="550" y="28"/>
                </a:lnTo>
                <a:lnTo>
                  <a:pt x="501" y="11"/>
                </a:lnTo>
                <a:lnTo>
                  <a:pt x="444" y="0"/>
                </a:lnTo>
                <a:lnTo>
                  <a:pt x="387" y="0"/>
                </a:lnTo>
                <a:lnTo>
                  <a:pt x="322" y="0"/>
                </a:lnTo>
                <a:lnTo>
                  <a:pt x="265" y="5"/>
                </a:lnTo>
                <a:lnTo>
                  <a:pt x="208" y="11"/>
                </a:lnTo>
                <a:lnTo>
                  <a:pt x="159" y="16"/>
                </a:lnTo>
                <a:lnTo>
                  <a:pt x="118" y="28"/>
                </a:lnTo>
                <a:lnTo>
                  <a:pt x="90" y="39"/>
                </a:lnTo>
                <a:lnTo>
                  <a:pt x="69" y="50"/>
                </a:lnTo>
                <a:lnTo>
                  <a:pt x="53" y="66"/>
                </a:lnTo>
                <a:lnTo>
                  <a:pt x="41" y="83"/>
                </a:lnTo>
                <a:lnTo>
                  <a:pt x="29" y="122"/>
                </a:lnTo>
                <a:lnTo>
                  <a:pt x="21" y="171"/>
                </a:lnTo>
                <a:lnTo>
                  <a:pt x="8" y="232"/>
                </a:lnTo>
                <a:lnTo>
                  <a:pt x="0" y="304"/>
                </a:lnTo>
                <a:lnTo>
                  <a:pt x="4" y="382"/>
                </a:lnTo>
                <a:lnTo>
                  <a:pt x="8" y="420"/>
                </a:lnTo>
                <a:lnTo>
                  <a:pt x="21" y="459"/>
                </a:lnTo>
                <a:lnTo>
                  <a:pt x="41" y="498"/>
                </a:lnTo>
                <a:lnTo>
                  <a:pt x="69" y="542"/>
                </a:lnTo>
                <a:lnTo>
                  <a:pt x="102" y="592"/>
                </a:lnTo>
                <a:lnTo>
                  <a:pt x="139" y="636"/>
                </a:lnTo>
                <a:lnTo>
                  <a:pt x="175" y="680"/>
                </a:lnTo>
                <a:lnTo>
                  <a:pt x="212" y="724"/>
                </a:lnTo>
                <a:lnTo>
                  <a:pt x="240" y="763"/>
                </a:lnTo>
                <a:lnTo>
                  <a:pt x="261" y="796"/>
                </a:lnTo>
                <a:lnTo>
                  <a:pt x="277" y="818"/>
                </a:lnTo>
                <a:lnTo>
                  <a:pt x="285" y="841"/>
                </a:lnTo>
                <a:lnTo>
                  <a:pt x="297" y="863"/>
                </a:lnTo>
                <a:lnTo>
                  <a:pt x="301" y="874"/>
                </a:lnTo>
                <a:lnTo>
                  <a:pt x="301" y="890"/>
                </a:lnTo>
                <a:lnTo>
                  <a:pt x="306" y="913"/>
                </a:lnTo>
                <a:lnTo>
                  <a:pt x="310" y="940"/>
                </a:lnTo>
                <a:lnTo>
                  <a:pt x="318" y="979"/>
                </a:lnTo>
                <a:lnTo>
                  <a:pt x="322" y="1034"/>
                </a:lnTo>
                <a:lnTo>
                  <a:pt x="330" y="1090"/>
                </a:lnTo>
                <a:lnTo>
                  <a:pt x="338" y="1150"/>
                </a:lnTo>
                <a:lnTo>
                  <a:pt x="342" y="1211"/>
                </a:lnTo>
                <a:lnTo>
                  <a:pt x="350" y="1272"/>
                </a:lnTo>
                <a:lnTo>
                  <a:pt x="354" y="1327"/>
                </a:lnTo>
                <a:lnTo>
                  <a:pt x="359" y="1372"/>
                </a:lnTo>
                <a:lnTo>
                  <a:pt x="363" y="1410"/>
                </a:lnTo>
                <a:lnTo>
                  <a:pt x="363" y="1438"/>
                </a:lnTo>
                <a:lnTo>
                  <a:pt x="363" y="1488"/>
                </a:lnTo>
                <a:lnTo>
                  <a:pt x="359" y="1526"/>
                </a:lnTo>
                <a:lnTo>
                  <a:pt x="359" y="1565"/>
                </a:lnTo>
                <a:lnTo>
                  <a:pt x="359" y="1648"/>
                </a:lnTo>
                <a:lnTo>
                  <a:pt x="359" y="1681"/>
                </a:lnTo>
                <a:lnTo>
                  <a:pt x="359" y="1709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43200" y="3352680"/>
            <a:ext cx="1241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133720" y="321624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54280" y="282096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4984920" y="1865160"/>
                <a:ext cx="259236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2216160" y="3201840"/>
            <a:ext cx="457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954680" y="3735360"/>
            <a:ext cx="373068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 = factor en el que se puede incrementar la ganancia antes de que el sistema en lazo cerrado se haga i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da de robust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46400" y="4178160"/>
            <a:ext cx="186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97000" y="5003640"/>
            <a:ext cx="26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conviene trabajar con ganancias a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iones de trans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798" name="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09680" y="3657600"/>
                <a:ext cx="3657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819520" y="5029200"/>
                <a:ext cx="2620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2895480" y="457200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648320" y="4572000"/>
            <a:ext cx="61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048120" y="5943600"/>
            <a:ext cx="61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w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594360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ccccff"/>
                </a:solidFill>
                <a:latin typeface="Times New Roman"/>
              </a:rPr>
              <a:t>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hazo de perturb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914400" y="1981080"/>
                <a:ext cx="299736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R tiene accion integr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4495680" y="2308320"/>
            <a:ext cx="0" cy="29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60800" y="2971800"/>
            <a:ext cx="399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87040" y="1884240"/>
            <a:ext cx="194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24280" y="2590920"/>
            <a:ext cx="2706840" cy="2211120"/>
          </a:xfrm>
          <a:custGeom>
            <a:avLst/>
            <a:gdLst/>
            <a:ahLst/>
            <a:rect l="l" t="t" r="r" b="b"/>
            <a:pathLst>
              <a:path w="1705" h="1393">
                <a:moveTo>
                  <a:pt x="0" y="1392"/>
                </a:moveTo>
                <a:lnTo>
                  <a:pt x="0" y="1344"/>
                </a:lnTo>
                <a:lnTo>
                  <a:pt x="0" y="1296"/>
                </a:lnTo>
                <a:lnTo>
                  <a:pt x="0" y="1248"/>
                </a:lnTo>
                <a:lnTo>
                  <a:pt x="24" y="1200"/>
                </a:lnTo>
                <a:lnTo>
                  <a:pt x="24" y="1152"/>
                </a:lnTo>
                <a:lnTo>
                  <a:pt x="48" y="1104"/>
                </a:lnTo>
                <a:lnTo>
                  <a:pt x="72" y="1056"/>
                </a:lnTo>
                <a:lnTo>
                  <a:pt x="96" y="1008"/>
                </a:lnTo>
                <a:lnTo>
                  <a:pt x="120" y="960"/>
                </a:lnTo>
                <a:lnTo>
                  <a:pt x="144" y="912"/>
                </a:lnTo>
                <a:lnTo>
                  <a:pt x="168" y="864"/>
                </a:lnTo>
                <a:lnTo>
                  <a:pt x="192" y="816"/>
                </a:lnTo>
                <a:lnTo>
                  <a:pt x="216" y="768"/>
                </a:lnTo>
                <a:lnTo>
                  <a:pt x="240" y="720"/>
                </a:lnTo>
                <a:lnTo>
                  <a:pt x="264" y="672"/>
                </a:lnTo>
                <a:lnTo>
                  <a:pt x="288" y="624"/>
                </a:lnTo>
                <a:lnTo>
                  <a:pt x="312" y="576"/>
                </a:lnTo>
                <a:lnTo>
                  <a:pt x="336" y="528"/>
                </a:lnTo>
                <a:lnTo>
                  <a:pt x="360" y="480"/>
                </a:lnTo>
                <a:lnTo>
                  <a:pt x="384" y="432"/>
                </a:lnTo>
                <a:lnTo>
                  <a:pt x="432" y="384"/>
                </a:lnTo>
                <a:lnTo>
                  <a:pt x="456" y="336"/>
                </a:lnTo>
                <a:lnTo>
                  <a:pt x="456" y="288"/>
                </a:lnTo>
                <a:lnTo>
                  <a:pt x="480" y="240"/>
                </a:lnTo>
                <a:lnTo>
                  <a:pt x="504" y="192"/>
                </a:lnTo>
                <a:lnTo>
                  <a:pt x="528" y="144"/>
                </a:lnTo>
                <a:lnTo>
                  <a:pt x="576" y="120"/>
                </a:lnTo>
                <a:lnTo>
                  <a:pt x="624" y="72"/>
                </a:lnTo>
                <a:lnTo>
                  <a:pt x="672" y="48"/>
                </a:lnTo>
                <a:lnTo>
                  <a:pt x="720" y="24"/>
                </a:lnTo>
                <a:lnTo>
                  <a:pt x="768" y="0"/>
                </a:lnTo>
                <a:lnTo>
                  <a:pt x="816" y="24"/>
                </a:lnTo>
                <a:lnTo>
                  <a:pt x="864" y="0"/>
                </a:lnTo>
                <a:lnTo>
                  <a:pt x="912" y="0"/>
                </a:lnTo>
                <a:lnTo>
                  <a:pt x="960" y="24"/>
                </a:lnTo>
                <a:lnTo>
                  <a:pt x="1008" y="48"/>
                </a:lnTo>
                <a:lnTo>
                  <a:pt x="1056" y="72"/>
                </a:lnTo>
                <a:lnTo>
                  <a:pt x="1104" y="96"/>
                </a:lnTo>
                <a:lnTo>
                  <a:pt x="1152" y="120"/>
                </a:lnTo>
                <a:lnTo>
                  <a:pt x="1176" y="168"/>
                </a:lnTo>
                <a:lnTo>
                  <a:pt x="1224" y="168"/>
                </a:lnTo>
                <a:lnTo>
                  <a:pt x="1224" y="216"/>
                </a:lnTo>
                <a:lnTo>
                  <a:pt x="1272" y="216"/>
                </a:lnTo>
                <a:lnTo>
                  <a:pt x="1320" y="216"/>
                </a:lnTo>
                <a:lnTo>
                  <a:pt x="1368" y="216"/>
                </a:lnTo>
                <a:lnTo>
                  <a:pt x="1416" y="192"/>
                </a:lnTo>
                <a:lnTo>
                  <a:pt x="1464" y="216"/>
                </a:lnTo>
                <a:lnTo>
                  <a:pt x="1512" y="216"/>
                </a:lnTo>
                <a:lnTo>
                  <a:pt x="1560" y="216"/>
                </a:lnTo>
                <a:lnTo>
                  <a:pt x="1608" y="216"/>
                </a:lnTo>
                <a:lnTo>
                  <a:pt x="1656" y="240"/>
                </a:lnTo>
                <a:lnTo>
                  <a:pt x="1704" y="240"/>
                </a:lnTo>
              </a:path>
            </a:pathLst>
          </a:cu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827840" y="2494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12520" y="3898800"/>
            <a:ext cx="3579840" cy="23338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rango de frecuenci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regulador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peorar el rechaz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turb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minimizar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ximo |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gen de Mód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00400" y="215568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089000" y="25909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447920" y="2536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98080" y="2112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69880" y="2612880"/>
            <a:ext cx="873360" cy="133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2346120" y="2612880"/>
            <a:ext cx="873000" cy="133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648320" y="2209680"/>
                <a:ext cx="3722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1122480" y="2646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60560" y="39416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7360" y="1606680"/>
            <a:ext cx="1968480" cy="1892160"/>
          </a:xfrm>
          <a:prstGeom prst="ellipse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47840" y="2495520"/>
            <a:ext cx="954000" cy="2516040"/>
          </a:xfrm>
          <a:custGeom>
            <a:avLst/>
            <a:gdLst/>
            <a:ahLst/>
            <a:rect l="l" t="t" r="r" b="b"/>
            <a:pathLst>
              <a:path w="601" h="1585">
                <a:moveTo>
                  <a:pt x="600" y="60"/>
                </a:moveTo>
                <a:lnTo>
                  <a:pt x="552" y="48"/>
                </a:lnTo>
                <a:lnTo>
                  <a:pt x="504" y="24"/>
                </a:lnTo>
                <a:lnTo>
                  <a:pt x="456" y="0"/>
                </a:lnTo>
                <a:lnTo>
                  <a:pt x="408" y="24"/>
                </a:lnTo>
                <a:lnTo>
                  <a:pt x="360" y="24"/>
                </a:lnTo>
                <a:lnTo>
                  <a:pt x="312" y="48"/>
                </a:lnTo>
                <a:lnTo>
                  <a:pt x="264" y="72"/>
                </a:lnTo>
                <a:lnTo>
                  <a:pt x="216" y="96"/>
                </a:lnTo>
                <a:lnTo>
                  <a:pt x="192" y="144"/>
                </a:lnTo>
                <a:lnTo>
                  <a:pt x="144" y="168"/>
                </a:lnTo>
                <a:lnTo>
                  <a:pt x="96" y="192"/>
                </a:lnTo>
                <a:lnTo>
                  <a:pt x="72" y="240"/>
                </a:lnTo>
                <a:lnTo>
                  <a:pt x="24" y="264"/>
                </a:lnTo>
                <a:lnTo>
                  <a:pt x="24" y="312"/>
                </a:lnTo>
                <a:lnTo>
                  <a:pt x="0" y="360"/>
                </a:lnTo>
                <a:lnTo>
                  <a:pt x="0" y="408"/>
                </a:lnTo>
                <a:lnTo>
                  <a:pt x="0" y="456"/>
                </a:lnTo>
                <a:lnTo>
                  <a:pt x="24" y="504"/>
                </a:lnTo>
                <a:lnTo>
                  <a:pt x="24" y="552"/>
                </a:lnTo>
                <a:lnTo>
                  <a:pt x="48" y="600"/>
                </a:lnTo>
                <a:lnTo>
                  <a:pt x="48" y="648"/>
                </a:lnTo>
                <a:lnTo>
                  <a:pt x="48" y="696"/>
                </a:lnTo>
                <a:lnTo>
                  <a:pt x="72" y="744"/>
                </a:lnTo>
                <a:lnTo>
                  <a:pt x="72" y="792"/>
                </a:lnTo>
                <a:lnTo>
                  <a:pt x="72" y="840"/>
                </a:lnTo>
                <a:lnTo>
                  <a:pt x="96" y="888"/>
                </a:lnTo>
                <a:lnTo>
                  <a:pt x="96" y="936"/>
                </a:lnTo>
                <a:lnTo>
                  <a:pt x="96" y="984"/>
                </a:lnTo>
                <a:lnTo>
                  <a:pt x="120" y="1032"/>
                </a:lnTo>
                <a:lnTo>
                  <a:pt x="144" y="1080"/>
                </a:lnTo>
                <a:lnTo>
                  <a:pt x="168" y="1128"/>
                </a:lnTo>
                <a:lnTo>
                  <a:pt x="192" y="1176"/>
                </a:lnTo>
                <a:lnTo>
                  <a:pt x="216" y="1224"/>
                </a:lnTo>
                <a:lnTo>
                  <a:pt x="264" y="1248"/>
                </a:lnTo>
                <a:lnTo>
                  <a:pt x="264" y="1296"/>
                </a:lnTo>
                <a:lnTo>
                  <a:pt x="264" y="1344"/>
                </a:lnTo>
                <a:lnTo>
                  <a:pt x="264" y="1392"/>
                </a:lnTo>
                <a:lnTo>
                  <a:pt x="288" y="1440"/>
                </a:lnTo>
                <a:lnTo>
                  <a:pt x="288" y="1488"/>
                </a:lnTo>
                <a:lnTo>
                  <a:pt x="264" y="1536"/>
                </a:lnTo>
                <a:lnTo>
                  <a:pt x="264" y="1584"/>
                </a:lnTo>
                <a:lnTo>
                  <a:pt x="216" y="1584"/>
                </a:lnTo>
              </a:path>
            </a:pathLst>
          </a:custGeom>
          <a:noFill/>
          <a:ln cap="rnd" w="1260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62400" y="523728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469880" y="2612880"/>
            <a:ext cx="797040" cy="263520"/>
          </a:xfrm>
          <a:prstGeom prst="line">
            <a:avLst/>
          </a:prstGeom>
          <a:ln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256200" y="2112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6000" y="4724280"/>
            <a:ext cx="134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 |NM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715000" y="4705200"/>
                <a:ext cx="311940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w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5715000" y="5315040"/>
                <a:ext cx="31179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w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¥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53400" y="5923080"/>
            <a:ext cx="826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margen de módulo mayor mejora el rechazo de perturb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192560" y="3583080"/>
            <a:ext cx="4187880" cy="454680"/>
          </a:xfrm>
          <a:prstGeom prst="rect">
            <a:avLst/>
          </a:prstGeom>
          <a:noFill/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gen de módulo = min |NM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¿Por qué es dificil el control de un sistema con retar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677960" y="2897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5280" y="522936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27400" y="2708280"/>
            <a:ext cx="515880" cy="2521080"/>
          </a:xfrm>
          <a:custGeom>
            <a:avLst/>
            <a:gdLst/>
            <a:ahLst/>
            <a:rect l="l" t="t" r="r" b="b"/>
            <a:pathLst>
              <a:path w="325" h="1588">
                <a:moveTo>
                  <a:pt x="235" y="1588"/>
                </a:moveTo>
                <a:cubicBezTo>
                  <a:pt x="223" y="1474"/>
                  <a:pt x="212" y="1361"/>
                  <a:pt x="189" y="1270"/>
                </a:cubicBezTo>
                <a:cubicBezTo>
                  <a:pt x="166" y="1179"/>
                  <a:pt x="122" y="1127"/>
                  <a:pt x="99" y="1044"/>
                </a:cubicBezTo>
                <a:cubicBezTo>
                  <a:pt x="76" y="961"/>
                  <a:pt x="68" y="863"/>
                  <a:pt x="53" y="772"/>
                </a:cubicBezTo>
                <a:cubicBezTo>
                  <a:pt x="38" y="681"/>
                  <a:pt x="0" y="597"/>
                  <a:pt x="8" y="499"/>
                </a:cubicBezTo>
                <a:cubicBezTo>
                  <a:pt x="16" y="401"/>
                  <a:pt x="61" y="257"/>
                  <a:pt x="99" y="182"/>
                </a:cubicBezTo>
                <a:cubicBezTo>
                  <a:pt x="137" y="107"/>
                  <a:pt x="198" y="76"/>
                  <a:pt x="235" y="46"/>
                </a:cubicBezTo>
                <a:cubicBezTo>
                  <a:pt x="272" y="16"/>
                  <a:pt x="298" y="8"/>
                  <a:pt x="32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7880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66740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1332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3208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41332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83460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08360" y="4437000"/>
            <a:ext cx="259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e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dj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727960" y="191628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4932000" y="1412640"/>
            <a:ext cx="1865160" cy="134604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020000" y="4149720"/>
            <a:ext cx="1800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 / Margen de mod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87880" y="1736640"/>
            <a:ext cx="2232000" cy="3492720"/>
          </a:xfrm>
          <a:custGeom>
            <a:avLst/>
            <a:gdLst/>
            <a:ahLst/>
            <a:rect l="l" t="t" r="r" b="b"/>
            <a:pathLst>
              <a:path w="1406" h="2200">
                <a:moveTo>
                  <a:pt x="809" y="2200"/>
                </a:moveTo>
                <a:cubicBezTo>
                  <a:pt x="801" y="2124"/>
                  <a:pt x="794" y="2049"/>
                  <a:pt x="764" y="1973"/>
                </a:cubicBezTo>
                <a:cubicBezTo>
                  <a:pt x="734" y="1897"/>
                  <a:pt x="674" y="1822"/>
                  <a:pt x="628" y="1746"/>
                </a:cubicBezTo>
                <a:cubicBezTo>
                  <a:pt x="582" y="1670"/>
                  <a:pt x="582" y="1648"/>
                  <a:pt x="491" y="1520"/>
                </a:cubicBezTo>
                <a:cubicBezTo>
                  <a:pt x="400" y="1392"/>
                  <a:pt x="159" y="1149"/>
                  <a:pt x="83" y="975"/>
                </a:cubicBezTo>
                <a:cubicBezTo>
                  <a:pt x="7" y="801"/>
                  <a:pt x="0" y="620"/>
                  <a:pt x="38" y="476"/>
                </a:cubicBezTo>
                <a:cubicBezTo>
                  <a:pt x="76" y="332"/>
                  <a:pt x="182" y="188"/>
                  <a:pt x="310" y="113"/>
                </a:cubicBezTo>
                <a:cubicBezTo>
                  <a:pt x="438" y="38"/>
                  <a:pt x="643" y="0"/>
                  <a:pt x="809" y="23"/>
                </a:cubicBezTo>
                <a:cubicBezTo>
                  <a:pt x="975" y="46"/>
                  <a:pt x="1210" y="174"/>
                  <a:pt x="1308" y="250"/>
                </a:cubicBezTo>
                <a:cubicBezTo>
                  <a:pt x="1406" y="326"/>
                  <a:pt x="1402" y="401"/>
                  <a:pt x="1399" y="4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81760" y="2244600"/>
            <a:ext cx="1163520" cy="2309760"/>
          </a:xfrm>
          <a:custGeom>
            <a:avLst/>
            <a:gdLst/>
            <a:ahLst/>
            <a:rect l="l" t="t" r="r" b="b"/>
            <a:pathLst>
              <a:path w="733" h="1455">
                <a:moveTo>
                  <a:pt x="274" y="1455"/>
                </a:moveTo>
                <a:cubicBezTo>
                  <a:pt x="250" y="1270"/>
                  <a:pt x="227" y="1086"/>
                  <a:pt x="189" y="944"/>
                </a:cubicBezTo>
                <a:cubicBezTo>
                  <a:pt x="151" y="802"/>
                  <a:pt x="76" y="717"/>
                  <a:pt x="48" y="604"/>
                </a:cubicBezTo>
                <a:cubicBezTo>
                  <a:pt x="20" y="491"/>
                  <a:pt x="0" y="354"/>
                  <a:pt x="19" y="264"/>
                </a:cubicBezTo>
                <a:cubicBezTo>
                  <a:pt x="38" y="174"/>
                  <a:pt x="109" y="108"/>
                  <a:pt x="161" y="66"/>
                </a:cubicBezTo>
                <a:cubicBezTo>
                  <a:pt x="213" y="24"/>
                  <a:pt x="279" y="18"/>
                  <a:pt x="331" y="9"/>
                </a:cubicBezTo>
                <a:cubicBezTo>
                  <a:pt x="383" y="0"/>
                  <a:pt x="426" y="4"/>
                  <a:pt x="473" y="9"/>
                </a:cubicBezTo>
                <a:cubicBezTo>
                  <a:pt x="520" y="14"/>
                  <a:pt x="582" y="23"/>
                  <a:pt x="615" y="37"/>
                </a:cubicBezTo>
                <a:cubicBezTo>
                  <a:pt x="648" y="51"/>
                  <a:pt x="657" y="70"/>
                  <a:pt x="671" y="94"/>
                </a:cubicBezTo>
                <a:cubicBezTo>
                  <a:pt x="685" y="118"/>
                  <a:pt x="691" y="141"/>
                  <a:pt x="700" y="179"/>
                </a:cubicBezTo>
                <a:cubicBezTo>
                  <a:pt x="709" y="217"/>
                  <a:pt x="733" y="283"/>
                  <a:pt x="728" y="321"/>
                </a:cubicBezTo>
                <a:cubicBezTo>
                  <a:pt x="723" y="359"/>
                  <a:pt x="699" y="382"/>
                  <a:pt x="671" y="406"/>
                </a:cubicBezTo>
                <a:cubicBezTo>
                  <a:pt x="643" y="430"/>
                  <a:pt x="591" y="458"/>
                  <a:pt x="558" y="463"/>
                </a:cubicBezTo>
                <a:cubicBezTo>
                  <a:pt x="525" y="468"/>
                  <a:pt x="497" y="448"/>
                  <a:pt x="473" y="434"/>
                </a:cubicBezTo>
                <a:cubicBezTo>
                  <a:pt x="449" y="420"/>
                  <a:pt x="426" y="396"/>
                  <a:pt x="416" y="377"/>
                </a:cubicBezTo>
                <a:cubicBezTo>
                  <a:pt x="406" y="358"/>
                  <a:pt x="416" y="340"/>
                  <a:pt x="416" y="321"/>
                </a:cubicBezTo>
                <a:cubicBezTo>
                  <a:pt x="416" y="302"/>
                  <a:pt x="406" y="278"/>
                  <a:pt x="416" y="264"/>
                </a:cubicBezTo>
                <a:cubicBezTo>
                  <a:pt x="426" y="250"/>
                  <a:pt x="464" y="241"/>
                  <a:pt x="473" y="236"/>
                </a:cubicBezTo>
              </a:path>
            </a:pathLst>
          </a:custGeom>
          <a:noFill/>
          <a:ln w="28440">
            <a:solidFill>
              <a:srgbClr val="00cc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istemas de fase no-míni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55640" y="1916280"/>
                <a:ext cx="54626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j</m:t>
                                </m:r>
                                <m:r>
                                  <m:t xml:space="preserve">ω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  <m:r>
                              <m:t xml:space="preserve">ω</m:t>
                            </m:r>
                            <m:r>
                              <m:t xml:space="preserve">±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jω</m:t>
                            </m:r>
                            <m:r>
                              <m:t xml:space="preserve">(</m:t>
                            </m:r>
                            <m:r>
                              <m:t xml:space="preserve">τjω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468360" y="3141720"/>
                <a:ext cx="845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τj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6804000" y="170028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módulo no se mod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468360" y="3573360"/>
                <a:ext cx="845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j</m:t>
                    </m:r>
                    <m:r>
                      <m:t xml:space="preserve">ω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τjω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2124000" y="1773360"/>
            <a:ext cx="792360" cy="57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95640" y="2997360"/>
            <a:ext cx="1225800" cy="115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468144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36800" y="5584680"/>
            <a:ext cx="31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74600" y="5504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28360" y="4437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074600" y="5546880"/>
            <a:ext cx="5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41520" y="4791240"/>
            <a:ext cx="220176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816360" y="460368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332000" y="479664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54864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039760" y="57452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82760" y="51735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526760" y="51609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960480" y="491652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72080" y="439740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76720" y="5300640"/>
            <a:ext cx="317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814880" y="5219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68640" y="4152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14880" y="5262480"/>
            <a:ext cx="5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592600" y="6084720"/>
            <a:ext cx="220212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172360" y="5877000"/>
            <a:ext cx="6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90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80000" y="5300640"/>
            <a:ext cx="2324160" cy="746280"/>
          </a:xfrm>
          <a:custGeom>
            <a:avLst/>
            <a:gdLst/>
            <a:ahLst/>
            <a:rect l="l" t="t" r="r" b="b"/>
            <a:pathLst>
              <a:path w="1363" h="462">
                <a:moveTo>
                  <a:pt x="0" y="3"/>
                </a:moveTo>
                <a:cubicBezTo>
                  <a:pt x="79" y="1"/>
                  <a:pt x="159" y="0"/>
                  <a:pt x="233" y="19"/>
                </a:cubicBezTo>
                <a:cubicBezTo>
                  <a:pt x="307" y="38"/>
                  <a:pt x="388" y="82"/>
                  <a:pt x="444" y="120"/>
                </a:cubicBezTo>
                <a:cubicBezTo>
                  <a:pt x="500" y="158"/>
                  <a:pt x="512" y="203"/>
                  <a:pt x="568" y="245"/>
                </a:cubicBezTo>
                <a:cubicBezTo>
                  <a:pt x="624" y="287"/>
                  <a:pt x="669" y="336"/>
                  <a:pt x="779" y="370"/>
                </a:cubicBezTo>
                <a:cubicBezTo>
                  <a:pt x="889" y="404"/>
                  <a:pt x="1134" y="434"/>
                  <a:pt x="1231" y="448"/>
                </a:cubicBezTo>
                <a:cubicBezTo>
                  <a:pt x="1328" y="462"/>
                  <a:pt x="1345" y="459"/>
                  <a:pt x="1363" y="4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26280" y="520236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80040" y="54608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00760" y="46324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156360" y="4005360"/>
            <a:ext cx="25909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cero desfasa en lugar de adelantar la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¿Por qué es dificil el control de un sistema con fase no-míni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8936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796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52388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4264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52388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94516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77960" y="2897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5280" y="5229360"/>
            <a:ext cx="1778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15080" y="411012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048040" y="2759040"/>
            <a:ext cx="860400" cy="202896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0040" y="3201840"/>
            <a:ext cx="1128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120000">
            <a:off x="2023920" y="1940760"/>
            <a:ext cx="1167120" cy="162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24" y="21599"/>
                </a:moveTo>
                <a:arcTo wR="10800" hR="10800" stAng="5456155" swAng="5343845"/>
                <a:lnTo>
                  <a:pt x="10800" y="10800"/>
                </a:lnTo>
                <a:close/>
              </a:path>
              <a:path fill="none" w="21600" h="21600">
                <a:moveTo>
                  <a:pt x="10624" y="21599"/>
                </a:moveTo>
                <a:arcTo wR="10800" hR="10800" stAng="5456155" swAng="5343845"/>
              </a:path>
            </a:pathLst>
          </a:custGeom>
          <a:noFill/>
          <a:ln cap="rnd"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327400" y="2708280"/>
            <a:ext cx="515880" cy="2521080"/>
          </a:xfrm>
          <a:custGeom>
            <a:avLst/>
            <a:gdLst/>
            <a:ahLst/>
            <a:rect l="l" t="t" r="r" b="b"/>
            <a:pathLst>
              <a:path w="325" h="1588">
                <a:moveTo>
                  <a:pt x="235" y="1588"/>
                </a:moveTo>
                <a:cubicBezTo>
                  <a:pt x="223" y="1474"/>
                  <a:pt x="212" y="1361"/>
                  <a:pt x="189" y="1270"/>
                </a:cubicBezTo>
                <a:cubicBezTo>
                  <a:pt x="166" y="1179"/>
                  <a:pt x="122" y="1127"/>
                  <a:pt x="99" y="1044"/>
                </a:cubicBezTo>
                <a:cubicBezTo>
                  <a:pt x="76" y="961"/>
                  <a:pt x="68" y="863"/>
                  <a:pt x="53" y="772"/>
                </a:cubicBezTo>
                <a:cubicBezTo>
                  <a:pt x="38" y="681"/>
                  <a:pt x="0" y="597"/>
                  <a:pt x="8" y="499"/>
                </a:cubicBezTo>
                <a:cubicBezTo>
                  <a:pt x="16" y="401"/>
                  <a:pt x="61" y="257"/>
                  <a:pt x="99" y="182"/>
                </a:cubicBezTo>
                <a:cubicBezTo>
                  <a:pt x="137" y="107"/>
                  <a:pt x="198" y="76"/>
                  <a:pt x="235" y="46"/>
                </a:cubicBezTo>
                <a:cubicBezTo>
                  <a:pt x="272" y="16"/>
                  <a:pt x="298" y="8"/>
                  <a:pt x="32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778800" y="2301840"/>
            <a:ext cx="0" cy="239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667400" y="2736720"/>
            <a:ext cx="29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6827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032080" y="228600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413320" y="1295280"/>
            <a:ext cx="2819520" cy="2743200"/>
          </a:xfrm>
          <a:prstGeom prst="ellipse">
            <a:avLst/>
          </a:prstGeom>
          <a:noFill/>
          <a:ln w="12600">
            <a:solidFill>
              <a:srgbClr val="cc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34600" y="225900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211640" y="4365720"/>
            <a:ext cx="18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 R(j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27960" y="191628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859280" y="2759040"/>
            <a:ext cx="1938240" cy="1101600"/>
          </a:xfrm>
          <a:prstGeom prst="line">
            <a:avLst/>
          </a:prstGeom>
          <a:ln w="1260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020000" y="4149720"/>
            <a:ext cx="1800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fase / Margen de mod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68840" y="2336760"/>
            <a:ext cx="1235160" cy="2820960"/>
          </a:xfrm>
          <a:custGeom>
            <a:avLst/>
            <a:gdLst/>
            <a:ahLst/>
            <a:rect l="l" t="t" r="r" b="b"/>
            <a:pathLst>
              <a:path w="778" h="1777">
                <a:moveTo>
                  <a:pt x="642" y="1777"/>
                </a:moveTo>
                <a:cubicBezTo>
                  <a:pt x="619" y="1607"/>
                  <a:pt x="597" y="1437"/>
                  <a:pt x="506" y="1278"/>
                </a:cubicBezTo>
                <a:cubicBezTo>
                  <a:pt x="415" y="1119"/>
                  <a:pt x="181" y="968"/>
                  <a:pt x="98" y="824"/>
                </a:cubicBezTo>
                <a:cubicBezTo>
                  <a:pt x="15" y="680"/>
                  <a:pt x="0" y="537"/>
                  <a:pt x="7" y="416"/>
                </a:cubicBezTo>
                <a:cubicBezTo>
                  <a:pt x="14" y="295"/>
                  <a:pt x="90" y="166"/>
                  <a:pt x="143" y="98"/>
                </a:cubicBezTo>
                <a:cubicBezTo>
                  <a:pt x="196" y="30"/>
                  <a:pt x="257" y="16"/>
                  <a:pt x="325" y="8"/>
                </a:cubicBezTo>
                <a:cubicBezTo>
                  <a:pt x="393" y="0"/>
                  <a:pt x="483" y="30"/>
                  <a:pt x="551" y="53"/>
                </a:cubicBezTo>
                <a:cubicBezTo>
                  <a:pt x="619" y="76"/>
                  <a:pt x="695" y="121"/>
                  <a:pt x="733" y="144"/>
                </a:cubicBezTo>
                <a:cubicBezTo>
                  <a:pt x="771" y="167"/>
                  <a:pt x="774" y="178"/>
                  <a:pt x="778" y="1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¿Por qué, ante la duda, se debe escoger una ganancia mayor del proce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38640" y="2581200"/>
            <a:ext cx="0" cy="256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11280" y="3860640"/>
            <a:ext cx="36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008080" y="3282840"/>
            <a:ext cx="1333440" cy="2714760"/>
          </a:xfrm>
          <a:custGeom>
            <a:avLst/>
            <a:gdLst/>
            <a:ahLst/>
            <a:rect l="l" t="t" r="r" b="b"/>
            <a:pathLst>
              <a:path w="840" h="1710">
                <a:moveTo>
                  <a:pt x="839" y="365"/>
                </a:moveTo>
                <a:lnTo>
                  <a:pt x="774" y="260"/>
                </a:lnTo>
                <a:lnTo>
                  <a:pt x="709" y="166"/>
                </a:lnTo>
                <a:lnTo>
                  <a:pt x="672" y="122"/>
                </a:lnTo>
                <a:lnTo>
                  <a:pt x="631" y="83"/>
                </a:lnTo>
                <a:lnTo>
                  <a:pt x="595" y="50"/>
                </a:lnTo>
                <a:lnTo>
                  <a:pt x="550" y="28"/>
                </a:lnTo>
                <a:lnTo>
                  <a:pt x="501" y="11"/>
                </a:lnTo>
                <a:lnTo>
                  <a:pt x="444" y="0"/>
                </a:lnTo>
                <a:lnTo>
                  <a:pt x="387" y="0"/>
                </a:lnTo>
                <a:lnTo>
                  <a:pt x="322" y="0"/>
                </a:lnTo>
                <a:lnTo>
                  <a:pt x="265" y="5"/>
                </a:lnTo>
                <a:lnTo>
                  <a:pt x="208" y="11"/>
                </a:lnTo>
                <a:lnTo>
                  <a:pt x="159" y="16"/>
                </a:lnTo>
                <a:lnTo>
                  <a:pt x="118" y="28"/>
                </a:lnTo>
                <a:lnTo>
                  <a:pt x="90" y="39"/>
                </a:lnTo>
                <a:lnTo>
                  <a:pt x="69" y="50"/>
                </a:lnTo>
                <a:lnTo>
                  <a:pt x="53" y="66"/>
                </a:lnTo>
                <a:lnTo>
                  <a:pt x="41" y="83"/>
                </a:lnTo>
                <a:lnTo>
                  <a:pt x="29" y="122"/>
                </a:lnTo>
                <a:lnTo>
                  <a:pt x="21" y="171"/>
                </a:lnTo>
                <a:lnTo>
                  <a:pt x="8" y="232"/>
                </a:lnTo>
                <a:lnTo>
                  <a:pt x="0" y="304"/>
                </a:lnTo>
                <a:lnTo>
                  <a:pt x="4" y="382"/>
                </a:lnTo>
                <a:lnTo>
                  <a:pt x="8" y="420"/>
                </a:lnTo>
                <a:lnTo>
                  <a:pt x="21" y="459"/>
                </a:lnTo>
                <a:lnTo>
                  <a:pt x="41" y="498"/>
                </a:lnTo>
                <a:lnTo>
                  <a:pt x="69" y="542"/>
                </a:lnTo>
                <a:lnTo>
                  <a:pt x="102" y="592"/>
                </a:lnTo>
                <a:lnTo>
                  <a:pt x="139" y="636"/>
                </a:lnTo>
                <a:lnTo>
                  <a:pt x="175" y="680"/>
                </a:lnTo>
                <a:lnTo>
                  <a:pt x="212" y="724"/>
                </a:lnTo>
                <a:lnTo>
                  <a:pt x="240" y="763"/>
                </a:lnTo>
                <a:lnTo>
                  <a:pt x="261" y="796"/>
                </a:lnTo>
                <a:lnTo>
                  <a:pt x="277" y="818"/>
                </a:lnTo>
                <a:lnTo>
                  <a:pt x="285" y="841"/>
                </a:lnTo>
                <a:lnTo>
                  <a:pt x="297" y="863"/>
                </a:lnTo>
                <a:lnTo>
                  <a:pt x="301" y="874"/>
                </a:lnTo>
                <a:lnTo>
                  <a:pt x="301" y="890"/>
                </a:lnTo>
                <a:lnTo>
                  <a:pt x="306" y="913"/>
                </a:lnTo>
                <a:lnTo>
                  <a:pt x="310" y="940"/>
                </a:lnTo>
                <a:lnTo>
                  <a:pt x="318" y="979"/>
                </a:lnTo>
                <a:lnTo>
                  <a:pt x="322" y="1034"/>
                </a:lnTo>
                <a:lnTo>
                  <a:pt x="330" y="1090"/>
                </a:lnTo>
                <a:lnTo>
                  <a:pt x="338" y="1150"/>
                </a:lnTo>
                <a:lnTo>
                  <a:pt x="342" y="1211"/>
                </a:lnTo>
                <a:lnTo>
                  <a:pt x="350" y="1272"/>
                </a:lnTo>
                <a:lnTo>
                  <a:pt x="354" y="1327"/>
                </a:lnTo>
                <a:lnTo>
                  <a:pt x="359" y="1372"/>
                </a:lnTo>
                <a:lnTo>
                  <a:pt x="363" y="1410"/>
                </a:lnTo>
                <a:lnTo>
                  <a:pt x="363" y="1438"/>
                </a:lnTo>
                <a:lnTo>
                  <a:pt x="363" y="1488"/>
                </a:lnTo>
                <a:lnTo>
                  <a:pt x="359" y="1526"/>
                </a:lnTo>
                <a:lnTo>
                  <a:pt x="359" y="1565"/>
                </a:lnTo>
                <a:lnTo>
                  <a:pt x="359" y="1648"/>
                </a:lnTo>
                <a:lnTo>
                  <a:pt x="359" y="1681"/>
                </a:lnTo>
                <a:lnTo>
                  <a:pt x="359" y="1709"/>
                </a:lnTo>
              </a:path>
            </a:pathLst>
          </a:custGeom>
          <a:noFill/>
          <a:ln cap="rnd"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43000" y="3860640"/>
            <a:ext cx="1241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433520" y="372420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054080" y="3328920"/>
            <a:ext cx="45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15960" y="3710160"/>
            <a:ext cx="457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46200" y="4686480"/>
            <a:ext cx="186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3280" y="1989000"/>
            <a:ext cx="42465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 dejamos un margen de ganancia pequeño, y luego la ganancia del proceso es menor siempre se está en el lado  seg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 el mismo margen de ganancia, si la ganancia del proceso se escoge la menor se tendrá un regulador quizá con excesiva ganancia, si la del proceso resulta ser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fuerzos d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758960" y="1914480"/>
                <a:ext cx="547380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213372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828800" y="4495680"/>
            <a:ext cx="487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5800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log| .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33720" y="4457880"/>
            <a:ext cx="4190760" cy="1485720"/>
          </a:xfrm>
          <a:custGeom>
            <a:avLst/>
            <a:gdLst/>
            <a:ahLst/>
            <a:rect l="l" t="t" r="r" b="b"/>
            <a:pathLst>
              <a:path w="2640" h="936">
                <a:moveTo>
                  <a:pt x="0" y="24"/>
                </a:moveTo>
                <a:cubicBezTo>
                  <a:pt x="96" y="24"/>
                  <a:pt x="192" y="24"/>
                  <a:pt x="336" y="24"/>
                </a:cubicBezTo>
                <a:cubicBezTo>
                  <a:pt x="480" y="24"/>
                  <a:pt x="640" y="24"/>
                  <a:pt x="864" y="24"/>
                </a:cubicBezTo>
                <a:cubicBezTo>
                  <a:pt x="1088" y="24"/>
                  <a:pt x="1520" y="24"/>
                  <a:pt x="1680" y="24"/>
                </a:cubicBezTo>
                <a:cubicBezTo>
                  <a:pt x="1840" y="24"/>
                  <a:pt x="1776" y="24"/>
                  <a:pt x="1824" y="24"/>
                </a:cubicBezTo>
                <a:cubicBezTo>
                  <a:pt x="1872" y="24"/>
                  <a:pt x="1912" y="0"/>
                  <a:pt x="1968" y="24"/>
                </a:cubicBezTo>
                <a:cubicBezTo>
                  <a:pt x="2024" y="48"/>
                  <a:pt x="2088" y="96"/>
                  <a:pt x="2160" y="168"/>
                </a:cubicBezTo>
                <a:cubicBezTo>
                  <a:pt x="2232" y="240"/>
                  <a:pt x="2336" y="360"/>
                  <a:pt x="2400" y="456"/>
                </a:cubicBezTo>
                <a:cubicBezTo>
                  <a:pt x="2464" y="552"/>
                  <a:pt x="2504" y="664"/>
                  <a:pt x="2544" y="744"/>
                </a:cubicBezTo>
                <a:cubicBezTo>
                  <a:pt x="2584" y="824"/>
                  <a:pt x="2612" y="880"/>
                  <a:pt x="2640" y="9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33720" y="4711680"/>
            <a:ext cx="3352680" cy="1765440"/>
          </a:xfrm>
          <a:custGeom>
            <a:avLst/>
            <a:gdLst/>
            <a:ahLst/>
            <a:rect l="l" t="t" r="r" b="b"/>
            <a:pathLst>
              <a:path w="2352" h="776">
                <a:moveTo>
                  <a:pt x="0" y="8"/>
                </a:moveTo>
                <a:cubicBezTo>
                  <a:pt x="88" y="8"/>
                  <a:pt x="176" y="8"/>
                  <a:pt x="288" y="8"/>
                </a:cubicBezTo>
                <a:cubicBezTo>
                  <a:pt x="400" y="8"/>
                  <a:pt x="544" y="8"/>
                  <a:pt x="672" y="8"/>
                </a:cubicBezTo>
                <a:cubicBezTo>
                  <a:pt x="800" y="8"/>
                  <a:pt x="952" y="0"/>
                  <a:pt x="1056" y="8"/>
                </a:cubicBezTo>
                <a:cubicBezTo>
                  <a:pt x="1160" y="16"/>
                  <a:pt x="1232" y="32"/>
                  <a:pt x="1296" y="56"/>
                </a:cubicBezTo>
                <a:cubicBezTo>
                  <a:pt x="1360" y="80"/>
                  <a:pt x="1384" y="136"/>
                  <a:pt x="1440" y="152"/>
                </a:cubicBezTo>
                <a:cubicBezTo>
                  <a:pt x="1496" y="168"/>
                  <a:pt x="1568" y="152"/>
                  <a:pt x="1632" y="152"/>
                </a:cubicBezTo>
                <a:cubicBezTo>
                  <a:pt x="1696" y="152"/>
                  <a:pt x="1720" y="72"/>
                  <a:pt x="1824" y="152"/>
                </a:cubicBezTo>
                <a:cubicBezTo>
                  <a:pt x="1928" y="232"/>
                  <a:pt x="2168" y="528"/>
                  <a:pt x="2256" y="632"/>
                </a:cubicBezTo>
                <a:cubicBezTo>
                  <a:pt x="2344" y="736"/>
                  <a:pt x="2336" y="752"/>
                  <a:pt x="2352" y="7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34120" y="4572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4800600" y="3733920"/>
                <a:ext cx="80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572000" y="5334120"/>
                <a:ext cx="290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2" name=""/>
          <p:cNvSpPr/>
          <p:nvPr/>
        </p:nvSpPr>
        <p:spPr>
          <a:xfrm>
            <a:off x="53341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fuerzo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09480" y="487692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ncho de banda grande implica esfuerzos de control ele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radas sinusoid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2209680"/>
            <a:ext cx="182880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96160" y="2449440"/>
            <a:ext cx="1349280" cy="4939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8098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ar la respuesta de un sistema lineal estable ante cambios tipo sinusoide a la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 centraremos en e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tado esta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981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5410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 = G(s) 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72000" y="5334120"/>
                <a:ext cx="3263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A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ez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967" name="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895480" y="3505320"/>
                <a:ext cx="3657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457280" y="5262480"/>
                <a:ext cx="43815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sibilidad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1752480" y="44197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 Cuanto varía la respuesta en lazo cerrado cuando varian los parámetros del proce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ez del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576600" y="2162160"/>
            <a:ext cx="954000" cy="62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715640" y="2286000"/>
            <a:ext cx="353520" cy="454680"/>
            <a:chOff x="4715640" y="2286000"/>
            <a:chExt cx="353520" cy="454680"/>
          </a:xfrm>
        </p:grpSpPr>
        <p:sp>
          <p:nvSpPr>
            <p:cNvPr id="995" name=""/>
            <p:cNvSpPr/>
            <p:nvPr/>
          </p:nvSpPr>
          <p:spPr>
            <a:xfrm>
              <a:off x="4773240" y="2376360"/>
              <a:ext cx="171720" cy="200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5640" y="22860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1963800" y="2268360"/>
            <a:ext cx="585720" cy="4143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503360" y="2376360"/>
            <a:ext cx="171360" cy="20016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59400" y="2476440"/>
            <a:ext cx="18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03520" y="2476440"/>
            <a:ext cx="23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589040" y="2565360"/>
            <a:ext cx="0" cy="72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307880" y="21272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353600" y="25527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2019240"/>
            <a:ext cx="0" cy="331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35400" y="2498760"/>
            <a:ext cx="0" cy="75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52000" y="22986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6880" y="28195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196800" y="21416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716000" y="16621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84280" y="20876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95480" y="23763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70520" y="2451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81120" y="20700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6172200" y="2209680"/>
                <a:ext cx="2476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v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/>
          <p:nvPr/>
        </p:nvSpPr>
        <p:spPr>
          <a:xfrm>
            <a:off x="925560" y="24512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02080" y="245124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585440" y="3289320"/>
            <a:ext cx="35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990720" y="3581280"/>
                <a:ext cx="7518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R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774720" y="53290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ón de sensibilidad 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sensibilidad frente a errores en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2209680" y="4419720"/>
                <a:ext cx="5023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2" name="">
            <a:hlinkClick r:id="rId1"/>
          </p:cNvPr>
          <p:cNvSpPr/>
          <p:nvPr/>
        </p:nvSpPr>
        <p:spPr>
          <a:xfrm>
            <a:off x="6732720" y="6093000"/>
            <a:ext cx="1511280" cy="43164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75582" h="21600">
                <a:moveTo>
                  <a:pt x="0" y="0"/>
                </a:moveTo>
                <a:lnTo>
                  <a:pt x="75582" y="0"/>
                </a:lnTo>
                <a:lnTo>
                  <a:pt x="75582" y="21600"/>
                </a:lnTo>
                <a:lnTo>
                  <a:pt x="0" y="21600"/>
                </a:lnTo>
                <a:close/>
              </a:path>
              <a:path fill="lightenLess" w="75582" h="21600">
                <a:moveTo>
                  <a:pt x="0" y="0"/>
                </a:moveTo>
                <a:lnTo>
                  <a:pt x="75582" y="0"/>
                </a:lnTo>
                <a:lnTo>
                  <a:pt x="74182" y="1400"/>
                </a:lnTo>
                <a:lnTo>
                  <a:pt x="1400" y="1400"/>
                </a:lnTo>
                <a:close/>
              </a:path>
              <a:path fill="darken" w="75582" h="21600">
                <a:moveTo>
                  <a:pt x="75582" y="0"/>
                </a:moveTo>
                <a:lnTo>
                  <a:pt x="75582" y="21600"/>
                </a:lnTo>
                <a:lnTo>
                  <a:pt x="74182" y="20200"/>
                </a:lnTo>
                <a:lnTo>
                  <a:pt x="74182" y="1400"/>
                </a:lnTo>
                <a:close/>
              </a:path>
              <a:path fill="darkenLess" w="75582" h="21600">
                <a:moveTo>
                  <a:pt x="7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2" y="20200"/>
                </a:lnTo>
                <a:close/>
              </a:path>
              <a:path fill="lighten" w="7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ér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16000" y="2133720"/>
                <a:ext cx="7237440" cy="36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ω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ω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ωA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ωA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2</m:t>
                        </m:r>
                        <m:r>
                          <m:t xml:space="preserve">jωD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ω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2</m:t>
                        </m:r>
                        <m:r>
                          <m:t xml:space="preserve">jωD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143000" y="1828800"/>
                <a:ext cx="7494480" cy="40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a</m:t>
                                    </m:r>
                                  </m:e>
                                </m:ba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s estable, en estado estacionario: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ωt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φ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ω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3505320"/>
            <a:ext cx="2057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3505320"/>
            <a:ext cx="50292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209680"/>
            <a:ext cx="182880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286000"/>
            <a:ext cx="1349280" cy="8143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96160" y="2449440"/>
            <a:ext cx="1349280" cy="493920"/>
          </a:xfrm>
          <a:custGeom>
            <a:avLst/>
            <a:gdLst/>
            <a:ahLst/>
            <a:rect l="l" t="t" r="r" b="b"/>
            <a:pathLst>
              <a:path w="850" h="513">
                <a:moveTo>
                  <a:pt x="0" y="258"/>
                </a:moveTo>
                <a:cubicBezTo>
                  <a:pt x="17" y="228"/>
                  <a:pt x="35" y="199"/>
                  <a:pt x="47" y="172"/>
                </a:cubicBezTo>
                <a:cubicBezTo>
                  <a:pt x="59" y="145"/>
                  <a:pt x="62" y="116"/>
                  <a:pt x="70" y="94"/>
                </a:cubicBezTo>
                <a:cubicBezTo>
                  <a:pt x="78" y="72"/>
                  <a:pt x="86" y="55"/>
                  <a:pt x="94" y="40"/>
                </a:cubicBezTo>
                <a:cubicBezTo>
                  <a:pt x="102" y="25"/>
                  <a:pt x="105" y="2"/>
                  <a:pt x="117" y="1"/>
                </a:cubicBezTo>
                <a:cubicBezTo>
                  <a:pt x="129" y="0"/>
                  <a:pt x="154" y="18"/>
                  <a:pt x="164" y="32"/>
                </a:cubicBezTo>
                <a:cubicBezTo>
                  <a:pt x="174" y="46"/>
                  <a:pt x="170" y="60"/>
                  <a:pt x="179" y="86"/>
                </a:cubicBezTo>
                <a:cubicBezTo>
                  <a:pt x="188" y="112"/>
                  <a:pt x="209" y="163"/>
                  <a:pt x="218" y="188"/>
                </a:cubicBezTo>
                <a:cubicBezTo>
                  <a:pt x="227" y="213"/>
                  <a:pt x="228" y="206"/>
                  <a:pt x="234" y="234"/>
                </a:cubicBezTo>
                <a:cubicBezTo>
                  <a:pt x="240" y="262"/>
                  <a:pt x="249" y="329"/>
                  <a:pt x="257" y="359"/>
                </a:cubicBezTo>
                <a:cubicBezTo>
                  <a:pt x="265" y="389"/>
                  <a:pt x="272" y="397"/>
                  <a:pt x="281" y="414"/>
                </a:cubicBezTo>
                <a:cubicBezTo>
                  <a:pt x="290" y="431"/>
                  <a:pt x="306" y="445"/>
                  <a:pt x="312" y="460"/>
                </a:cubicBezTo>
                <a:cubicBezTo>
                  <a:pt x="318" y="475"/>
                  <a:pt x="310" y="501"/>
                  <a:pt x="320" y="507"/>
                </a:cubicBezTo>
                <a:cubicBezTo>
                  <a:pt x="330" y="513"/>
                  <a:pt x="360" y="509"/>
                  <a:pt x="374" y="499"/>
                </a:cubicBezTo>
                <a:cubicBezTo>
                  <a:pt x="388" y="489"/>
                  <a:pt x="394" y="470"/>
                  <a:pt x="405" y="445"/>
                </a:cubicBezTo>
                <a:cubicBezTo>
                  <a:pt x="416" y="420"/>
                  <a:pt x="428" y="377"/>
                  <a:pt x="437" y="351"/>
                </a:cubicBezTo>
                <a:cubicBezTo>
                  <a:pt x="446" y="325"/>
                  <a:pt x="455" y="308"/>
                  <a:pt x="460" y="289"/>
                </a:cubicBezTo>
                <a:cubicBezTo>
                  <a:pt x="465" y="270"/>
                  <a:pt x="464" y="253"/>
                  <a:pt x="468" y="234"/>
                </a:cubicBezTo>
                <a:cubicBezTo>
                  <a:pt x="472" y="215"/>
                  <a:pt x="478" y="190"/>
                  <a:pt x="483" y="172"/>
                </a:cubicBezTo>
                <a:cubicBezTo>
                  <a:pt x="488" y="154"/>
                  <a:pt x="493" y="142"/>
                  <a:pt x="499" y="125"/>
                </a:cubicBezTo>
                <a:cubicBezTo>
                  <a:pt x="505" y="108"/>
                  <a:pt x="516" y="90"/>
                  <a:pt x="522" y="71"/>
                </a:cubicBezTo>
                <a:cubicBezTo>
                  <a:pt x="528" y="52"/>
                  <a:pt x="526" y="13"/>
                  <a:pt x="538" y="8"/>
                </a:cubicBezTo>
                <a:cubicBezTo>
                  <a:pt x="550" y="3"/>
                  <a:pt x="574" y="17"/>
                  <a:pt x="592" y="40"/>
                </a:cubicBezTo>
                <a:cubicBezTo>
                  <a:pt x="610" y="63"/>
                  <a:pt x="635" y="119"/>
                  <a:pt x="647" y="149"/>
                </a:cubicBezTo>
                <a:cubicBezTo>
                  <a:pt x="659" y="179"/>
                  <a:pt x="657" y="192"/>
                  <a:pt x="663" y="219"/>
                </a:cubicBezTo>
                <a:cubicBezTo>
                  <a:pt x="669" y="246"/>
                  <a:pt x="681" y="289"/>
                  <a:pt x="686" y="312"/>
                </a:cubicBezTo>
                <a:cubicBezTo>
                  <a:pt x="691" y="335"/>
                  <a:pt x="691" y="343"/>
                  <a:pt x="694" y="359"/>
                </a:cubicBezTo>
                <a:cubicBezTo>
                  <a:pt x="697" y="375"/>
                  <a:pt x="696" y="392"/>
                  <a:pt x="702" y="406"/>
                </a:cubicBezTo>
                <a:cubicBezTo>
                  <a:pt x="708" y="420"/>
                  <a:pt x="723" y="431"/>
                  <a:pt x="733" y="445"/>
                </a:cubicBezTo>
                <a:cubicBezTo>
                  <a:pt x="743" y="459"/>
                  <a:pt x="750" y="487"/>
                  <a:pt x="764" y="492"/>
                </a:cubicBezTo>
                <a:cubicBezTo>
                  <a:pt x="778" y="497"/>
                  <a:pt x="804" y="488"/>
                  <a:pt x="818" y="476"/>
                </a:cubicBezTo>
                <a:cubicBezTo>
                  <a:pt x="832" y="464"/>
                  <a:pt x="845" y="431"/>
                  <a:pt x="850" y="4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1981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809880" y="3657600"/>
                <a:ext cx="4635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3657600"/>
                <a:ext cx="16765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838080" y="4572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spuesta oscila con la misma frecuenc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o atenuada por un factor |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  y desfasada un ángulo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rg(G(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 que dependen 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6481800" y="5727600"/>
            <a:ext cx="1225440" cy="335160"/>
          </a:xfrm>
          <a:custGeom>
            <a:avLst/>
            <a:gdLst>
              <a:gd name="textAreaLeft" fmla="*/ 21600 w 1225440"/>
              <a:gd name="textAreaRight" fmla="*/ 1203840 w 1225440"/>
              <a:gd name="textAreaTop" fmla="*/ 21600 h 335160"/>
              <a:gd name="textAreaBottom" fmla="*/ 313560 h 335160"/>
            </a:gdLst>
            <a:ahLst/>
            <a:rect l="textAreaLeft" t="textAreaTop" r="textAreaRight" b="textAreaBottom"/>
            <a:pathLst>
              <a:path w="78914" h="21600">
                <a:moveTo>
                  <a:pt x="0" y="0"/>
                </a:moveTo>
                <a:lnTo>
                  <a:pt x="78914" y="0"/>
                </a:lnTo>
                <a:lnTo>
                  <a:pt x="78914" y="21600"/>
                </a:lnTo>
                <a:lnTo>
                  <a:pt x="0" y="21600"/>
                </a:lnTo>
                <a:close/>
              </a:path>
              <a:path fill="lightenLess" w="78914" h="21600">
                <a:moveTo>
                  <a:pt x="0" y="0"/>
                </a:moveTo>
                <a:lnTo>
                  <a:pt x="78914" y="0"/>
                </a:lnTo>
                <a:lnTo>
                  <a:pt x="77514" y="1400"/>
                </a:lnTo>
                <a:lnTo>
                  <a:pt x="1400" y="1400"/>
                </a:lnTo>
                <a:close/>
              </a:path>
              <a:path fill="darken" w="78914" h="21600">
                <a:moveTo>
                  <a:pt x="78914" y="0"/>
                </a:moveTo>
                <a:lnTo>
                  <a:pt x="78914" y="21600"/>
                </a:lnTo>
                <a:lnTo>
                  <a:pt x="77514" y="20200"/>
                </a:lnTo>
                <a:lnTo>
                  <a:pt x="77514" y="1400"/>
                </a:lnTo>
                <a:close/>
              </a:path>
              <a:path fill="darkenLess" w="78914" h="21600">
                <a:moveTo>
                  <a:pt x="78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514" y="20200"/>
                </a:lnTo>
                <a:close/>
              </a:path>
              <a:path fill="lighten" w="78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S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Cesar de Prada ISA-UV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8:46:10Z</dcterms:created>
  <dc:creator>Ing. de Sistemas y Automatica</dc:creator>
  <dc:description/>
  <dc:language>en-US</dc:language>
  <cp:lastModifiedBy>isa</cp:lastModifiedBy>
  <dcterms:modified xsi:type="dcterms:W3CDTF">2008-04-14T08:00:23Z</dcterms:modified>
  <cp:revision>33</cp:revision>
  <dc:subject/>
  <dc:title>Análisis de sistemas en el dominio de la frecuencia</dc:title>
</cp:coreProperties>
</file>