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637-F410-4F04-BF0A-E82E3E8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590-E4B5-41BA-B265-71107F8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9C1-D82C-4432-8898-283EF4E9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017-4749-4EC3-98E7-1436D553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F64-91E8-4B5F-BE05-185BB4A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C17-32C8-4C40-BF6D-D7BEA08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49F-4C5A-4140-8489-5279FF6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E9E-07F8-4662-B691-7B08DB9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721-6920-48A6-A51C-89419672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689-0D3A-4439-A082-440B428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95E-132B-4310-8A2C-11167273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F2C-2FBE-4A0C-83C3-7BA906F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6C1D-1005-4A58-89E6-1AEFC484C0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927000" cy="765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557360"/>
            <a:ext cx="504180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sos Multi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895480" y="3124080"/>
            <a:ext cx="3924360" cy="1179360"/>
            <a:chOff x="2895480" y="3124080"/>
            <a:chExt cx="3924360" cy="1179360"/>
          </a:xfrm>
        </p:grpSpPr>
        <p:sp>
          <p:nvSpPr>
            <p:cNvPr id="198" name=""/>
            <p:cNvSpPr/>
            <p:nvPr/>
          </p:nvSpPr>
          <p:spPr>
            <a:xfrm>
              <a:off x="4740120" y="387180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1880" y="40100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29200" y="387180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62400" y="40100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1440" y="378756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12960" y="39337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94080" y="402264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5480" y="35798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7080" y="384948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2720" y="31240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3920" y="370656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76720" y="391320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7480" y="391932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8280" y="355896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76760" y="324936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76720" y="326844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57800" y="449568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ínculo ríg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733920"/>
            <a:ext cx="1523880" cy="1371600"/>
          </a:xfrm>
          <a:prstGeom prst="cube">
            <a:avLst>
              <a:gd name="adj" fmla="val 87796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648320"/>
            <a:ext cx="3924360" cy="1179000"/>
            <a:chOff x="1676520" y="4648320"/>
            <a:chExt cx="3924360" cy="1179000"/>
          </a:xfrm>
        </p:grpSpPr>
        <p:sp>
          <p:nvSpPr>
            <p:cNvPr id="217" name=""/>
            <p:cNvSpPr/>
            <p:nvPr/>
          </p:nvSpPr>
          <p:spPr>
            <a:xfrm>
              <a:off x="3521160" y="53956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2920" y="5533920"/>
              <a:ext cx="141480" cy="15192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0240" y="53956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43440" y="5533920"/>
              <a:ext cx="144720" cy="15192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92480" y="5311800"/>
              <a:ext cx="458640" cy="9000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94000" y="5457600"/>
              <a:ext cx="311400" cy="536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75120" y="55465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76520" y="5103720"/>
              <a:ext cx="608040" cy="39636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78120" y="5373720"/>
              <a:ext cx="304920" cy="38700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3760" y="4648320"/>
              <a:ext cx="2697120" cy="94896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4960" y="5230800"/>
              <a:ext cx="66600" cy="12960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7760" y="54370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5443560"/>
              <a:ext cx="163440" cy="10728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29320" y="5083200"/>
              <a:ext cx="998280" cy="44100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57800" y="4773600"/>
              <a:ext cx="376200" cy="26928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7760" y="4792680"/>
              <a:ext cx="395280" cy="22320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733920" y="5181480"/>
            <a:ext cx="533160" cy="381240"/>
          </a:xfrm>
          <a:prstGeom prst="cube">
            <a:avLst>
              <a:gd name="adj" fmla="val 50833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62864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0DB-501F-4654-A314-B2EB828EFA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855800" y="3259080"/>
            <a:ext cx="5408280" cy="1195920"/>
            <a:chOff x="1855800" y="3259080"/>
            <a:chExt cx="5408280" cy="1195920"/>
          </a:xfrm>
        </p:grpSpPr>
        <p:sp>
          <p:nvSpPr>
            <p:cNvPr id="237" name=""/>
            <p:cNvSpPr/>
            <p:nvPr/>
          </p:nvSpPr>
          <p:spPr>
            <a:xfrm flipV="1">
              <a:off x="4038480" y="346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379760" y="346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038480" y="3468600"/>
              <a:ext cx="341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038480" y="3467160"/>
              <a:ext cx="34128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205160" y="3450960"/>
              <a:ext cx="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1040" y="34480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4152960" y="3300480"/>
              <a:ext cx="79200" cy="216000"/>
            </a:xfrm>
            <a:custGeom>
              <a:avLst/>
              <a:gdLst/>
              <a:ahLst/>
              <a:rect l="l" t="t" r="r" b="b"/>
              <a:pathLst>
                <a:path w="200" h="396">
                  <a:moveTo>
                    <a:pt x="0" y="396"/>
                  </a:moveTo>
                  <a:cubicBezTo>
                    <a:pt x="32" y="388"/>
                    <a:pt x="64" y="380"/>
                    <a:pt x="96" y="348"/>
                  </a:cubicBezTo>
                  <a:cubicBezTo>
                    <a:pt x="128" y="316"/>
                    <a:pt x="184" y="252"/>
                    <a:pt x="192" y="204"/>
                  </a:cubicBezTo>
                  <a:cubicBezTo>
                    <a:pt x="200" y="156"/>
                    <a:pt x="176" y="94"/>
                    <a:pt x="144" y="60"/>
                  </a:cubicBezTo>
                  <a:cubicBezTo>
                    <a:pt x="112" y="26"/>
                    <a:pt x="56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389480" y="3641760"/>
              <a:ext cx="85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47880" y="3641760"/>
              <a:ext cx="40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647880" y="3979440"/>
              <a:ext cx="1599480" cy="456840"/>
              <a:chOff x="3647880" y="3979440"/>
              <a:chExt cx="1599480" cy="4568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040280" y="3979440"/>
                <a:ext cx="340560" cy="456840"/>
                <a:chOff x="4040280" y="3979440"/>
                <a:chExt cx="340560" cy="45684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4041000" y="407880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4380840" y="407880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040280" y="4079160"/>
                  <a:ext cx="34020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4040280" y="4078440"/>
                  <a:ext cx="340200" cy="35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4206960" y="4063680"/>
                  <a:ext cx="0" cy="18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93200" y="4059360"/>
                  <a:ext cx="20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6200000">
                  <a:off x="4154400" y="3911400"/>
                  <a:ext cx="79920" cy="215640"/>
                </a:xfrm>
                <a:custGeom>
                  <a:avLst/>
                  <a:gdLst/>
                  <a:ahLst/>
                  <a:rect l="l" t="t" r="r" b="b"/>
                  <a:pathLst>
                    <a:path w="200" h="396">
                      <a:moveTo>
                        <a:pt x="0" y="396"/>
                      </a:moveTo>
                      <a:cubicBezTo>
                        <a:pt x="32" y="388"/>
                        <a:pt x="64" y="380"/>
                        <a:pt x="96" y="348"/>
                      </a:cubicBezTo>
                      <a:cubicBezTo>
                        <a:pt x="128" y="316"/>
                        <a:pt x="184" y="252"/>
                        <a:pt x="192" y="204"/>
                      </a:cubicBezTo>
                      <a:cubicBezTo>
                        <a:pt x="200" y="156"/>
                        <a:pt x="176" y="94"/>
                        <a:pt x="144" y="60"/>
                      </a:cubicBezTo>
                      <a:cubicBezTo>
                        <a:pt x="112" y="26"/>
                        <a:pt x="56" y="13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 flipH="1">
                <a:off x="4389480" y="4250160"/>
                <a:ext cx="85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647880" y="4250160"/>
                <a:ext cx="40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257800" y="3640320"/>
              <a:ext cx="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57800" y="3944880"/>
              <a:ext cx="70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81760" y="3259080"/>
              <a:ext cx="92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55800" y="3944880"/>
              <a:ext cx="144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32600" y="3716280"/>
              <a:ext cx="113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81080" y="4714920"/>
                <a:ext cx="8477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1557360"/>
            <a:ext cx="8763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el  proceso de mezc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 controlables de forma independiente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 interacción en 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trol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3FE-38E0-4FD3-8257-B986DF70D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505240" y="333360"/>
            <a:ext cx="4185720" cy="1046520"/>
            <a:chOff x="2505240" y="333360"/>
            <a:chExt cx="4185720" cy="1046520"/>
          </a:xfrm>
        </p:grpSpPr>
        <p:sp>
          <p:nvSpPr>
            <p:cNvPr id="266" name=""/>
            <p:cNvSpPr/>
            <p:nvPr/>
          </p:nvSpPr>
          <p:spPr>
            <a:xfrm flipV="1">
              <a:off x="4183920" y="448920"/>
              <a:ext cx="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6360" y="448920"/>
              <a:ext cx="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183560" y="449640"/>
              <a:ext cx="262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183560" y="448560"/>
              <a:ext cx="2624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312080" y="434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24600" y="431280"/>
              <a:ext cx="1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4265640" y="310680"/>
              <a:ext cx="73800" cy="165960"/>
            </a:xfrm>
            <a:custGeom>
              <a:avLst/>
              <a:gdLst/>
              <a:ahLst/>
              <a:rect l="l" t="t" r="r" b="b"/>
              <a:pathLst>
                <a:path w="200" h="396">
                  <a:moveTo>
                    <a:pt x="0" y="396"/>
                  </a:moveTo>
                  <a:cubicBezTo>
                    <a:pt x="32" y="388"/>
                    <a:pt x="64" y="380"/>
                    <a:pt x="96" y="348"/>
                  </a:cubicBezTo>
                  <a:cubicBezTo>
                    <a:pt x="128" y="316"/>
                    <a:pt x="184" y="252"/>
                    <a:pt x="192" y="204"/>
                  </a:cubicBezTo>
                  <a:cubicBezTo>
                    <a:pt x="200" y="156"/>
                    <a:pt x="176" y="94"/>
                    <a:pt x="144" y="60"/>
                  </a:cubicBezTo>
                  <a:cubicBezTo>
                    <a:pt x="112" y="26"/>
                    <a:pt x="56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453560" y="61200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883320" y="612000"/>
              <a:ext cx="30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83680" y="928440"/>
              <a:ext cx="1230120" cy="426600"/>
              <a:chOff x="3883680" y="928440"/>
              <a:chExt cx="1230120" cy="4266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185360" y="928440"/>
                <a:ext cx="262080" cy="426600"/>
                <a:chOff x="4185360" y="928440"/>
                <a:chExt cx="262080" cy="42660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4186080" y="1020960"/>
                  <a:ext cx="0" cy="32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4447440" y="1020960"/>
                  <a:ext cx="0" cy="32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4185360" y="1020600"/>
                  <a:ext cx="261720" cy="32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>
                  <a:off x="4185360" y="1020600"/>
                  <a:ext cx="261720" cy="33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313880" y="1006560"/>
                  <a:ext cx="0" cy="17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26040" y="1002960"/>
                  <a:ext cx="16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6200000">
                  <a:off x="4266720" y="882720"/>
                  <a:ext cx="74520" cy="165960"/>
                </a:xfrm>
                <a:custGeom>
                  <a:avLst/>
                  <a:gdLst/>
                  <a:ahLst/>
                  <a:rect l="l" t="t" r="r" b="b"/>
                  <a:pathLst>
                    <a:path w="200" h="396">
                      <a:moveTo>
                        <a:pt x="0" y="396"/>
                      </a:moveTo>
                      <a:cubicBezTo>
                        <a:pt x="32" y="388"/>
                        <a:pt x="64" y="380"/>
                        <a:pt x="96" y="348"/>
                      </a:cubicBezTo>
                      <a:cubicBezTo>
                        <a:pt x="128" y="316"/>
                        <a:pt x="184" y="252"/>
                        <a:pt x="192" y="204"/>
                      </a:cubicBezTo>
                      <a:cubicBezTo>
                        <a:pt x="200" y="156"/>
                        <a:pt x="176" y="94"/>
                        <a:pt x="144" y="60"/>
                      </a:cubicBezTo>
                      <a:cubicBezTo>
                        <a:pt x="112" y="26"/>
                        <a:pt x="56" y="13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 flipH="1">
                <a:off x="4453920" y="1180800"/>
                <a:ext cx="65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883680" y="1180800"/>
                <a:ext cx="30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122080" y="610920"/>
              <a:ext cx="0" cy="58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22080" y="895680"/>
              <a:ext cx="54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7360" y="333360"/>
              <a:ext cx="74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5240" y="974160"/>
              <a:ext cx="1128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S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94200" y="760680"/>
              <a:ext cx="896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187280" y="3716280"/>
                <a:ext cx="70218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2133720" y="4876920"/>
            <a:ext cx="4655880" cy="398880"/>
          </a:xfrm>
          <a:prstGeom prst="rect">
            <a:avLst/>
          </a:prstGeom>
          <a:solidFill>
            <a:srgbClr val="d3f1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í, este sistema es controla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5562720"/>
            <a:ext cx="7467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Sería controlable el sistema s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A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 distinto de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16040" y="2114640"/>
                <a:ext cx="61437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s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d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s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+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d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F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60D-34CA-4097-82B7-60CEFFFF08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438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5410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486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752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4724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33520" y="3048120"/>
                <a:ext cx="2832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35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1676520"/>
            <a:ext cx="4190760" cy="41907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1FD-8A36-479B-BFC9-8EA246E8C5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5410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952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20574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2860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4382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24382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72400" y="1676520"/>
            <a:ext cx="0" cy="76176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520" y="1676520"/>
            <a:ext cx="624852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167652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50292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52578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4100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54100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5410080"/>
            <a:ext cx="0" cy="7621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523520" y="6172200"/>
            <a:ext cx="632484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23880" y="55623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828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800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3429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on lazos S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1828800"/>
            <a:ext cx="3429000" cy="4114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FCB-2513-42C5-90B1-9D200B7A3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zo cerr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374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0880" y="2057400"/>
                <a:ext cx="4038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133720" y="480060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983-6750-4FA5-92FF-27D385F5E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28600" y="4876920"/>
                <a:ext cx="85741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422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57200" y="220968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A92-00A3-4CFB-9510-FBECC285C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 (Lazo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04920" y="4800600"/>
                <a:ext cx="8574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469" name="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57200" y="1981080"/>
            <a:ext cx="35053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luyen en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ó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n = 0  no hay cambio de dinámica sobre un sistema SISO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sa a manual se modifica la dinámica del laz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95280" y="5661000"/>
                <a:ext cx="4600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796000" y="5661000"/>
                <a:ext cx="1866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59280" y="5445000"/>
            <a:ext cx="217440" cy="289080"/>
          </a:xfrm>
          <a:prstGeom prst="downArrow">
            <a:avLst>
              <a:gd name="adj1" fmla="val 50000"/>
              <a:gd name="adj2" fmla="val 332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FAA-C6B6-4884-A70C-D39ED6B28A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657600"/>
            <a:ext cx="2189160" cy="631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420440" y="2362320"/>
            <a:ext cx="761040" cy="596880"/>
            <a:chOff x="4420440" y="2362320"/>
            <a:chExt cx="761040" cy="596880"/>
          </a:xfrm>
        </p:grpSpPr>
        <p:sp>
          <p:nvSpPr>
            <p:cNvPr id="519" name=""/>
            <p:cNvSpPr/>
            <p:nvPr/>
          </p:nvSpPr>
          <p:spPr>
            <a:xfrm flipH="1">
              <a:off x="4433040" y="24321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20440" y="2438640"/>
              <a:ext cx="31716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433040" y="2438640"/>
              <a:ext cx="2916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433040" y="2889360"/>
              <a:ext cx="29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720" y="2660760"/>
              <a:ext cx="39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5400000">
              <a:off x="4775040" y="2552760"/>
              <a:ext cx="596880" cy="21564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572000" y="1905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28954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962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4267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81680" y="3124080"/>
            <a:ext cx="60984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2133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1814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86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43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960" y="442116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2971800"/>
            <a:ext cx="45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52480" y="3352680"/>
            <a:ext cx="596880" cy="762120"/>
            <a:chOff x="1752480" y="3352680"/>
            <a:chExt cx="596880" cy="762120"/>
          </a:xfrm>
        </p:grpSpPr>
        <p:sp>
          <p:nvSpPr>
            <p:cNvPr id="544" name=""/>
            <p:cNvSpPr/>
            <p:nvPr/>
          </p:nvSpPr>
          <p:spPr>
            <a:xfrm>
              <a:off x="1822320" y="3809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828800" y="3797280"/>
              <a:ext cx="444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8800" y="3809880"/>
              <a:ext cx="4442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79520" y="3809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50920" y="35683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52480" y="3352680"/>
              <a:ext cx="596880" cy="2160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14300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2666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485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5105520"/>
            <a:ext cx="190512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5638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5029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5410080"/>
            <a:ext cx="16765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867280"/>
            <a:ext cx="16765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809880" y="5486400"/>
            <a:ext cx="1600200" cy="3808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7F1-E1E9-4013-A750-54407DE65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580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D09-1F4D-4A7E-9176-4E141212B9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sistemas multivariables con lazo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ón de lazos d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por desaco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multi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A69-FC5B-4FE7-9964-72A3CE642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614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86440" y="2328840"/>
            <a:ext cx="0" cy="501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1280" y="16765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29000" y="213372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09680" y="228600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7008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581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62640" y="1704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0000" y="216216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562640" y="246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4700160" y="2297160"/>
            <a:ext cx="12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75E-9B97-4A2A-AA1F-7CE06920B5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r el grado de inte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Se puede funcionar con lazos simp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so afirmativo, ¿Cual es el mejor emparejamiento de variables entrada-sal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4648320"/>
            <a:ext cx="16002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195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29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4648320"/>
            <a:ext cx="6094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4724280"/>
            <a:ext cx="5331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5AC-4ADF-479A-A622-BB293D1B62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z de ganancias estacion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124080" y="2209680"/>
                <a:ext cx="238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1219320" y="3352680"/>
            <a:ext cx="6933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s una buena medida de inter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de las unidades en las que se exp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fleja el hecho característico de la interacción multivariable: los cambios en un lazo cuando otros pasan de automático a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DEE-E6D6-4DDD-8745-C2566D0DF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riz de Ganancias Relativas (RGA)  Matriz de Brist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076480" y="2239920"/>
                <a:ext cx="17143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6275520" y="4816440"/>
            <a:ext cx="969840" cy="831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37120" y="5327640"/>
            <a:ext cx="43164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68760" y="4943520"/>
            <a:ext cx="80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8760" y="5519880"/>
            <a:ext cx="80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83320" y="4559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83320" y="5135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52920" y="5519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45360" y="494352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45360" y="551988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45360" y="494352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45360" y="55198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61200" y="449568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161200" y="564840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99560" y="55198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6920" y="609588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76920" y="55198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15080" y="209556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343400" y="4191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14400" y="4495680"/>
            <a:ext cx="3122640" cy="1523160"/>
            <a:chOff x="914400" y="4495680"/>
            <a:chExt cx="3122640" cy="1523160"/>
          </a:xfrm>
        </p:grpSpPr>
        <p:sp>
          <p:nvSpPr>
            <p:cNvPr id="678" name=""/>
            <p:cNvSpPr/>
            <p:nvPr/>
          </p:nvSpPr>
          <p:spPr>
            <a:xfrm>
              <a:off x="1720800" y="4816440"/>
              <a:ext cx="969840" cy="831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14400" y="494316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14400" y="55195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28600" y="455904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28600" y="513540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90640" y="494316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90640" y="551952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90640" y="494316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90640" y="551952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06840" y="449568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06840" y="564804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C90-10A7-49E8-93B8-D89EB1B42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6451560" y="3733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42080" y="39625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4737240" y="3865680"/>
                <a:ext cx="825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4724280" y="4495680"/>
                <a:ext cx="876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724280" y="5105520"/>
                <a:ext cx="939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6730920" y="4724280"/>
                <a:ext cx="1409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18288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emplearse para hacer una adecuada selección de pares entrada-salida para controlar un sistema MIMO escogiendo la mínima interacción en estado estacionario o a una frecuencia d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905120" y="388620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800600" y="5791320"/>
                <a:ext cx="749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5BE-E164-4A2E-9B53-CBDB4A0F02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1905120"/>
            <a:ext cx="970200" cy="83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71640" y="2416320"/>
            <a:ext cx="43164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203184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03280" y="260820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17840" y="164772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17840" y="22240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7440" y="260820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79880" y="203184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79880" y="260820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79880" y="2031840"/>
            <a:ext cx="10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79880" y="2608200"/>
            <a:ext cx="10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5720" y="158436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95720" y="273672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33720" y="2608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11080" y="318456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11080" y="2607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1523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486400" y="2362320"/>
                <a:ext cx="2730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33520" y="3657600"/>
                <a:ext cx="391140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4800600" y="3733920"/>
                <a:ext cx="38228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4EF-E2F2-46EA-81A7-BB7EBB21D3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um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648320" y="1981080"/>
                <a:ext cx="2527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430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2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74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52480" y="2514600"/>
            <a:ext cx="609840" cy="2209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2209680"/>
              <a:gd name="textAreaBottom" fmla="*/ 2180160 h 2209680"/>
            </a:gdLst>
            <a:ahLst/>
            <a:rect l="textAreaLeft" t="textAreaTop" r="textAreaRight" b="textAreaBottom"/>
            <a:pathLst>
              <a:path w="21600" h="78232">
                <a:moveTo>
                  <a:pt x="3600" y="0"/>
                </a:moveTo>
                <a:arcTo wR="3600" hR="3600" stAng="16200000" swAng="-5400000"/>
                <a:lnTo>
                  <a:pt x="0" y="74632"/>
                </a:lnTo>
                <a:arcTo wR="3600" hR="3600" stAng="10800000" swAng="-5400000"/>
                <a:lnTo>
                  <a:pt x="18000" y="78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133720" y="1905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6483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5791320" y="2895480"/>
                <a:ext cx="1917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4343400"/>
            <a:ext cx="42670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fuerte interacción con el emparejamiento ( L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V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stabilidad asegurada con el emparejamiento ( L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(V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BC3-8A09-4B79-AE6C-FA812D7164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2235240" y="2017800"/>
                <a:ext cx="4657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025640" y="2876400"/>
                <a:ext cx="3289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5084640" y="3068640"/>
            <a:ext cx="3524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uma de los elementos de una fila o columna de la RGA 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independiente del escalado de u 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640" y="530064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rocesos asimétricos, la inversa puede sustituirse por la pseudoinvers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3640" y="58053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     RGA = G.*pinv(G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9EB-172E-49DA-9FA1-1B061EABB4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066680" y="2057400"/>
                <a:ext cx="2806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876920" y="1752480"/>
                <a:ext cx="28699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914400" y="3733920"/>
            <a:ext cx="74674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unico emparejamiento SISO admisible resulta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--- 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interacción mayor en el tercer 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E37-DE0B-4618-93B9-6D2BF32EB2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 de desti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414972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9FE-E179-45C1-867D-1C94231BF4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stemas M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68560" y="4014720"/>
                <a:ext cx="434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913360" y="424332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6FB-3EC4-4E04-8F68-26A6A14E1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ón  entre lazos d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500120" y="1828800"/>
            <a:ext cx="65008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702-A310-4B45-B56B-E9A9B24299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so de mezc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15152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400800" y="1905120"/>
                <a:ext cx="1371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7150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glob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150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de compon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5638680" y="297180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685800" y="388620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iminand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tre las dos ecu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838080" y="4724280"/>
                <a:ext cx="21463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3352680" y="4952880"/>
            <a:ext cx="838440" cy="304920"/>
          </a:xfrm>
          <a:custGeom>
            <a:avLst/>
            <a:gdLst>
              <a:gd name="textAreaLeft" fmla="*/ 131040 w 838440"/>
              <a:gd name="textAreaRight" fmla="*/ 7336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800600" y="4343400"/>
                <a:ext cx="403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24000" y="5989680"/>
                <a:ext cx="84978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539-850F-4AE0-9A63-A1EB6F7D74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so de mezcla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triz de ganancias relativ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RG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410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l es el mejor emparejamiento entre variables manipuladas y controladas? ¿De qué dependerá la respues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600200" y="2205000"/>
            <a:ext cx="5715000" cy="3052800"/>
            <a:chOff x="1600200" y="2205000"/>
            <a:chExt cx="5715000" cy="3052800"/>
          </a:xfrm>
        </p:grpSpPr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3505320" y="2209680"/>
                  <a:ext cx="6858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5562720" y="2209680"/>
                  <a:ext cx="738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1600200" y="2286000"/>
              <a:ext cx="5715000" cy="29718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3333600" y="2919240"/>
                  <a:ext cx="6480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9" name=""/>
            <p:cNvSpPr/>
            <p:nvPr/>
          </p:nvSpPr>
          <p:spPr>
            <a:xfrm>
              <a:off x="3124080" y="2438280"/>
              <a:ext cx="0" cy="2743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05120" y="2819520"/>
              <a:ext cx="48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1" name=""/>
                <p:cNvSpPr txBox="1"/>
                <p:nvPr/>
              </p:nvSpPr>
              <p:spPr>
                <a:xfrm>
                  <a:off x="5543640" y="4214880"/>
                  <a:ext cx="64764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5219640" y="2919240"/>
                  <a:ext cx="121932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3238560" y="4173480"/>
                  <a:ext cx="121932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057400" y="3048120"/>
                  <a:ext cx="6858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2136600" y="4368960"/>
                  <a:ext cx="5274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3419640" y="2208240"/>
                  <a:ext cx="6858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5527800" y="2205000"/>
                  <a:ext cx="7905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B9B-6DD6-4AFE-B70F-6ED3B26B6D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oceso de mezc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3640" y="1916280"/>
            <a:ext cx="33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, F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03640" y="2637000"/>
            <a:ext cx="3692520" cy="1923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3520" y="2712960"/>
            <a:ext cx="0" cy="1776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56200" y="2960640"/>
            <a:ext cx="3102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5154480" y="3108240"/>
                <a:ext cx="443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089760" y="2565360"/>
                <a:ext cx="442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7419960" y="2565360"/>
                <a:ext cx="476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205240" y="3962520"/>
                <a:ext cx="341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5940360" y="306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08720" y="306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308720" y="3860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95280" y="1700280"/>
            <a:ext cx="3959280" cy="1972800"/>
            <a:chOff x="395280" y="1700280"/>
            <a:chExt cx="3959280" cy="1972800"/>
          </a:xfrm>
        </p:grpSpPr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1715040" y="1703160"/>
                  <a:ext cx="47484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3140280" y="1703160"/>
                  <a:ext cx="51120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395280" y="1752480"/>
              <a:ext cx="3959280" cy="19206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5" name=""/>
                <p:cNvSpPr txBox="1"/>
                <p:nvPr/>
              </p:nvSpPr>
              <p:spPr>
                <a:xfrm>
                  <a:off x="1595880" y="2161800"/>
                  <a:ext cx="4489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6" name=""/>
            <p:cNvSpPr/>
            <p:nvPr/>
          </p:nvSpPr>
          <p:spPr>
            <a:xfrm>
              <a:off x="1450800" y="1850760"/>
              <a:ext cx="0" cy="177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6240" y="2097360"/>
              <a:ext cx="3325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8" name=""/>
                <p:cNvSpPr txBox="1"/>
                <p:nvPr/>
              </p:nvSpPr>
              <p:spPr>
                <a:xfrm>
                  <a:off x="3127320" y="2999160"/>
                  <a:ext cx="448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2902680" y="2161800"/>
                  <a:ext cx="844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0" name=""/>
                <p:cNvSpPr txBox="1"/>
                <p:nvPr/>
              </p:nvSpPr>
              <p:spPr>
                <a:xfrm>
                  <a:off x="1530000" y="2972520"/>
                  <a:ext cx="844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1" name=""/>
                <p:cNvSpPr txBox="1"/>
                <p:nvPr/>
              </p:nvSpPr>
              <p:spPr>
                <a:xfrm>
                  <a:off x="711720" y="2244960"/>
                  <a:ext cx="4748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766800" y="3098880"/>
                  <a:ext cx="365040" cy="2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55640" y="1702080"/>
                  <a:ext cx="47484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3116160" y="1700280"/>
                  <a:ext cx="547560" cy="37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5" name=""/>
          <p:cNvSpPr/>
          <p:nvPr/>
        </p:nvSpPr>
        <p:spPr>
          <a:xfrm>
            <a:off x="826920" y="3789360"/>
            <a:ext cx="33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3, F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640" y="4365720"/>
            <a:ext cx="3692520" cy="1923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79520" y="4441680"/>
            <a:ext cx="0" cy="1776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2200" y="4689360"/>
            <a:ext cx="310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690480" y="4836960"/>
                <a:ext cx="4431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625760" y="4294080"/>
                <a:ext cx="4428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55960" y="4294080"/>
                <a:ext cx="476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741240" y="5691240"/>
                <a:ext cx="341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1476360" y="479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44720" y="479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7636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4472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410-3F08-4F52-949D-DA6A883742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GA(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657600" y="2438280"/>
                <a:ext cx="1784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1371600" y="3200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GA se formuló originalmente sobre la matriz de ganancias estacionarias, frecuencia 0, pero puede evaluarse y dar información útil a cualquier otra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911-7BE7-4024-9448-721E3F8DDD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11280" y="260280"/>
            <a:ext cx="8305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s enfoques altern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LTILOOP vs Centr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57200" y="3581280"/>
            <a:ext cx="3662280" cy="2895840"/>
            <a:chOff x="457200" y="3581280"/>
            <a:chExt cx="3662280" cy="2895840"/>
          </a:xfrm>
        </p:grpSpPr>
        <p:sp>
          <p:nvSpPr>
            <p:cNvPr id="822" name=""/>
            <p:cNvSpPr/>
            <p:nvPr/>
          </p:nvSpPr>
          <p:spPr>
            <a:xfrm>
              <a:off x="1371960" y="4336560"/>
              <a:ext cx="1081080" cy="1300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843280" y="5514480"/>
              <a:ext cx="290880" cy="125640"/>
            </a:xfrm>
            <a:prstGeom prst="flowChartManualOperation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6032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3864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8812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7128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95840" y="5176080"/>
              <a:ext cx="290880" cy="29376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8640" y="5343840"/>
              <a:ext cx="0" cy="62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87080" y="5343840"/>
              <a:ext cx="0" cy="62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2171880" y="5967720"/>
              <a:ext cx="256320" cy="252000"/>
              <a:chOff x="2171880" y="5967720"/>
              <a:chExt cx="256320" cy="252000"/>
            </a:xfrm>
          </p:grpSpPr>
          <p:sp>
            <p:nvSpPr>
              <p:cNvPr id="832" name=""/>
              <p:cNvSpPr/>
              <p:nvPr/>
            </p:nvSpPr>
            <p:spPr>
              <a:xfrm>
                <a:off x="2178360" y="596844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78360" y="621972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2177280" y="5967720"/>
                <a:ext cx="19476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171880" y="5967720"/>
                <a:ext cx="20088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5200" y="6091200"/>
                <a:ext cx="1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83560" y="6006960"/>
                <a:ext cx="0" cy="15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383560" y="6001920"/>
                <a:ext cx="44640" cy="15948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556800" y="5108040"/>
              <a:ext cx="249840" cy="258120"/>
              <a:chOff x="3556800" y="5108040"/>
              <a:chExt cx="249840" cy="25812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3557520" y="516420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806640" y="516420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556800" y="5163840"/>
                <a:ext cx="249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3556800" y="5163840"/>
                <a:ext cx="24948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3679200" y="5155200"/>
                <a:ext cx="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95680" y="515304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6200000">
                <a:off x="3647520" y="505152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741600" y="3931200"/>
              <a:ext cx="249840" cy="258120"/>
              <a:chOff x="741600" y="3931200"/>
              <a:chExt cx="249840" cy="258120"/>
            </a:xfrm>
          </p:grpSpPr>
          <p:sp>
            <p:nvSpPr>
              <p:cNvPr id="848" name=""/>
              <p:cNvSpPr/>
              <p:nvPr/>
            </p:nvSpPr>
            <p:spPr>
              <a:xfrm flipV="1">
                <a:off x="742320" y="398736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991440" y="398736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41600" y="3987000"/>
                <a:ext cx="24948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741600" y="3987000"/>
                <a:ext cx="24948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864000" y="3978360"/>
                <a:ext cx="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80480" y="397620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832320" y="38746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2827440" y="5259960"/>
              <a:ext cx="332640" cy="29376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449080" y="5421600"/>
              <a:ext cx="54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80080" y="5265000"/>
              <a:ext cx="56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09520" y="5265000"/>
              <a:ext cx="30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7080" y="6225120"/>
              <a:ext cx="0" cy="8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21440" y="4084920"/>
              <a:ext cx="0" cy="46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997920" y="4084920"/>
              <a:ext cx="62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57200" y="4084920"/>
              <a:ext cx="29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56360" y="47563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02880" y="50500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453040" y="525996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715120" y="4639680"/>
              <a:ext cx="0" cy="1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453040" y="463032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64240" y="3581280"/>
              <a:ext cx="290880" cy="29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56160" y="47563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34560" y="5186520"/>
              <a:ext cx="29088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88800" y="387468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32640" y="4930200"/>
              <a:ext cx="13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21480" y="5321160"/>
              <a:ext cx="15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866880" y="372420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6440" y="3735720"/>
              <a:ext cx="3092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3665520" y="4885200"/>
              <a:ext cx="0" cy="22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2835720" y="4885560"/>
              <a:ext cx="829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06320" y="4881960"/>
              <a:ext cx="249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6680" y="4881960"/>
              <a:ext cx="0" cy="1594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6680" y="6477120"/>
              <a:ext cx="195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661480" y="6057360"/>
              <a:ext cx="0" cy="419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427120" y="6068520"/>
              <a:ext cx="232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380880" y="2666880"/>
            <a:ext cx="4419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Multiloop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varios controladores PID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91320" y="28195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entr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495320" y="3885840"/>
            <a:ext cx="4267800" cy="2667240"/>
            <a:chOff x="4495320" y="3885840"/>
            <a:chExt cx="4267800" cy="2667240"/>
          </a:xfrm>
        </p:grpSpPr>
        <p:sp>
          <p:nvSpPr>
            <p:cNvPr id="886" name=""/>
            <p:cNvSpPr/>
            <p:nvPr/>
          </p:nvSpPr>
          <p:spPr>
            <a:xfrm>
              <a:off x="5407200" y="4925880"/>
              <a:ext cx="1077840" cy="1073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872400" y="5896800"/>
              <a:ext cx="290520" cy="104760"/>
            </a:xfrm>
            <a:prstGeom prst="flowChartManualOperation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9448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880" y="5618160"/>
              <a:ext cx="2887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2120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04000" y="5618160"/>
              <a:ext cx="29052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029280" y="5618160"/>
              <a:ext cx="289080" cy="243000"/>
            </a:xfrm>
            <a:prstGeom prst="flowChartConnec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73880" y="575640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18360" y="5756400"/>
              <a:ext cx="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6203880" y="6271920"/>
              <a:ext cx="255600" cy="208080"/>
              <a:chOff x="6203880" y="6271920"/>
              <a:chExt cx="255600" cy="208080"/>
            </a:xfrm>
          </p:grpSpPr>
          <p:sp>
            <p:nvSpPr>
              <p:cNvPr id="896" name=""/>
              <p:cNvSpPr/>
              <p:nvPr/>
            </p:nvSpPr>
            <p:spPr>
              <a:xfrm>
                <a:off x="6210360" y="627228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10360" y="648000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6209640" y="6271920"/>
                <a:ext cx="19440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6203880" y="6271920"/>
                <a:ext cx="20016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06840" y="6373800"/>
                <a:ext cx="10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414840" y="6304320"/>
                <a:ext cx="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14840" y="6300360"/>
                <a:ext cx="44640" cy="13176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7583040" y="5560920"/>
              <a:ext cx="249840" cy="214560"/>
              <a:chOff x="7583040" y="5560920"/>
              <a:chExt cx="249840" cy="214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583760" y="560772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832880" y="560772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7583040" y="5608080"/>
                <a:ext cx="24948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583040" y="5607360"/>
                <a:ext cx="2494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705440" y="560052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21920" y="559836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200000">
                <a:off x="7677360" y="5500440"/>
                <a:ext cx="37440" cy="15804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780080" y="4590720"/>
              <a:ext cx="247680" cy="212760"/>
              <a:chOff x="4780080" y="4590720"/>
              <a:chExt cx="247680" cy="212760"/>
            </a:xfrm>
          </p:grpSpPr>
          <p:sp>
            <p:nvSpPr>
              <p:cNvPr id="912" name=""/>
              <p:cNvSpPr/>
              <p:nvPr/>
            </p:nvSpPr>
            <p:spPr>
              <a:xfrm flipV="1">
                <a:off x="4780080" y="4637160"/>
                <a:ext cx="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5027760" y="4637160"/>
                <a:ext cx="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4780080" y="4637520"/>
                <a:ext cx="247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4780080" y="4636800"/>
                <a:ext cx="24768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4901400" y="4629960"/>
                <a:ext cx="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18240" y="4627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00000">
                <a:off x="4873320" y="4530600"/>
                <a:ext cx="37080" cy="156960"/>
              </a:xfrm>
              <a:custGeom>
                <a:avLst/>
                <a:gdLst/>
                <a:ahLst/>
                <a:rect l="l" t="t" r="r" b="b"/>
                <a:pathLst>
                  <a:path w="200" h="396">
                    <a:moveTo>
                      <a:pt x="0" y="396"/>
                    </a:moveTo>
                    <a:cubicBezTo>
                      <a:pt x="32" y="388"/>
                      <a:pt x="64" y="380"/>
                      <a:pt x="96" y="348"/>
                    </a:cubicBezTo>
                    <a:cubicBezTo>
                      <a:pt x="128" y="316"/>
                      <a:pt x="184" y="252"/>
                      <a:pt x="192" y="204"/>
                    </a:cubicBezTo>
                    <a:cubicBezTo>
                      <a:pt x="200" y="156"/>
                      <a:pt x="176" y="94"/>
                      <a:pt x="144" y="60"/>
                    </a:cubicBezTo>
                    <a:cubicBezTo>
                      <a:pt x="112" y="26"/>
                      <a:pt x="56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6858000" y="5688000"/>
              <a:ext cx="330120" cy="24120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480000" y="582120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008840" y="5691240"/>
              <a:ext cx="5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35760" y="5691240"/>
              <a:ext cx="30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18360" y="6483240"/>
              <a:ext cx="0" cy="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56320" y="47181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033520" y="4718160"/>
              <a:ext cx="6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495320" y="4718160"/>
              <a:ext cx="29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86560" y="5272200"/>
              <a:ext cx="29052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32720" y="551340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485040" y="568800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745320" y="517500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485040" y="516744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00560" y="4302000"/>
              <a:ext cx="28908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3600" y="4648320"/>
              <a:ext cx="29052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71960" y="5626080"/>
              <a:ext cx="289080" cy="2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4400" y="454500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7800" y="573732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0960" y="4164120"/>
              <a:ext cx="99396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ntral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89640" y="4405320"/>
              <a:ext cx="1739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99400" y="541008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6981840" y="4544640"/>
              <a:ext cx="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1840" y="4545000"/>
              <a:ext cx="24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076800" y="4476600"/>
              <a:ext cx="1152720" cy="1800"/>
            </a:xfrm>
            <a:custGeom>
              <a:avLst/>
              <a:gdLst/>
              <a:ahLst/>
              <a:rect l="l" t="t" r="r" b="b"/>
              <a:pathLst>
                <a:path w="726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467400" y="6353280"/>
              <a:ext cx="2270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8737560" y="4379760"/>
              <a:ext cx="0" cy="1973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218080" y="4379760"/>
              <a:ext cx="530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224920" y="454500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13640" y="4545000"/>
              <a:ext cx="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684920" y="5410080"/>
              <a:ext cx="828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84920" y="541008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24920" y="4232160"/>
              <a:ext cx="538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8763120" y="3885840"/>
              <a:ext cx="0" cy="345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951440" y="3886200"/>
              <a:ext cx="3811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06800" y="3895560"/>
              <a:ext cx="0" cy="69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9588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76800" y="4476600"/>
              <a:ext cx="0" cy="1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1773360"/>
            <a:ext cx="569880" cy="369720"/>
          </a:xfrm>
          <a:custGeom>
            <a:avLst/>
            <a:gdLst/>
            <a:ahLst/>
            <a:rect l="l" t="t" r="r" b="b"/>
            <a:pathLst>
              <a:path w="359" h="233">
                <a:moveTo>
                  <a:pt x="359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0B8-F6DF-439D-A84E-D369247382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aco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0292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292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86200" y="2666880"/>
            <a:ext cx="1143000" cy="1295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86000" y="24382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371600" y="266688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76520" y="28195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81952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3880" y="205740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880" y="2209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600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6576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76520" y="38098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1523880" y="39621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35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76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3880" y="20574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3880" y="45720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6708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66680" y="5029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ntrar la matriz D, tal que GD se comporte como una matriz diagonal o casi dia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C1E-DCCE-4F8A-85F2-5B2033AC18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acoplo en estado estacio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292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0292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6200" y="2666880"/>
            <a:ext cx="1143000" cy="1295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86000" y="243828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71600" y="266688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76520" y="28195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281952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23880" y="205740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2209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3657600"/>
            <a:ext cx="304920" cy="30492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6520" y="38098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523880" y="3962160"/>
            <a:ext cx="0" cy="6094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335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76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10552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20574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23880" y="4572000"/>
            <a:ext cx="59436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66680" y="48769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D =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, entonces G(s)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diagonal en estado estacionario de modo que, en reposo, no hay interacción.  Fácíl de implementar y calcular, G(0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inversa de la matriz de ganancias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ABE-2591-43F8-B386-142810356C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ructura de control con desac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1FF-8905-4C6D-9825-AD6A6FBC04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2 Multivariable Decoup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4 modelos diná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11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12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21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22 (com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acta en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s models deben construirse a partir de datos de planta, validados e incluidos en el diseño del contro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desacople de lazos no es una técnica muy empleada industrialmente porque su empleo  requiere un esfuerzo significativo de modelado, sintonía y mantenimi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00D-FF35-4F14-9BED-8CBD3C1EC6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72" name="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ción en lazo 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659-52FE-42A6-9A79-5BC5000385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multi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2666880"/>
            <a:ext cx="16002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76720" y="35053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238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38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25146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01000" y="2666880"/>
            <a:ext cx="5335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76520" y="304812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43200" y="2057400"/>
            <a:ext cx="0" cy="4572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1440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6000" y="2514600"/>
            <a:ext cx="16765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676520" y="3581280"/>
            <a:ext cx="609480" cy="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743200" y="4191120"/>
            <a:ext cx="0" cy="38088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90720" y="33526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800600" y="3581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200" y="2057400"/>
            <a:ext cx="47242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43200" y="4572000"/>
            <a:ext cx="47242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467480" y="3505320"/>
            <a:ext cx="0" cy="1066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5029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trolador recibe señales de todas las salidas y simultáneamente calcula todas las señales de control teniendo en cuenta la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4D6-3D55-420F-AA70-65B914F6DB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282840" y="4654440"/>
            <a:ext cx="1968480" cy="113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54240" y="4807080"/>
            <a:ext cx="216000" cy="97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64280" y="4807080"/>
            <a:ext cx="215640" cy="97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017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574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063880" y="5175360"/>
            <a:ext cx="215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063880" y="518796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17188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28960" y="4933800"/>
            <a:ext cx="284040" cy="79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9248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111640" y="3943440"/>
            <a:ext cx="1739880" cy="406080"/>
            <a:chOff x="5111640" y="3943440"/>
            <a:chExt cx="1739880" cy="406080"/>
          </a:xfrm>
        </p:grpSpPr>
        <p:sp>
          <p:nvSpPr>
            <p:cNvPr id="1053" name=""/>
            <p:cNvSpPr/>
            <p:nvPr/>
          </p:nvSpPr>
          <p:spPr>
            <a:xfrm>
              <a:off x="51116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672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87376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7376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958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98176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38840" y="3943440"/>
              <a:ext cx="284040" cy="79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0236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51055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6708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54040" y="4807080"/>
            <a:ext cx="29232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002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9560" y="381636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057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63880" y="43498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02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6680" y="44956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0968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09680" y="31305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97440" y="3435480"/>
            <a:ext cx="29232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436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10236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7057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35480" y="41212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49880" y="4121280"/>
            <a:ext cx="291960" cy="2919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956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978280" y="2673360"/>
            <a:ext cx="204444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5812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44956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2203560" y="31240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35680" y="3048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8128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34080" y="17398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76360" y="17398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50840" y="539604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537960" y="432900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19720" y="257796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97080" y="250200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 Predictivo  multi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1992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C, GPC, EPSAC, HITO, PFC,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50A-BFB9-4576-8687-3F50D5437B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89000"/>
            <a:ext cx="6696000" cy="174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Cómo se determina el máximo número de variables que pueden ser controladas en un proceso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1120" y="2163600"/>
          <a:ext cx="8534520" cy="38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2163600"/>
                    <a:ext cx="8534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274-6F59-4C73-99A4-6145938D34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8000" y="260280"/>
            <a:ext cx="583272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requisito básic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 número de válvulas (actuadores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número de variables controlad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2492280"/>
          <a:ext cx="7554600" cy="34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554600" cy="34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839880" y="4941720"/>
            <a:ext cx="956520" cy="1176480"/>
            <a:chOff x="839880" y="4941720"/>
            <a:chExt cx="956520" cy="1176480"/>
          </a:xfrm>
        </p:grpSpPr>
        <p:sp>
          <p:nvSpPr>
            <p:cNvPr id="100" name=""/>
            <p:cNvSpPr/>
            <p:nvPr/>
          </p:nvSpPr>
          <p:spPr>
            <a:xfrm>
              <a:off x="1108080" y="4941720"/>
              <a:ext cx="279360" cy="271440"/>
            </a:xfrm>
            <a:custGeom>
              <a:avLst/>
              <a:gdLst/>
              <a:ahLst/>
              <a:rect l="l" t="t" r="r" b="b"/>
              <a:pathLst>
                <a:path w="529" h="513">
                  <a:moveTo>
                    <a:pt x="109" y="24"/>
                  </a:moveTo>
                  <a:lnTo>
                    <a:pt x="168" y="0"/>
                  </a:lnTo>
                  <a:lnTo>
                    <a:pt x="211" y="17"/>
                  </a:lnTo>
                  <a:lnTo>
                    <a:pt x="255" y="73"/>
                  </a:lnTo>
                  <a:lnTo>
                    <a:pt x="284" y="153"/>
                  </a:lnTo>
                  <a:lnTo>
                    <a:pt x="288" y="210"/>
                  </a:lnTo>
                  <a:lnTo>
                    <a:pt x="291" y="282"/>
                  </a:lnTo>
                  <a:lnTo>
                    <a:pt x="480" y="279"/>
                  </a:lnTo>
                  <a:lnTo>
                    <a:pt x="529" y="290"/>
                  </a:lnTo>
                  <a:lnTo>
                    <a:pt x="523" y="324"/>
                  </a:lnTo>
                  <a:lnTo>
                    <a:pt x="421" y="310"/>
                  </a:lnTo>
                  <a:lnTo>
                    <a:pt x="288" y="332"/>
                  </a:lnTo>
                  <a:lnTo>
                    <a:pt x="260" y="404"/>
                  </a:lnTo>
                  <a:lnTo>
                    <a:pt x="221" y="467"/>
                  </a:lnTo>
                  <a:lnTo>
                    <a:pt x="175" y="492"/>
                  </a:lnTo>
                  <a:lnTo>
                    <a:pt x="126" y="513"/>
                  </a:lnTo>
                  <a:lnTo>
                    <a:pt x="91" y="499"/>
                  </a:lnTo>
                  <a:lnTo>
                    <a:pt x="42" y="443"/>
                  </a:lnTo>
                  <a:lnTo>
                    <a:pt x="7" y="373"/>
                  </a:lnTo>
                  <a:lnTo>
                    <a:pt x="0" y="314"/>
                  </a:lnTo>
                  <a:lnTo>
                    <a:pt x="18" y="195"/>
                  </a:lnTo>
                  <a:lnTo>
                    <a:pt x="60" y="105"/>
                  </a:lnTo>
                  <a:lnTo>
                    <a:pt x="91" y="53"/>
                  </a:lnTo>
                  <a:lnTo>
                    <a:pt x="129" y="20"/>
                  </a:lnTo>
                  <a:lnTo>
                    <a:pt x="10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854800">
              <a:off x="1219320" y="5168520"/>
              <a:ext cx="573120" cy="99720"/>
            </a:xfrm>
            <a:custGeom>
              <a:avLst/>
              <a:gdLst/>
              <a:ahLst/>
              <a:rect l="l" t="t" r="r" b="b"/>
              <a:pathLst>
                <a:path w="1083" h="191">
                  <a:moveTo>
                    <a:pt x="0" y="122"/>
                  </a:moveTo>
                  <a:lnTo>
                    <a:pt x="91" y="91"/>
                  </a:lnTo>
                  <a:lnTo>
                    <a:pt x="284" y="77"/>
                  </a:lnTo>
                  <a:lnTo>
                    <a:pt x="445" y="63"/>
                  </a:lnTo>
                  <a:lnTo>
                    <a:pt x="624" y="35"/>
                  </a:lnTo>
                  <a:lnTo>
                    <a:pt x="757" y="31"/>
                  </a:lnTo>
                  <a:lnTo>
                    <a:pt x="932" y="11"/>
                  </a:lnTo>
                  <a:lnTo>
                    <a:pt x="1080" y="0"/>
                  </a:lnTo>
                  <a:lnTo>
                    <a:pt x="1083" y="21"/>
                  </a:lnTo>
                  <a:lnTo>
                    <a:pt x="1048" y="49"/>
                  </a:lnTo>
                  <a:lnTo>
                    <a:pt x="915" y="49"/>
                  </a:lnTo>
                  <a:lnTo>
                    <a:pt x="926" y="83"/>
                  </a:lnTo>
                  <a:lnTo>
                    <a:pt x="908" y="125"/>
                  </a:lnTo>
                  <a:lnTo>
                    <a:pt x="872" y="153"/>
                  </a:lnTo>
                  <a:lnTo>
                    <a:pt x="817" y="153"/>
                  </a:lnTo>
                  <a:lnTo>
                    <a:pt x="771" y="139"/>
                  </a:lnTo>
                  <a:lnTo>
                    <a:pt x="754" y="94"/>
                  </a:lnTo>
                  <a:lnTo>
                    <a:pt x="754" y="66"/>
                  </a:lnTo>
                  <a:lnTo>
                    <a:pt x="628" y="69"/>
                  </a:lnTo>
                  <a:lnTo>
                    <a:pt x="575" y="83"/>
                  </a:lnTo>
                  <a:lnTo>
                    <a:pt x="469" y="111"/>
                  </a:lnTo>
                  <a:lnTo>
                    <a:pt x="319" y="129"/>
                  </a:lnTo>
                  <a:lnTo>
                    <a:pt x="192" y="133"/>
                  </a:lnTo>
                  <a:lnTo>
                    <a:pt x="109" y="150"/>
                  </a:lnTo>
                  <a:lnTo>
                    <a:pt x="32" y="191"/>
                  </a:lnTo>
                  <a:lnTo>
                    <a:pt x="0" y="150"/>
                  </a:lnTo>
                  <a:lnTo>
                    <a:pt x="21" y="111"/>
                  </a:lnTo>
                  <a:lnTo>
                    <a:pt x="38" y="10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50840" y="5224320"/>
              <a:ext cx="223920" cy="466560"/>
            </a:xfrm>
            <a:custGeom>
              <a:avLst/>
              <a:gdLst/>
              <a:ahLst/>
              <a:rect l="l" t="t" r="r" b="b"/>
              <a:pathLst>
                <a:path w="423" h="880">
                  <a:moveTo>
                    <a:pt x="188" y="0"/>
                  </a:moveTo>
                  <a:lnTo>
                    <a:pt x="241" y="9"/>
                  </a:lnTo>
                  <a:lnTo>
                    <a:pt x="304" y="9"/>
                  </a:lnTo>
                  <a:lnTo>
                    <a:pt x="388" y="51"/>
                  </a:lnTo>
                  <a:lnTo>
                    <a:pt x="419" y="136"/>
                  </a:lnTo>
                  <a:lnTo>
                    <a:pt x="423" y="251"/>
                  </a:lnTo>
                  <a:lnTo>
                    <a:pt x="391" y="379"/>
                  </a:lnTo>
                  <a:lnTo>
                    <a:pt x="336" y="502"/>
                  </a:lnTo>
                  <a:lnTo>
                    <a:pt x="294" y="607"/>
                  </a:lnTo>
                  <a:lnTo>
                    <a:pt x="251" y="754"/>
                  </a:lnTo>
                  <a:lnTo>
                    <a:pt x="202" y="841"/>
                  </a:lnTo>
                  <a:lnTo>
                    <a:pt x="140" y="880"/>
                  </a:lnTo>
                  <a:lnTo>
                    <a:pt x="87" y="880"/>
                  </a:lnTo>
                  <a:lnTo>
                    <a:pt x="25" y="841"/>
                  </a:lnTo>
                  <a:lnTo>
                    <a:pt x="0" y="785"/>
                  </a:lnTo>
                  <a:lnTo>
                    <a:pt x="0" y="694"/>
                  </a:lnTo>
                  <a:lnTo>
                    <a:pt x="34" y="575"/>
                  </a:lnTo>
                  <a:lnTo>
                    <a:pt x="63" y="411"/>
                  </a:lnTo>
                  <a:lnTo>
                    <a:pt x="73" y="208"/>
                  </a:lnTo>
                  <a:lnTo>
                    <a:pt x="56" y="55"/>
                  </a:lnTo>
                  <a:lnTo>
                    <a:pt x="108" y="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1040" y="5243400"/>
              <a:ext cx="255600" cy="417600"/>
            </a:xfrm>
            <a:custGeom>
              <a:avLst/>
              <a:gdLst/>
              <a:ahLst/>
              <a:rect l="l" t="t" r="r" b="b"/>
              <a:pathLst>
                <a:path w="483" h="787">
                  <a:moveTo>
                    <a:pt x="367" y="31"/>
                  </a:moveTo>
                  <a:lnTo>
                    <a:pt x="420" y="0"/>
                  </a:lnTo>
                  <a:lnTo>
                    <a:pt x="458" y="0"/>
                  </a:lnTo>
                  <a:lnTo>
                    <a:pt x="483" y="25"/>
                  </a:lnTo>
                  <a:lnTo>
                    <a:pt x="469" y="73"/>
                  </a:lnTo>
                  <a:lnTo>
                    <a:pt x="437" y="105"/>
                  </a:lnTo>
                  <a:lnTo>
                    <a:pt x="378" y="136"/>
                  </a:lnTo>
                  <a:lnTo>
                    <a:pt x="263" y="182"/>
                  </a:lnTo>
                  <a:lnTo>
                    <a:pt x="115" y="262"/>
                  </a:lnTo>
                  <a:lnTo>
                    <a:pt x="59" y="265"/>
                  </a:lnTo>
                  <a:lnTo>
                    <a:pt x="90" y="339"/>
                  </a:lnTo>
                  <a:lnTo>
                    <a:pt x="154" y="419"/>
                  </a:lnTo>
                  <a:lnTo>
                    <a:pt x="206" y="518"/>
                  </a:lnTo>
                  <a:lnTo>
                    <a:pt x="227" y="619"/>
                  </a:lnTo>
                  <a:lnTo>
                    <a:pt x="217" y="650"/>
                  </a:lnTo>
                  <a:lnTo>
                    <a:pt x="186" y="672"/>
                  </a:lnTo>
                  <a:lnTo>
                    <a:pt x="143" y="685"/>
                  </a:lnTo>
                  <a:lnTo>
                    <a:pt x="101" y="716"/>
                  </a:lnTo>
                  <a:lnTo>
                    <a:pt x="84" y="749"/>
                  </a:lnTo>
                  <a:lnTo>
                    <a:pt x="73" y="787"/>
                  </a:lnTo>
                  <a:lnTo>
                    <a:pt x="41" y="787"/>
                  </a:lnTo>
                  <a:lnTo>
                    <a:pt x="31" y="758"/>
                  </a:lnTo>
                  <a:lnTo>
                    <a:pt x="52" y="713"/>
                  </a:lnTo>
                  <a:lnTo>
                    <a:pt x="112" y="682"/>
                  </a:lnTo>
                  <a:lnTo>
                    <a:pt x="147" y="650"/>
                  </a:lnTo>
                  <a:lnTo>
                    <a:pt x="178" y="633"/>
                  </a:lnTo>
                  <a:lnTo>
                    <a:pt x="189" y="601"/>
                  </a:lnTo>
                  <a:lnTo>
                    <a:pt x="175" y="518"/>
                  </a:lnTo>
                  <a:lnTo>
                    <a:pt x="126" y="455"/>
                  </a:lnTo>
                  <a:lnTo>
                    <a:pt x="84" y="399"/>
                  </a:lnTo>
                  <a:lnTo>
                    <a:pt x="31" y="336"/>
                  </a:lnTo>
                  <a:lnTo>
                    <a:pt x="0" y="276"/>
                  </a:lnTo>
                  <a:lnTo>
                    <a:pt x="0" y="241"/>
                  </a:lnTo>
                  <a:lnTo>
                    <a:pt x="27" y="224"/>
                  </a:lnTo>
                  <a:lnTo>
                    <a:pt x="136" y="161"/>
                  </a:lnTo>
                  <a:lnTo>
                    <a:pt x="241" y="105"/>
                  </a:lnTo>
                  <a:lnTo>
                    <a:pt x="346" y="53"/>
                  </a:lnTo>
                  <a:lnTo>
                    <a:pt x="3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1600" y="5651280"/>
              <a:ext cx="169920" cy="451080"/>
            </a:xfrm>
            <a:custGeom>
              <a:avLst/>
              <a:gdLst/>
              <a:ahLst/>
              <a:rect l="l" t="t" r="r" b="b"/>
              <a:pathLst>
                <a:path w="322" h="852">
                  <a:moveTo>
                    <a:pt x="60" y="98"/>
                  </a:moveTo>
                  <a:lnTo>
                    <a:pt x="18" y="43"/>
                  </a:lnTo>
                  <a:lnTo>
                    <a:pt x="32" y="0"/>
                  </a:lnTo>
                  <a:lnTo>
                    <a:pt x="74" y="0"/>
                  </a:lnTo>
                  <a:lnTo>
                    <a:pt x="123" y="46"/>
                  </a:lnTo>
                  <a:lnTo>
                    <a:pt x="186" y="140"/>
                  </a:lnTo>
                  <a:lnTo>
                    <a:pt x="221" y="231"/>
                  </a:lnTo>
                  <a:lnTo>
                    <a:pt x="252" y="319"/>
                  </a:lnTo>
                  <a:lnTo>
                    <a:pt x="263" y="399"/>
                  </a:lnTo>
                  <a:lnTo>
                    <a:pt x="260" y="440"/>
                  </a:lnTo>
                  <a:lnTo>
                    <a:pt x="228" y="493"/>
                  </a:lnTo>
                  <a:lnTo>
                    <a:pt x="176" y="633"/>
                  </a:lnTo>
                  <a:lnTo>
                    <a:pt x="116" y="713"/>
                  </a:lnTo>
                  <a:lnTo>
                    <a:pt x="102" y="748"/>
                  </a:lnTo>
                  <a:lnTo>
                    <a:pt x="158" y="755"/>
                  </a:lnTo>
                  <a:lnTo>
                    <a:pt x="231" y="755"/>
                  </a:lnTo>
                  <a:lnTo>
                    <a:pt x="322" y="786"/>
                  </a:lnTo>
                  <a:lnTo>
                    <a:pt x="316" y="810"/>
                  </a:lnTo>
                  <a:lnTo>
                    <a:pt x="302" y="838"/>
                  </a:lnTo>
                  <a:lnTo>
                    <a:pt x="274" y="852"/>
                  </a:lnTo>
                  <a:lnTo>
                    <a:pt x="217" y="832"/>
                  </a:lnTo>
                  <a:lnTo>
                    <a:pt x="158" y="801"/>
                  </a:lnTo>
                  <a:lnTo>
                    <a:pt x="74" y="796"/>
                  </a:lnTo>
                  <a:lnTo>
                    <a:pt x="22" y="807"/>
                  </a:lnTo>
                  <a:lnTo>
                    <a:pt x="0" y="790"/>
                  </a:lnTo>
                  <a:lnTo>
                    <a:pt x="0" y="765"/>
                  </a:lnTo>
                  <a:lnTo>
                    <a:pt x="29" y="738"/>
                  </a:lnTo>
                  <a:lnTo>
                    <a:pt x="74" y="692"/>
                  </a:lnTo>
                  <a:lnTo>
                    <a:pt x="154" y="576"/>
                  </a:lnTo>
                  <a:lnTo>
                    <a:pt x="189" y="476"/>
                  </a:lnTo>
                  <a:lnTo>
                    <a:pt x="200" y="377"/>
                  </a:lnTo>
                  <a:lnTo>
                    <a:pt x="197" y="325"/>
                  </a:lnTo>
                  <a:lnTo>
                    <a:pt x="169" y="231"/>
                  </a:lnTo>
                  <a:lnTo>
                    <a:pt x="95" y="129"/>
                  </a:lnTo>
                  <a:lnTo>
                    <a:pt x="43" y="77"/>
                  </a:lnTo>
                  <a:lnTo>
                    <a:pt x="6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9880" y="5621040"/>
              <a:ext cx="249120" cy="497160"/>
            </a:xfrm>
            <a:custGeom>
              <a:avLst/>
              <a:gdLst/>
              <a:ahLst/>
              <a:rect l="l" t="t" r="r" b="b"/>
              <a:pathLst>
                <a:path w="473" h="940">
                  <a:moveTo>
                    <a:pt x="276" y="165"/>
                  </a:moveTo>
                  <a:lnTo>
                    <a:pt x="347" y="74"/>
                  </a:lnTo>
                  <a:lnTo>
                    <a:pt x="410" y="0"/>
                  </a:lnTo>
                  <a:lnTo>
                    <a:pt x="451" y="8"/>
                  </a:lnTo>
                  <a:lnTo>
                    <a:pt x="473" y="39"/>
                  </a:lnTo>
                  <a:lnTo>
                    <a:pt x="473" y="94"/>
                  </a:lnTo>
                  <a:lnTo>
                    <a:pt x="434" y="126"/>
                  </a:lnTo>
                  <a:lnTo>
                    <a:pt x="367" y="168"/>
                  </a:lnTo>
                  <a:lnTo>
                    <a:pt x="314" y="220"/>
                  </a:lnTo>
                  <a:lnTo>
                    <a:pt x="256" y="290"/>
                  </a:lnTo>
                  <a:lnTo>
                    <a:pt x="231" y="342"/>
                  </a:lnTo>
                  <a:lnTo>
                    <a:pt x="203" y="405"/>
                  </a:lnTo>
                  <a:lnTo>
                    <a:pt x="188" y="490"/>
                  </a:lnTo>
                  <a:lnTo>
                    <a:pt x="188" y="566"/>
                  </a:lnTo>
                  <a:lnTo>
                    <a:pt x="203" y="661"/>
                  </a:lnTo>
                  <a:lnTo>
                    <a:pt x="242" y="752"/>
                  </a:lnTo>
                  <a:lnTo>
                    <a:pt x="273" y="804"/>
                  </a:lnTo>
                  <a:lnTo>
                    <a:pt x="294" y="838"/>
                  </a:lnTo>
                  <a:lnTo>
                    <a:pt x="294" y="867"/>
                  </a:lnTo>
                  <a:lnTo>
                    <a:pt x="273" y="877"/>
                  </a:lnTo>
                  <a:lnTo>
                    <a:pt x="224" y="877"/>
                  </a:lnTo>
                  <a:lnTo>
                    <a:pt x="147" y="891"/>
                  </a:lnTo>
                  <a:lnTo>
                    <a:pt x="87" y="912"/>
                  </a:lnTo>
                  <a:lnTo>
                    <a:pt x="53" y="940"/>
                  </a:lnTo>
                  <a:lnTo>
                    <a:pt x="20" y="929"/>
                  </a:lnTo>
                  <a:lnTo>
                    <a:pt x="0" y="891"/>
                  </a:lnTo>
                  <a:lnTo>
                    <a:pt x="3" y="860"/>
                  </a:lnTo>
                  <a:lnTo>
                    <a:pt x="63" y="835"/>
                  </a:lnTo>
                  <a:lnTo>
                    <a:pt x="157" y="829"/>
                  </a:lnTo>
                  <a:lnTo>
                    <a:pt x="245" y="829"/>
                  </a:lnTo>
                  <a:lnTo>
                    <a:pt x="210" y="786"/>
                  </a:lnTo>
                  <a:lnTo>
                    <a:pt x="193" y="734"/>
                  </a:lnTo>
                  <a:lnTo>
                    <a:pt x="168" y="661"/>
                  </a:lnTo>
                  <a:lnTo>
                    <a:pt x="140" y="584"/>
                  </a:lnTo>
                  <a:lnTo>
                    <a:pt x="140" y="493"/>
                  </a:lnTo>
                  <a:lnTo>
                    <a:pt x="147" y="405"/>
                  </a:lnTo>
                  <a:lnTo>
                    <a:pt x="179" y="325"/>
                  </a:lnTo>
                  <a:lnTo>
                    <a:pt x="234" y="220"/>
                  </a:lnTo>
                  <a:lnTo>
                    <a:pt x="27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835280" y="5856120"/>
            <a:ext cx="6172200" cy="533520"/>
          </a:xfrm>
          <a:prstGeom prst="wedgeRoundRectCallout">
            <a:avLst>
              <a:gd name="adj1" fmla="val -54527"/>
              <a:gd name="adj2" fmla="val -15893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o es una condición 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o no suficiente para satisfacer los objetivos de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16B-E4F0-4D5A-A3A6-AA0CDAB4B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981000"/>
            <a:ext cx="691380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ROL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proceso es controlable si las variables controladas pueden ser mantenidas en sus valores de consigna, en estado estacionario, a pesar de las perturbaciones que afectan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040360"/>
            <a:ext cx="815328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emáticamente, un proceso es controlable cuando la matriz of ganancias del proceso puede invertirse, i.e., cuando el determinante de 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3668760"/>
                <a:ext cx="67816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3745080"/>
            <a:ext cx="91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o para un sistema 2x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6E3-5B3C-40C8-8544-8A2725109B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276720" y="3573360"/>
            <a:ext cx="3924360" cy="1179360"/>
            <a:chOff x="3276720" y="3573360"/>
            <a:chExt cx="3924360" cy="1179360"/>
          </a:xfrm>
        </p:grpSpPr>
        <p:sp>
          <p:nvSpPr>
            <p:cNvPr id="112" name=""/>
            <p:cNvSpPr/>
            <p:nvPr/>
          </p:nvSpPr>
          <p:spPr>
            <a:xfrm>
              <a:off x="5121360" y="43210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3120" y="445932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10440" y="43210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43640" y="445932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2680" y="423684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4200" y="438300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75320" y="44719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402912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8320" y="429876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03960" y="357336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85160" y="415584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7960" y="43624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8720" y="436860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520" y="400824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58000" y="369864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57960" y="371772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19280" y="4724280"/>
            <a:ext cx="3924360" cy="1179720"/>
            <a:chOff x="1619280" y="4724280"/>
            <a:chExt cx="3924360" cy="1179720"/>
          </a:xfrm>
        </p:grpSpPr>
        <p:sp>
          <p:nvSpPr>
            <p:cNvPr id="129" name=""/>
            <p:cNvSpPr/>
            <p:nvPr/>
          </p:nvSpPr>
          <p:spPr>
            <a:xfrm>
              <a:off x="3463920" y="5472000"/>
              <a:ext cx="407880" cy="43200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5680" y="56102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53000" y="5472000"/>
              <a:ext cx="411120" cy="43200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86200" y="56102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5240" y="5388120"/>
              <a:ext cx="458640" cy="9036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6760" y="55339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17880" y="5622840"/>
              <a:ext cx="552240" cy="9072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19280" y="51800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0880" y="545004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6520" y="47242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7720" y="5307120"/>
              <a:ext cx="66600" cy="12996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00520" y="5513400"/>
              <a:ext cx="118800" cy="11916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91280" y="5519880"/>
              <a:ext cx="163440" cy="10764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72080" y="515952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00560" y="4849920"/>
              <a:ext cx="376200" cy="26964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0520" y="4869000"/>
              <a:ext cx="395280" cy="22356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00000" y="155736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2971800"/>
          <a:ext cx="838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971800"/>
                    <a:ext cx="838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1600200"/>
            <a:ext cx="1600200" cy="838080"/>
          </a:xfrm>
          <a:prstGeom prst="wedgeRoundRectCallout">
            <a:avLst>
              <a:gd name="adj1" fmla="val -13291"/>
              <a:gd name="adj2" fmla="val 9109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uitivo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166-E89F-447F-AB3F-32DC4E570A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895480" y="3124080"/>
            <a:ext cx="3924360" cy="1179360"/>
            <a:chOff x="2895480" y="3124080"/>
            <a:chExt cx="3924360" cy="1179360"/>
          </a:xfrm>
        </p:grpSpPr>
        <p:sp>
          <p:nvSpPr>
            <p:cNvPr id="151" name=""/>
            <p:cNvSpPr/>
            <p:nvPr/>
          </p:nvSpPr>
          <p:spPr>
            <a:xfrm>
              <a:off x="4740120" y="387180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1880" y="4010040"/>
              <a:ext cx="141480" cy="15228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9200" y="387180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62400" y="4010040"/>
              <a:ext cx="144720" cy="15228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11440" y="3787560"/>
              <a:ext cx="458640" cy="9072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12960" y="3933720"/>
              <a:ext cx="311400" cy="5400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4080" y="402264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3579840"/>
              <a:ext cx="608040" cy="39672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97080" y="3849480"/>
              <a:ext cx="304920" cy="38736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2720" y="3124080"/>
              <a:ext cx="2697120" cy="94932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706560"/>
              <a:ext cx="66600" cy="13032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6720" y="391320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7480" y="3919320"/>
              <a:ext cx="163440" cy="10800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8280" y="3558960"/>
              <a:ext cx="998280" cy="44136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76760" y="3249360"/>
              <a:ext cx="376200" cy="27000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76720" y="3268440"/>
              <a:ext cx="395280" cy="22392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40080" y="3634200"/>
            <a:ext cx="1577880" cy="1647000"/>
            <a:chOff x="4240080" y="3634200"/>
            <a:chExt cx="1577880" cy="1647000"/>
          </a:xfrm>
        </p:grpSpPr>
        <p:sp>
          <p:nvSpPr>
            <p:cNvPr id="168" name=""/>
            <p:cNvSpPr/>
            <p:nvPr/>
          </p:nvSpPr>
          <p:spPr>
            <a:xfrm rot="20800200">
              <a:off x="4296240" y="471096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800200">
              <a:off x="4426560" y="460188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800200">
              <a:off x="4557600" y="4492800"/>
              <a:ext cx="380520" cy="5331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800200">
              <a:off x="4687920" y="438336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800200">
              <a:off x="4818600" y="427392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800200">
              <a:off x="5006160" y="407304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800200">
              <a:off x="5136840" y="3963600"/>
              <a:ext cx="38052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800200">
              <a:off x="5267520" y="3854520"/>
              <a:ext cx="380520" cy="5331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800200">
              <a:off x="5380560" y="3670920"/>
              <a:ext cx="380880" cy="53352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00200" y="4648320"/>
            <a:ext cx="3924360" cy="1179000"/>
            <a:chOff x="1600200" y="4648320"/>
            <a:chExt cx="3924360" cy="1179000"/>
          </a:xfrm>
        </p:grpSpPr>
        <p:sp>
          <p:nvSpPr>
            <p:cNvPr id="178" name=""/>
            <p:cNvSpPr/>
            <p:nvPr/>
          </p:nvSpPr>
          <p:spPr>
            <a:xfrm>
              <a:off x="3444840" y="5395680"/>
              <a:ext cx="407880" cy="431640"/>
            </a:xfrm>
            <a:custGeom>
              <a:avLst/>
              <a:gdLst/>
              <a:ahLst/>
              <a:rect l="l" t="t" r="r" b="b"/>
              <a:pathLst>
                <a:path w="389" h="433">
                  <a:moveTo>
                    <a:pt x="150" y="433"/>
                  </a:moveTo>
                  <a:lnTo>
                    <a:pt x="187" y="426"/>
                  </a:lnTo>
                  <a:lnTo>
                    <a:pt x="225" y="411"/>
                  </a:lnTo>
                  <a:lnTo>
                    <a:pt x="261" y="388"/>
                  </a:lnTo>
                  <a:lnTo>
                    <a:pt x="296" y="359"/>
                  </a:lnTo>
                  <a:lnTo>
                    <a:pt x="325" y="326"/>
                  </a:lnTo>
                  <a:lnTo>
                    <a:pt x="351" y="286"/>
                  </a:lnTo>
                  <a:lnTo>
                    <a:pt x="370" y="246"/>
                  </a:lnTo>
                  <a:lnTo>
                    <a:pt x="384" y="201"/>
                  </a:lnTo>
                  <a:lnTo>
                    <a:pt x="389" y="158"/>
                  </a:lnTo>
                  <a:lnTo>
                    <a:pt x="386" y="118"/>
                  </a:lnTo>
                  <a:lnTo>
                    <a:pt x="377" y="82"/>
                  </a:lnTo>
                  <a:lnTo>
                    <a:pt x="363" y="52"/>
                  </a:lnTo>
                  <a:lnTo>
                    <a:pt x="339" y="28"/>
                  </a:lnTo>
                  <a:lnTo>
                    <a:pt x="311" y="11"/>
                  </a:lnTo>
                  <a:lnTo>
                    <a:pt x="277" y="0"/>
                  </a:lnTo>
                  <a:lnTo>
                    <a:pt x="240" y="0"/>
                  </a:lnTo>
                  <a:lnTo>
                    <a:pt x="202" y="7"/>
                  </a:lnTo>
                  <a:lnTo>
                    <a:pt x="161" y="21"/>
                  </a:lnTo>
                  <a:lnTo>
                    <a:pt x="126" y="45"/>
                  </a:lnTo>
                  <a:lnTo>
                    <a:pt x="93" y="73"/>
                  </a:lnTo>
                  <a:lnTo>
                    <a:pt x="62" y="106"/>
                  </a:lnTo>
                  <a:lnTo>
                    <a:pt x="38" y="146"/>
                  </a:lnTo>
                  <a:lnTo>
                    <a:pt x="17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0" y="404"/>
                  </a:lnTo>
                  <a:lnTo>
                    <a:pt x="79" y="421"/>
                  </a:lnTo>
                  <a:lnTo>
                    <a:pt x="112" y="430"/>
                  </a:lnTo>
                  <a:lnTo>
                    <a:pt x="1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6600" y="5533920"/>
              <a:ext cx="141480" cy="15192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52" y="152"/>
                  </a:moveTo>
                  <a:lnTo>
                    <a:pt x="66" y="149"/>
                  </a:lnTo>
                  <a:lnTo>
                    <a:pt x="78" y="145"/>
                  </a:lnTo>
                  <a:lnTo>
                    <a:pt x="92" y="137"/>
                  </a:lnTo>
                  <a:lnTo>
                    <a:pt x="104" y="126"/>
                  </a:lnTo>
                  <a:lnTo>
                    <a:pt x="114" y="114"/>
                  </a:lnTo>
                  <a:lnTo>
                    <a:pt x="123" y="102"/>
                  </a:lnTo>
                  <a:lnTo>
                    <a:pt x="130" y="88"/>
                  </a:lnTo>
                  <a:lnTo>
                    <a:pt x="135" y="71"/>
                  </a:lnTo>
                  <a:lnTo>
                    <a:pt x="135" y="43"/>
                  </a:lnTo>
                  <a:lnTo>
                    <a:pt x="125" y="19"/>
                  </a:lnTo>
                  <a:lnTo>
                    <a:pt x="109" y="5"/>
                  </a:lnTo>
                  <a:lnTo>
                    <a:pt x="83" y="0"/>
                  </a:lnTo>
                  <a:lnTo>
                    <a:pt x="69" y="3"/>
                  </a:lnTo>
                  <a:lnTo>
                    <a:pt x="57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2" y="83"/>
                  </a:lnTo>
                  <a:lnTo>
                    <a:pt x="0" y="111"/>
                  </a:lnTo>
                  <a:lnTo>
                    <a:pt x="9" y="135"/>
                  </a:lnTo>
                  <a:lnTo>
                    <a:pt x="28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33920" y="5395680"/>
              <a:ext cx="411120" cy="431640"/>
            </a:xfrm>
            <a:custGeom>
              <a:avLst/>
              <a:gdLst/>
              <a:ahLst/>
              <a:rect l="l" t="t" r="r" b="b"/>
              <a:pathLst>
                <a:path w="393" h="433">
                  <a:moveTo>
                    <a:pt x="152" y="433"/>
                  </a:moveTo>
                  <a:lnTo>
                    <a:pt x="190" y="426"/>
                  </a:lnTo>
                  <a:lnTo>
                    <a:pt x="230" y="411"/>
                  </a:lnTo>
                  <a:lnTo>
                    <a:pt x="266" y="388"/>
                  </a:lnTo>
                  <a:lnTo>
                    <a:pt x="299" y="359"/>
                  </a:lnTo>
                  <a:lnTo>
                    <a:pt x="329" y="326"/>
                  </a:lnTo>
                  <a:lnTo>
                    <a:pt x="356" y="286"/>
                  </a:lnTo>
                  <a:lnTo>
                    <a:pt x="374" y="246"/>
                  </a:lnTo>
                  <a:lnTo>
                    <a:pt x="389" y="201"/>
                  </a:lnTo>
                  <a:lnTo>
                    <a:pt x="393" y="158"/>
                  </a:lnTo>
                  <a:lnTo>
                    <a:pt x="391" y="118"/>
                  </a:lnTo>
                  <a:lnTo>
                    <a:pt x="382" y="82"/>
                  </a:lnTo>
                  <a:lnTo>
                    <a:pt x="367" y="52"/>
                  </a:lnTo>
                  <a:lnTo>
                    <a:pt x="344" y="28"/>
                  </a:lnTo>
                  <a:lnTo>
                    <a:pt x="315" y="1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4" y="7"/>
                  </a:lnTo>
                  <a:lnTo>
                    <a:pt x="166" y="21"/>
                  </a:lnTo>
                  <a:lnTo>
                    <a:pt x="128" y="45"/>
                  </a:lnTo>
                  <a:lnTo>
                    <a:pt x="95" y="73"/>
                  </a:lnTo>
                  <a:lnTo>
                    <a:pt x="64" y="106"/>
                  </a:lnTo>
                  <a:lnTo>
                    <a:pt x="38" y="146"/>
                  </a:lnTo>
                  <a:lnTo>
                    <a:pt x="19" y="187"/>
                  </a:lnTo>
                  <a:lnTo>
                    <a:pt x="5" y="232"/>
                  </a:lnTo>
                  <a:lnTo>
                    <a:pt x="0" y="274"/>
                  </a:lnTo>
                  <a:lnTo>
                    <a:pt x="3" y="314"/>
                  </a:lnTo>
                  <a:lnTo>
                    <a:pt x="12" y="350"/>
                  </a:lnTo>
                  <a:lnTo>
                    <a:pt x="29" y="378"/>
                  </a:lnTo>
                  <a:lnTo>
                    <a:pt x="52" y="404"/>
                  </a:lnTo>
                  <a:lnTo>
                    <a:pt x="81" y="421"/>
                  </a:lnTo>
                  <a:lnTo>
                    <a:pt x="114" y="430"/>
                  </a:lnTo>
                  <a:lnTo>
                    <a:pt x="152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67120" y="5533920"/>
              <a:ext cx="144720" cy="151920"/>
            </a:xfrm>
            <a:custGeom>
              <a:avLst/>
              <a:gdLst/>
              <a:ahLst/>
              <a:rect l="l" t="t" r="r" b="b"/>
              <a:pathLst>
                <a:path w="138" h="152">
                  <a:moveTo>
                    <a:pt x="52" y="152"/>
                  </a:moveTo>
                  <a:lnTo>
                    <a:pt x="67" y="149"/>
                  </a:lnTo>
                  <a:lnTo>
                    <a:pt x="81" y="145"/>
                  </a:lnTo>
                  <a:lnTo>
                    <a:pt x="93" y="137"/>
                  </a:lnTo>
                  <a:lnTo>
                    <a:pt x="107" y="126"/>
                  </a:lnTo>
                  <a:lnTo>
                    <a:pt x="116" y="114"/>
                  </a:lnTo>
                  <a:lnTo>
                    <a:pt x="126" y="102"/>
                  </a:lnTo>
                  <a:lnTo>
                    <a:pt x="133" y="88"/>
                  </a:lnTo>
                  <a:lnTo>
                    <a:pt x="138" y="71"/>
                  </a:lnTo>
                  <a:lnTo>
                    <a:pt x="138" y="43"/>
                  </a:lnTo>
                  <a:lnTo>
                    <a:pt x="128" y="19"/>
                  </a:lnTo>
                  <a:lnTo>
                    <a:pt x="112" y="5"/>
                  </a:lnTo>
                  <a:lnTo>
                    <a:pt x="85" y="0"/>
                  </a:lnTo>
                  <a:lnTo>
                    <a:pt x="71" y="3"/>
                  </a:lnTo>
                  <a:lnTo>
                    <a:pt x="59" y="7"/>
                  </a:lnTo>
                  <a:lnTo>
                    <a:pt x="45" y="17"/>
                  </a:lnTo>
                  <a:lnTo>
                    <a:pt x="33" y="26"/>
                  </a:lnTo>
                  <a:lnTo>
                    <a:pt x="24" y="38"/>
                  </a:lnTo>
                  <a:lnTo>
                    <a:pt x="14" y="52"/>
                  </a:lnTo>
                  <a:lnTo>
                    <a:pt x="7" y="66"/>
                  </a:lnTo>
                  <a:lnTo>
                    <a:pt x="3" y="83"/>
                  </a:lnTo>
                  <a:lnTo>
                    <a:pt x="0" y="111"/>
                  </a:lnTo>
                  <a:lnTo>
                    <a:pt x="10" y="135"/>
                  </a:lnTo>
                  <a:lnTo>
                    <a:pt x="29" y="149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16160" y="5311800"/>
              <a:ext cx="458640" cy="90000"/>
            </a:xfrm>
            <a:custGeom>
              <a:avLst/>
              <a:gdLst/>
              <a:ahLst/>
              <a:rect l="l" t="t" r="r" b="b"/>
              <a:pathLst>
                <a:path w="437" h="90">
                  <a:moveTo>
                    <a:pt x="430" y="47"/>
                  </a:moveTo>
                  <a:lnTo>
                    <a:pt x="437" y="57"/>
                  </a:lnTo>
                  <a:lnTo>
                    <a:pt x="437" y="71"/>
                  </a:lnTo>
                  <a:lnTo>
                    <a:pt x="428" y="83"/>
                  </a:lnTo>
                  <a:lnTo>
                    <a:pt x="411" y="90"/>
                  </a:lnTo>
                  <a:lnTo>
                    <a:pt x="397" y="90"/>
                  </a:lnTo>
                  <a:lnTo>
                    <a:pt x="378" y="90"/>
                  </a:lnTo>
                  <a:lnTo>
                    <a:pt x="355" y="87"/>
                  </a:lnTo>
                  <a:lnTo>
                    <a:pt x="329" y="85"/>
                  </a:lnTo>
                  <a:lnTo>
                    <a:pt x="298" y="80"/>
                  </a:lnTo>
                  <a:lnTo>
                    <a:pt x="267" y="75"/>
                  </a:lnTo>
                  <a:lnTo>
                    <a:pt x="236" y="71"/>
                  </a:lnTo>
                  <a:lnTo>
                    <a:pt x="203" y="66"/>
                  </a:lnTo>
                  <a:lnTo>
                    <a:pt x="170" y="61"/>
                  </a:lnTo>
                  <a:lnTo>
                    <a:pt x="139" y="57"/>
                  </a:lnTo>
                  <a:lnTo>
                    <a:pt x="111" y="52"/>
                  </a:lnTo>
                  <a:lnTo>
                    <a:pt x="85" y="49"/>
                  </a:lnTo>
                  <a:lnTo>
                    <a:pt x="61" y="45"/>
                  </a:lnTo>
                  <a:lnTo>
                    <a:pt x="42" y="42"/>
                  </a:lnTo>
                  <a:lnTo>
                    <a:pt x="28" y="40"/>
                  </a:lnTo>
                  <a:lnTo>
                    <a:pt x="21" y="40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11" y="2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66" y="2"/>
                  </a:lnTo>
                  <a:lnTo>
                    <a:pt x="87" y="4"/>
                  </a:lnTo>
                  <a:lnTo>
                    <a:pt x="111" y="7"/>
                  </a:lnTo>
                  <a:lnTo>
                    <a:pt x="139" y="12"/>
                  </a:lnTo>
                  <a:lnTo>
                    <a:pt x="172" y="14"/>
                  </a:lnTo>
                  <a:lnTo>
                    <a:pt x="205" y="19"/>
                  </a:lnTo>
                  <a:lnTo>
                    <a:pt x="239" y="21"/>
                  </a:lnTo>
                  <a:lnTo>
                    <a:pt x="272" y="26"/>
                  </a:lnTo>
                  <a:lnTo>
                    <a:pt x="305" y="28"/>
                  </a:lnTo>
                  <a:lnTo>
                    <a:pt x="336" y="33"/>
                  </a:lnTo>
                  <a:lnTo>
                    <a:pt x="364" y="35"/>
                  </a:lnTo>
                  <a:lnTo>
                    <a:pt x="388" y="40"/>
                  </a:lnTo>
                  <a:lnTo>
                    <a:pt x="409" y="42"/>
                  </a:lnTo>
                  <a:lnTo>
                    <a:pt x="423" y="45"/>
                  </a:lnTo>
                  <a:lnTo>
                    <a:pt x="4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17680" y="5457600"/>
              <a:ext cx="311400" cy="536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79" y="15"/>
                  </a:moveTo>
                  <a:lnTo>
                    <a:pt x="291" y="22"/>
                  </a:lnTo>
                  <a:lnTo>
                    <a:pt x="296" y="36"/>
                  </a:lnTo>
                  <a:lnTo>
                    <a:pt x="291" y="48"/>
                  </a:lnTo>
                  <a:lnTo>
                    <a:pt x="277" y="53"/>
                  </a:lnTo>
                  <a:lnTo>
                    <a:pt x="248" y="53"/>
                  </a:lnTo>
                  <a:lnTo>
                    <a:pt x="213" y="53"/>
                  </a:lnTo>
                  <a:lnTo>
                    <a:pt x="175" y="50"/>
                  </a:lnTo>
                  <a:lnTo>
                    <a:pt x="135" y="48"/>
                  </a:lnTo>
                  <a:lnTo>
                    <a:pt x="97" y="45"/>
                  </a:lnTo>
                  <a:lnTo>
                    <a:pt x="64" y="43"/>
                  </a:lnTo>
                  <a:lnTo>
                    <a:pt x="40" y="43"/>
                  </a:lnTo>
                  <a:lnTo>
                    <a:pt x="23" y="43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9" y="8"/>
                  </a:lnTo>
                  <a:lnTo>
                    <a:pt x="37" y="0"/>
                  </a:lnTo>
                  <a:lnTo>
                    <a:pt x="56" y="0"/>
                  </a:lnTo>
                  <a:lnTo>
                    <a:pt x="85" y="3"/>
                  </a:lnTo>
                  <a:lnTo>
                    <a:pt x="123" y="5"/>
                  </a:lnTo>
                  <a:lnTo>
                    <a:pt x="163" y="5"/>
                  </a:lnTo>
                  <a:lnTo>
                    <a:pt x="201" y="8"/>
                  </a:lnTo>
                  <a:lnTo>
                    <a:pt x="236" y="10"/>
                  </a:lnTo>
                  <a:lnTo>
                    <a:pt x="262" y="12"/>
                  </a:lnTo>
                  <a:lnTo>
                    <a:pt x="27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8800" y="5546520"/>
              <a:ext cx="552240" cy="90360"/>
            </a:xfrm>
            <a:custGeom>
              <a:avLst/>
              <a:gdLst/>
              <a:ahLst/>
              <a:rect l="l" t="t" r="r" b="b"/>
              <a:pathLst>
                <a:path w="526" h="92">
                  <a:moveTo>
                    <a:pt x="509" y="0"/>
                  </a:moveTo>
                  <a:lnTo>
                    <a:pt x="521" y="10"/>
                  </a:lnTo>
                  <a:lnTo>
                    <a:pt x="526" y="26"/>
                  </a:lnTo>
                  <a:lnTo>
                    <a:pt x="514" y="43"/>
                  </a:lnTo>
                  <a:lnTo>
                    <a:pt x="483" y="50"/>
                  </a:lnTo>
                  <a:lnTo>
                    <a:pt x="469" y="52"/>
                  </a:lnTo>
                  <a:lnTo>
                    <a:pt x="445" y="52"/>
                  </a:lnTo>
                  <a:lnTo>
                    <a:pt x="419" y="54"/>
                  </a:lnTo>
                  <a:lnTo>
                    <a:pt x="386" y="57"/>
                  </a:lnTo>
                  <a:lnTo>
                    <a:pt x="351" y="62"/>
                  </a:lnTo>
                  <a:lnTo>
                    <a:pt x="313" y="64"/>
                  </a:lnTo>
                  <a:lnTo>
                    <a:pt x="273" y="69"/>
                  </a:lnTo>
                  <a:lnTo>
                    <a:pt x="235" y="71"/>
                  </a:lnTo>
                  <a:lnTo>
                    <a:pt x="194" y="73"/>
                  </a:lnTo>
                  <a:lnTo>
                    <a:pt x="156" y="78"/>
                  </a:lnTo>
                  <a:lnTo>
                    <a:pt x="119" y="81"/>
                  </a:lnTo>
                  <a:lnTo>
                    <a:pt x="88" y="85"/>
                  </a:lnTo>
                  <a:lnTo>
                    <a:pt x="59" y="88"/>
                  </a:lnTo>
                  <a:lnTo>
                    <a:pt x="36" y="90"/>
                  </a:lnTo>
                  <a:lnTo>
                    <a:pt x="22" y="90"/>
                  </a:lnTo>
                  <a:lnTo>
                    <a:pt x="12" y="92"/>
                  </a:lnTo>
                  <a:lnTo>
                    <a:pt x="5" y="90"/>
                  </a:lnTo>
                  <a:lnTo>
                    <a:pt x="0" y="85"/>
                  </a:lnTo>
                  <a:lnTo>
                    <a:pt x="3" y="78"/>
                  </a:lnTo>
                  <a:lnTo>
                    <a:pt x="12" y="69"/>
                  </a:lnTo>
                  <a:lnTo>
                    <a:pt x="26" y="62"/>
                  </a:lnTo>
                  <a:lnTo>
                    <a:pt x="50" y="52"/>
                  </a:lnTo>
                  <a:lnTo>
                    <a:pt x="83" y="45"/>
                  </a:lnTo>
                  <a:lnTo>
                    <a:pt x="126" y="40"/>
                  </a:lnTo>
                  <a:lnTo>
                    <a:pt x="135" y="40"/>
                  </a:lnTo>
                  <a:lnTo>
                    <a:pt x="152" y="38"/>
                  </a:lnTo>
                  <a:lnTo>
                    <a:pt x="171" y="36"/>
                  </a:lnTo>
                  <a:lnTo>
                    <a:pt x="197" y="33"/>
                  </a:lnTo>
                  <a:lnTo>
                    <a:pt x="225" y="28"/>
                  </a:lnTo>
                  <a:lnTo>
                    <a:pt x="256" y="26"/>
                  </a:lnTo>
                  <a:lnTo>
                    <a:pt x="287" y="21"/>
                  </a:lnTo>
                  <a:lnTo>
                    <a:pt x="322" y="17"/>
                  </a:lnTo>
                  <a:lnTo>
                    <a:pt x="353" y="14"/>
                  </a:lnTo>
                  <a:lnTo>
                    <a:pt x="386" y="10"/>
                  </a:lnTo>
                  <a:lnTo>
                    <a:pt x="417" y="7"/>
                  </a:lnTo>
                  <a:lnTo>
                    <a:pt x="443" y="5"/>
                  </a:lnTo>
                  <a:lnTo>
                    <a:pt x="469" y="2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00200" y="5103720"/>
              <a:ext cx="608040" cy="396360"/>
            </a:xfrm>
            <a:custGeom>
              <a:avLst/>
              <a:gdLst/>
              <a:ahLst/>
              <a:rect l="l" t="t" r="r" b="b"/>
              <a:pathLst>
                <a:path w="580" h="398">
                  <a:moveTo>
                    <a:pt x="197" y="169"/>
                  </a:moveTo>
                  <a:lnTo>
                    <a:pt x="135" y="161"/>
                  </a:lnTo>
                  <a:lnTo>
                    <a:pt x="83" y="173"/>
                  </a:lnTo>
                  <a:lnTo>
                    <a:pt x="43" y="202"/>
                  </a:lnTo>
                  <a:lnTo>
                    <a:pt x="15" y="240"/>
                  </a:lnTo>
                  <a:lnTo>
                    <a:pt x="0" y="282"/>
                  </a:lnTo>
                  <a:lnTo>
                    <a:pt x="3" y="327"/>
                  </a:lnTo>
                  <a:lnTo>
                    <a:pt x="24" y="365"/>
                  </a:lnTo>
                  <a:lnTo>
                    <a:pt x="67" y="396"/>
                  </a:lnTo>
                  <a:lnTo>
                    <a:pt x="83" y="398"/>
                  </a:lnTo>
                  <a:lnTo>
                    <a:pt x="93" y="391"/>
                  </a:lnTo>
                  <a:lnTo>
                    <a:pt x="90" y="379"/>
                  </a:lnTo>
                  <a:lnTo>
                    <a:pt x="81" y="370"/>
                  </a:lnTo>
                  <a:lnTo>
                    <a:pt x="50" y="344"/>
                  </a:lnTo>
                  <a:lnTo>
                    <a:pt x="38" y="311"/>
                  </a:lnTo>
                  <a:lnTo>
                    <a:pt x="41" y="277"/>
                  </a:lnTo>
                  <a:lnTo>
                    <a:pt x="60" y="244"/>
                  </a:lnTo>
                  <a:lnTo>
                    <a:pt x="88" y="221"/>
                  </a:lnTo>
                  <a:lnTo>
                    <a:pt x="126" y="206"/>
                  </a:lnTo>
                  <a:lnTo>
                    <a:pt x="168" y="209"/>
                  </a:lnTo>
                  <a:lnTo>
                    <a:pt x="213" y="232"/>
                  </a:lnTo>
                  <a:lnTo>
                    <a:pt x="225" y="235"/>
                  </a:lnTo>
                  <a:lnTo>
                    <a:pt x="235" y="228"/>
                  </a:lnTo>
                  <a:lnTo>
                    <a:pt x="237" y="216"/>
                  </a:lnTo>
                  <a:lnTo>
                    <a:pt x="237" y="202"/>
                  </a:lnTo>
                  <a:lnTo>
                    <a:pt x="237" y="154"/>
                  </a:lnTo>
                  <a:lnTo>
                    <a:pt x="251" y="116"/>
                  </a:lnTo>
                  <a:lnTo>
                    <a:pt x="277" y="88"/>
                  </a:lnTo>
                  <a:lnTo>
                    <a:pt x="313" y="71"/>
                  </a:lnTo>
                  <a:lnTo>
                    <a:pt x="351" y="69"/>
                  </a:lnTo>
                  <a:lnTo>
                    <a:pt x="389" y="79"/>
                  </a:lnTo>
                  <a:lnTo>
                    <a:pt x="419" y="105"/>
                  </a:lnTo>
                  <a:lnTo>
                    <a:pt x="443" y="147"/>
                  </a:lnTo>
                  <a:lnTo>
                    <a:pt x="450" y="159"/>
                  </a:lnTo>
                  <a:lnTo>
                    <a:pt x="462" y="157"/>
                  </a:lnTo>
                  <a:lnTo>
                    <a:pt x="472" y="147"/>
                  </a:lnTo>
                  <a:lnTo>
                    <a:pt x="479" y="133"/>
                  </a:lnTo>
                  <a:lnTo>
                    <a:pt x="488" y="105"/>
                  </a:lnTo>
                  <a:lnTo>
                    <a:pt x="502" y="90"/>
                  </a:lnTo>
                  <a:lnTo>
                    <a:pt x="514" y="88"/>
                  </a:lnTo>
                  <a:lnTo>
                    <a:pt x="526" y="93"/>
                  </a:lnTo>
                  <a:lnTo>
                    <a:pt x="535" y="107"/>
                  </a:lnTo>
                  <a:lnTo>
                    <a:pt x="540" y="124"/>
                  </a:lnTo>
                  <a:lnTo>
                    <a:pt x="538" y="142"/>
                  </a:lnTo>
                  <a:lnTo>
                    <a:pt x="531" y="161"/>
                  </a:lnTo>
                  <a:lnTo>
                    <a:pt x="528" y="171"/>
                  </a:lnTo>
                  <a:lnTo>
                    <a:pt x="538" y="178"/>
                  </a:lnTo>
                  <a:lnTo>
                    <a:pt x="554" y="169"/>
                  </a:lnTo>
                  <a:lnTo>
                    <a:pt x="576" y="133"/>
                  </a:lnTo>
                  <a:lnTo>
                    <a:pt x="580" y="114"/>
                  </a:lnTo>
                  <a:lnTo>
                    <a:pt x="576" y="95"/>
                  </a:lnTo>
                  <a:lnTo>
                    <a:pt x="569" y="74"/>
                  </a:lnTo>
                  <a:lnTo>
                    <a:pt x="554" y="57"/>
                  </a:lnTo>
                  <a:lnTo>
                    <a:pt x="538" y="48"/>
                  </a:lnTo>
                  <a:lnTo>
                    <a:pt x="516" y="43"/>
                  </a:lnTo>
                  <a:lnTo>
                    <a:pt x="493" y="50"/>
                  </a:lnTo>
                  <a:lnTo>
                    <a:pt x="467" y="69"/>
                  </a:lnTo>
                  <a:lnTo>
                    <a:pt x="445" y="38"/>
                  </a:lnTo>
                  <a:lnTo>
                    <a:pt x="412" y="15"/>
                  </a:lnTo>
                  <a:lnTo>
                    <a:pt x="370" y="0"/>
                  </a:lnTo>
                  <a:lnTo>
                    <a:pt x="322" y="0"/>
                  </a:lnTo>
                  <a:lnTo>
                    <a:pt x="277" y="17"/>
                  </a:lnTo>
                  <a:lnTo>
                    <a:pt x="237" y="48"/>
                  </a:lnTo>
                  <a:lnTo>
                    <a:pt x="209" y="98"/>
                  </a:lnTo>
                  <a:lnTo>
                    <a:pt x="19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01800" y="5373720"/>
              <a:ext cx="304920" cy="387000"/>
            </a:xfrm>
            <a:custGeom>
              <a:avLst/>
              <a:gdLst/>
              <a:ahLst/>
              <a:rect l="l" t="t" r="r" b="b"/>
              <a:pathLst>
                <a:path w="291" h="388">
                  <a:moveTo>
                    <a:pt x="277" y="343"/>
                  </a:moveTo>
                  <a:lnTo>
                    <a:pt x="287" y="336"/>
                  </a:lnTo>
                  <a:lnTo>
                    <a:pt x="291" y="327"/>
                  </a:lnTo>
                  <a:lnTo>
                    <a:pt x="289" y="320"/>
                  </a:lnTo>
                  <a:lnTo>
                    <a:pt x="284" y="313"/>
                  </a:lnTo>
                  <a:lnTo>
                    <a:pt x="275" y="310"/>
                  </a:lnTo>
                  <a:lnTo>
                    <a:pt x="265" y="308"/>
                  </a:lnTo>
                  <a:lnTo>
                    <a:pt x="253" y="308"/>
                  </a:lnTo>
                  <a:lnTo>
                    <a:pt x="242" y="313"/>
                  </a:lnTo>
                  <a:lnTo>
                    <a:pt x="192" y="329"/>
                  </a:lnTo>
                  <a:lnTo>
                    <a:pt x="149" y="329"/>
                  </a:lnTo>
                  <a:lnTo>
                    <a:pt x="114" y="317"/>
                  </a:lnTo>
                  <a:lnTo>
                    <a:pt x="88" y="294"/>
                  </a:lnTo>
                  <a:lnTo>
                    <a:pt x="71" y="268"/>
                  </a:lnTo>
                  <a:lnTo>
                    <a:pt x="66" y="237"/>
                  </a:lnTo>
                  <a:lnTo>
                    <a:pt x="76" y="209"/>
                  </a:lnTo>
                  <a:lnTo>
                    <a:pt x="97" y="185"/>
                  </a:lnTo>
                  <a:lnTo>
                    <a:pt x="114" y="171"/>
                  </a:lnTo>
                  <a:lnTo>
                    <a:pt x="114" y="161"/>
                  </a:lnTo>
                  <a:lnTo>
                    <a:pt x="104" y="154"/>
                  </a:lnTo>
                  <a:lnTo>
                    <a:pt x="92" y="147"/>
                  </a:lnTo>
                  <a:lnTo>
                    <a:pt x="59" y="114"/>
                  </a:lnTo>
                  <a:lnTo>
                    <a:pt x="50" y="85"/>
                  </a:lnTo>
                  <a:lnTo>
                    <a:pt x="57" y="67"/>
                  </a:lnTo>
                  <a:lnTo>
                    <a:pt x="74" y="52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47" y="64"/>
                  </a:lnTo>
                  <a:lnTo>
                    <a:pt x="159" y="85"/>
                  </a:lnTo>
                  <a:lnTo>
                    <a:pt x="171" y="104"/>
                  </a:lnTo>
                  <a:lnTo>
                    <a:pt x="190" y="112"/>
                  </a:lnTo>
                  <a:lnTo>
                    <a:pt x="204" y="104"/>
                  </a:lnTo>
                  <a:lnTo>
                    <a:pt x="208" y="85"/>
                  </a:lnTo>
                  <a:lnTo>
                    <a:pt x="201" y="67"/>
                  </a:lnTo>
                  <a:lnTo>
                    <a:pt x="192" y="48"/>
                  </a:lnTo>
                  <a:lnTo>
                    <a:pt x="175" y="31"/>
                  </a:lnTo>
                  <a:lnTo>
                    <a:pt x="156" y="14"/>
                  </a:lnTo>
                  <a:lnTo>
                    <a:pt x="130" y="5"/>
                  </a:lnTo>
                  <a:lnTo>
                    <a:pt x="102" y="0"/>
                  </a:lnTo>
                  <a:lnTo>
                    <a:pt x="69" y="7"/>
                  </a:lnTo>
                  <a:lnTo>
                    <a:pt x="31" y="24"/>
                  </a:lnTo>
                  <a:lnTo>
                    <a:pt x="19" y="36"/>
                  </a:lnTo>
                  <a:lnTo>
                    <a:pt x="10" y="50"/>
                  </a:lnTo>
                  <a:lnTo>
                    <a:pt x="5" y="69"/>
                  </a:lnTo>
                  <a:lnTo>
                    <a:pt x="3" y="88"/>
                  </a:lnTo>
                  <a:lnTo>
                    <a:pt x="7" y="109"/>
                  </a:lnTo>
                  <a:lnTo>
                    <a:pt x="17" y="126"/>
                  </a:lnTo>
                  <a:lnTo>
                    <a:pt x="31" y="142"/>
                  </a:lnTo>
                  <a:lnTo>
                    <a:pt x="55" y="154"/>
                  </a:lnTo>
                  <a:lnTo>
                    <a:pt x="17" y="187"/>
                  </a:lnTo>
                  <a:lnTo>
                    <a:pt x="0" y="232"/>
                  </a:lnTo>
                  <a:lnTo>
                    <a:pt x="0" y="282"/>
                  </a:lnTo>
                  <a:lnTo>
                    <a:pt x="21" y="332"/>
                  </a:lnTo>
                  <a:lnTo>
                    <a:pt x="59" y="369"/>
                  </a:lnTo>
                  <a:lnTo>
                    <a:pt x="114" y="388"/>
                  </a:lnTo>
                  <a:lnTo>
                    <a:pt x="187" y="384"/>
                  </a:lnTo>
                  <a:lnTo>
                    <a:pt x="277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27440" y="4648320"/>
              <a:ext cx="2697120" cy="948960"/>
            </a:xfrm>
            <a:custGeom>
              <a:avLst/>
              <a:gdLst/>
              <a:ahLst/>
              <a:rect l="l" t="t" r="r" b="b"/>
              <a:pathLst>
                <a:path w="2573" h="951">
                  <a:moveTo>
                    <a:pt x="1626" y="59"/>
                  </a:moveTo>
                  <a:lnTo>
                    <a:pt x="1650" y="80"/>
                  </a:lnTo>
                  <a:lnTo>
                    <a:pt x="1683" y="118"/>
                  </a:lnTo>
                  <a:lnTo>
                    <a:pt x="1721" y="172"/>
                  </a:lnTo>
                  <a:lnTo>
                    <a:pt x="1761" y="229"/>
                  </a:lnTo>
                  <a:lnTo>
                    <a:pt x="1799" y="291"/>
                  </a:lnTo>
                  <a:lnTo>
                    <a:pt x="1835" y="343"/>
                  </a:lnTo>
                  <a:lnTo>
                    <a:pt x="1863" y="385"/>
                  </a:lnTo>
                  <a:lnTo>
                    <a:pt x="1882" y="409"/>
                  </a:lnTo>
                  <a:lnTo>
                    <a:pt x="1896" y="414"/>
                  </a:lnTo>
                  <a:lnTo>
                    <a:pt x="1920" y="421"/>
                  </a:lnTo>
                  <a:lnTo>
                    <a:pt x="1955" y="428"/>
                  </a:lnTo>
                  <a:lnTo>
                    <a:pt x="1998" y="433"/>
                  </a:lnTo>
                  <a:lnTo>
                    <a:pt x="2050" y="442"/>
                  </a:lnTo>
                  <a:lnTo>
                    <a:pt x="2105" y="449"/>
                  </a:lnTo>
                  <a:lnTo>
                    <a:pt x="2164" y="456"/>
                  </a:lnTo>
                  <a:lnTo>
                    <a:pt x="2223" y="466"/>
                  </a:lnTo>
                  <a:lnTo>
                    <a:pt x="2282" y="478"/>
                  </a:lnTo>
                  <a:lnTo>
                    <a:pt x="2341" y="490"/>
                  </a:lnTo>
                  <a:lnTo>
                    <a:pt x="2396" y="501"/>
                  </a:lnTo>
                  <a:lnTo>
                    <a:pt x="2445" y="516"/>
                  </a:lnTo>
                  <a:lnTo>
                    <a:pt x="2488" y="532"/>
                  </a:lnTo>
                  <a:lnTo>
                    <a:pt x="2524" y="549"/>
                  </a:lnTo>
                  <a:lnTo>
                    <a:pt x="2547" y="568"/>
                  </a:lnTo>
                  <a:lnTo>
                    <a:pt x="2561" y="589"/>
                  </a:lnTo>
                  <a:lnTo>
                    <a:pt x="2571" y="627"/>
                  </a:lnTo>
                  <a:lnTo>
                    <a:pt x="2573" y="660"/>
                  </a:lnTo>
                  <a:lnTo>
                    <a:pt x="2569" y="684"/>
                  </a:lnTo>
                  <a:lnTo>
                    <a:pt x="2561" y="705"/>
                  </a:lnTo>
                  <a:lnTo>
                    <a:pt x="2550" y="719"/>
                  </a:lnTo>
                  <a:lnTo>
                    <a:pt x="2535" y="731"/>
                  </a:lnTo>
                  <a:lnTo>
                    <a:pt x="2521" y="740"/>
                  </a:lnTo>
                  <a:lnTo>
                    <a:pt x="2509" y="750"/>
                  </a:lnTo>
                  <a:lnTo>
                    <a:pt x="2521" y="788"/>
                  </a:lnTo>
                  <a:lnTo>
                    <a:pt x="2524" y="828"/>
                  </a:lnTo>
                  <a:lnTo>
                    <a:pt x="2512" y="871"/>
                  </a:lnTo>
                  <a:lnTo>
                    <a:pt x="2490" y="909"/>
                  </a:lnTo>
                  <a:lnTo>
                    <a:pt x="2457" y="937"/>
                  </a:lnTo>
                  <a:lnTo>
                    <a:pt x="2415" y="951"/>
                  </a:lnTo>
                  <a:lnTo>
                    <a:pt x="2365" y="951"/>
                  </a:lnTo>
                  <a:lnTo>
                    <a:pt x="2306" y="927"/>
                  </a:lnTo>
                  <a:lnTo>
                    <a:pt x="2289" y="927"/>
                  </a:lnTo>
                  <a:lnTo>
                    <a:pt x="2270" y="930"/>
                  </a:lnTo>
                  <a:lnTo>
                    <a:pt x="2251" y="927"/>
                  </a:lnTo>
                  <a:lnTo>
                    <a:pt x="2232" y="927"/>
                  </a:lnTo>
                  <a:lnTo>
                    <a:pt x="2211" y="925"/>
                  </a:lnTo>
                  <a:lnTo>
                    <a:pt x="2195" y="925"/>
                  </a:lnTo>
                  <a:lnTo>
                    <a:pt x="2180" y="923"/>
                  </a:lnTo>
                  <a:lnTo>
                    <a:pt x="2171" y="923"/>
                  </a:lnTo>
                  <a:lnTo>
                    <a:pt x="2168" y="901"/>
                  </a:lnTo>
                  <a:lnTo>
                    <a:pt x="2168" y="875"/>
                  </a:lnTo>
                  <a:lnTo>
                    <a:pt x="2168" y="847"/>
                  </a:lnTo>
                  <a:lnTo>
                    <a:pt x="2166" y="819"/>
                  </a:lnTo>
                  <a:lnTo>
                    <a:pt x="2159" y="790"/>
                  </a:lnTo>
                  <a:lnTo>
                    <a:pt x="2147" y="764"/>
                  </a:lnTo>
                  <a:lnTo>
                    <a:pt x="2128" y="740"/>
                  </a:lnTo>
                  <a:lnTo>
                    <a:pt x="2102" y="719"/>
                  </a:lnTo>
                  <a:lnTo>
                    <a:pt x="2079" y="707"/>
                  </a:lnTo>
                  <a:lnTo>
                    <a:pt x="2055" y="700"/>
                  </a:lnTo>
                  <a:lnTo>
                    <a:pt x="2029" y="696"/>
                  </a:lnTo>
                  <a:lnTo>
                    <a:pt x="2000" y="696"/>
                  </a:lnTo>
                  <a:lnTo>
                    <a:pt x="1974" y="698"/>
                  </a:lnTo>
                  <a:lnTo>
                    <a:pt x="1946" y="703"/>
                  </a:lnTo>
                  <a:lnTo>
                    <a:pt x="1918" y="712"/>
                  </a:lnTo>
                  <a:lnTo>
                    <a:pt x="1889" y="724"/>
                  </a:lnTo>
                  <a:lnTo>
                    <a:pt x="1861" y="740"/>
                  </a:lnTo>
                  <a:lnTo>
                    <a:pt x="1835" y="757"/>
                  </a:lnTo>
                  <a:lnTo>
                    <a:pt x="1809" y="778"/>
                  </a:lnTo>
                  <a:lnTo>
                    <a:pt x="1783" y="804"/>
                  </a:lnTo>
                  <a:lnTo>
                    <a:pt x="1759" y="830"/>
                  </a:lnTo>
                  <a:lnTo>
                    <a:pt x="1738" y="859"/>
                  </a:lnTo>
                  <a:lnTo>
                    <a:pt x="1719" y="892"/>
                  </a:lnTo>
                  <a:lnTo>
                    <a:pt x="1700" y="927"/>
                  </a:lnTo>
                  <a:lnTo>
                    <a:pt x="1686" y="930"/>
                  </a:lnTo>
                  <a:lnTo>
                    <a:pt x="1659" y="930"/>
                  </a:lnTo>
                  <a:lnTo>
                    <a:pt x="1624" y="932"/>
                  </a:lnTo>
                  <a:lnTo>
                    <a:pt x="1579" y="932"/>
                  </a:lnTo>
                  <a:lnTo>
                    <a:pt x="1529" y="932"/>
                  </a:lnTo>
                  <a:lnTo>
                    <a:pt x="1472" y="932"/>
                  </a:lnTo>
                  <a:lnTo>
                    <a:pt x="1416" y="930"/>
                  </a:lnTo>
                  <a:lnTo>
                    <a:pt x="1354" y="930"/>
                  </a:lnTo>
                  <a:lnTo>
                    <a:pt x="1295" y="927"/>
                  </a:lnTo>
                  <a:lnTo>
                    <a:pt x="1236" y="927"/>
                  </a:lnTo>
                  <a:lnTo>
                    <a:pt x="1179" y="925"/>
                  </a:lnTo>
                  <a:lnTo>
                    <a:pt x="1129" y="925"/>
                  </a:lnTo>
                  <a:lnTo>
                    <a:pt x="1087" y="925"/>
                  </a:lnTo>
                  <a:lnTo>
                    <a:pt x="1051" y="923"/>
                  </a:lnTo>
                  <a:lnTo>
                    <a:pt x="1025" y="923"/>
                  </a:lnTo>
                  <a:lnTo>
                    <a:pt x="1011" y="923"/>
                  </a:lnTo>
                  <a:lnTo>
                    <a:pt x="1016" y="901"/>
                  </a:lnTo>
                  <a:lnTo>
                    <a:pt x="1018" y="878"/>
                  </a:lnTo>
                  <a:lnTo>
                    <a:pt x="1013" y="854"/>
                  </a:lnTo>
                  <a:lnTo>
                    <a:pt x="1008" y="828"/>
                  </a:lnTo>
                  <a:lnTo>
                    <a:pt x="997" y="804"/>
                  </a:lnTo>
                  <a:lnTo>
                    <a:pt x="985" y="781"/>
                  </a:lnTo>
                  <a:lnTo>
                    <a:pt x="971" y="762"/>
                  </a:lnTo>
                  <a:lnTo>
                    <a:pt x="954" y="745"/>
                  </a:lnTo>
                  <a:lnTo>
                    <a:pt x="940" y="736"/>
                  </a:lnTo>
                  <a:lnTo>
                    <a:pt x="923" y="726"/>
                  </a:lnTo>
                  <a:lnTo>
                    <a:pt x="907" y="717"/>
                  </a:lnTo>
                  <a:lnTo>
                    <a:pt x="888" y="710"/>
                  </a:lnTo>
                  <a:lnTo>
                    <a:pt x="866" y="705"/>
                  </a:lnTo>
                  <a:lnTo>
                    <a:pt x="845" y="703"/>
                  </a:lnTo>
                  <a:lnTo>
                    <a:pt x="819" y="703"/>
                  </a:lnTo>
                  <a:lnTo>
                    <a:pt x="795" y="707"/>
                  </a:lnTo>
                  <a:lnTo>
                    <a:pt x="769" y="714"/>
                  </a:lnTo>
                  <a:lnTo>
                    <a:pt x="741" y="726"/>
                  </a:lnTo>
                  <a:lnTo>
                    <a:pt x="713" y="745"/>
                  </a:lnTo>
                  <a:lnTo>
                    <a:pt x="682" y="767"/>
                  </a:lnTo>
                  <a:lnTo>
                    <a:pt x="651" y="795"/>
                  </a:lnTo>
                  <a:lnTo>
                    <a:pt x="620" y="828"/>
                  </a:lnTo>
                  <a:lnTo>
                    <a:pt x="587" y="871"/>
                  </a:lnTo>
                  <a:lnTo>
                    <a:pt x="554" y="918"/>
                  </a:lnTo>
                  <a:lnTo>
                    <a:pt x="530" y="920"/>
                  </a:lnTo>
                  <a:lnTo>
                    <a:pt x="488" y="920"/>
                  </a:lnTo>
                  <a:lnTo>
                    <a:pt x="436" y="920"/>
                  </a:lnTo>
                  <a:lnTo>
                    <a:pt x="379" y="918"/>
                  </a:lnTo>
                  <a:lnTo>
                    <a:pt x="322" y="916"/>
                  </a:lnTo>
                  <a:lnTo>
                    <a:pt x="275" y="913"/>
                  </a:lnTo>
                  <a:lnTo>
                    <a:pt x="239" y="911"/>
                  </a:lnTo>
                  <a:lnTo>
                    <a:pt x="225" y="911"/>
                  </a:lnTo>
                  <a:lnTo>
                    <a:pt x="215" y="925"/>
                  </a:lnTo>
                  <a:lnTo>
                    <a:pt x="192" y="935"/>
                  </a:lnTo>
                  <a:lnTo>
                    <a:pt x="159" y="944"/>
                  </a:lnTo>
                  <a:lnTo>
                    <a:pt x="121" y="949"/>
                  </a:lnTo>
                  <a:lnTo>
                    <a:pt x="83" y="951"/>
                  </a:lnTo>
                  <a:lnTo>
                    <a:pt x="47" y="949"/>
                  </a:lnTo>
                  <a:lnTo>
                    <a:pt x="19" y="942"/>
                  </a:lnTo>
                  <a:lnTo>
                    <a:pt x="5" y="927"/>
                  </a:lnTo>
                  <a:lnTo>
                    <a:pt x="0" y="897"/>
                  </a:lnTo>
                  <a:lnTo>
                    <a:pt x="2" y="845"/>
                  </a:lnTo>
                  <a:lnTo>
                    <a:pt x="9" y="793"/>
                  </a:lnTo>
                  <a:lnTo>
                    <a:pt x="21" y="762"/>
                  </a:lnTo>
                  <a:lnTo>
                    <a:pt x="28" y="757"/>
                  </a:lnTo>
                  <a:lnTo>
                    <a:pt x="40" y="752"/>
                  </a:lnTo>
                  <a:lnTo>
                    <a:pt x="52" y="750"/>
                  </a:lnTo>
                  <a:lnTo>
                    <a:pt x="66" y="750"/>
                  </a:lnTo>
                  <a:lnTo>
                    <a:pt x="83" y="750"/>
                  </a:lnTo>
                  <a:lnTo>
                    <a:pt x="97" y="752"/>
                  </a:lnTo>
                  <a:lnTo>
                    <a:pt x="114" y="752"/>
                  </a:lnTo>
                  <a:lnTo>
                    <a:pt x="125" y="755"/>
                  </a:lnTo>
                  <a:lnTo>
                    <a:pt x="156" y="688"/>
                  </a:lnTo>
                  <a:lnTo>
                    <a:pt x="189" y="627"/>
                  </a:lnTo>
                  <a:lnTo>
                    <a:pt x="225" y="572"/>
                  </a:lnTo>
                  <a:lnTo>
                    <a:pt x="265" y="525"/>
                  </a:lnTo>
                  <a:lnTo>
                    <a:pt x="308" y="485"/>
                  </a:lnTo>
                  <a:lnTo>
                    <a:pt x="355" y="454"/>
                  </a:lnTo>
                  <a:lnTo>
                    <a:pt x="405" y="433"/>
                  </a:lnTo>
                  <a:lnTo>
                    <a:pt x="459" y="423"/>
                  </a:lnTo>
                  <a:lnTo>
                    <a:pt x="514" y="421"/>
                  </a:lnTo>
                  <a:lnTo>
                    <a:pt x="563" y="421"/>
                  </a:lnTo>
                  <a:lnTo>
                    <a:pt x="611" y="421"/>
                  </a:lnTo>
                  <a:lnTo>
                    <a:pt x="653" y="416"/>
                  </a:lnTo>
                  <a:lnTo>
                    <a:pt x="691" y="412"/>
                  </a:lnTo>
                  <a:lnTo>
                    <a:pt x="724" y="400"/>
                  </a:lnTo>
                  <a:lnTo>
                    <a:pt x="755" y="381"/>
                  </a:lnTo>
                  <a:lnTo>
                    <a:pt x="781" y="355"/>
                  </a:lnTo>
                  <a:lnTo>
                    <a:pt x="805" y="322"/>
                  </a:lnTo>
                  <a:lnTo>
                    <a:pt x="829" y="284"/>
                  </a:lnTo>
                  <a:lnTo>
                    <a:pt x="852" y="243"/>
                  </a:lnTo>
                  <a:lnTo>
                    <a:pt x="873" y="203"/>
                  </a:lnTo>
                  <a:lnTo>
                    <a:pt x="897" y="163"/>
                  </a:lnTo>
                  <a:lnTo>
                    <a:pt x="918" y="128"/>
                  </a:lnTo>
                  <a:lnTo>
                    <a:pt x="942" y="94"/>
                  </a:lnTo>
                  <a:lnTo>
                    <a:pt x="968" y="68"/>
                  </a:lnTo>
                  <a:lnTo>
                    <a:pt x="987" y="57"/>
                  </a:lnTo>
                  <a:lnTo>
                    <a:pt x="1011" y="45"/>
                  </a:lnTo>
                  <a:lnTo>
                    <a:pt x="1039" y="33"/>
                  </a:lnTo>
                  <a:lnTo>
                    <a:pt x="1075" y="23"/>
                  </a:lnTo>
                  <a:lnTo>
                    <a:pt x="1113" y="16"/>
                  </a:lnTo>
                  <a:lnTo>
                    <a:pt x="1155" y="9"/>
                  </a:lnTo>
                  <a:lnTo>
                    <a:pt x="1200" y="4"/>
                  </a:lnTo>
                  <a:lnTo>
                    <a:pt x="1248" y="0"/>
                  </a:lnTo>
                  <a:lnTo>
                    <a:pt x="1295" y="0"/>
                  </a:lnTo>
                  <a:lnTo>
                    <a:pt x="1345" y="0"/>
                  </a:lnTo>
                  <a:lnTo>
                    <a:pt x="1394" y="2"/>
                  </a:lnTo>
                  <a:lnTo>
                    <a:pt x="1444" y="9"/>
                  </a:lnTo>
                  <a:lnTo>
                    <a:pt x="1494" y="16"/>
                  </a:lnTo>
                  <a:lnTo>
                    <a:pt x="1541" y="28"/>
                  </a:lnTo>
                  <a:lnTo>
                    <a:pt x="1584" y="42"/>
                  </a:lnTo>
                  <a:lnTo>
                    <a:pt x="1626" y="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08640" y="5230800"/>
              <a:ext cx="66600" cy="12960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21" y="130"/>
                  </a:moveTo>
                  <a:lnTo>
                    <a:pt x="33" y="128"/>
                  </a:lnTo>
                  <a:lnTo>
                    <a:pt x="45" y="116"/>
                  </a:lnTo>
                  <a:lnTo>
                    <a:pt x="55" y="97"/>
                  </a:lnTo>
                  <a:lnTo>
                    <a:pt x="62" y="74"/>
                  </a:lnTo>
                  <a:lnTo>
                    <a:pt x="64" y="48"/>
                  </a:lnTo>
                  <a:lnTo>
                    <a:pt x="59" y="26"/>
                  </a:lnTo>
                  <a:lnTo>
                    <a:pt x="52" y="1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19" y="14"/>
                  </a:lnTo>
                  <a:lnTo>
                    <a:pt x="10" y="33"/>
                  </a:lnTo>
                  <a:lnTo>
                    <a:pt x="2" y="57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10" y="121"/>
                  </a:lnTo>
                  <a:lnTo>
                    <a:pt x="2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1440" y="5437080"/>
              <a:ext cx="118800" cy="1188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5" y="24"/>
                  </a:moveTo>
                  <a:lnTo>
                    <a:pt x="7" y="10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59" y="5"/>
                  </a:lnTo>
                  <a:lnTo>
                    <a:pt x="78" y="7"/>
                  </a:lnTo>
                  <a:lnTo>
                    <a:pt x="95" y="10"/>
                  </a:lnTo>
                  <a:lnTo>
                    <a:pt x="111" y="7"/>
                  </a:lnTo>
                  <a:lnTo>
                    <a:pt x="111" y="29"/>
                  </a:lnTo>
                  <a:lnTo>
                    <a:pt x="114" y="50"/>
                  </a:lnTo>
                  <a:lnTo>
                    <a:pt x="114" y="71"/>
                  </a:lnTo>
                  <a:lnTo>
                    <a:pt x="111" y="95"/>
                  </a:lnTo>
                  <a:lnTo>
                    <a:pt x="102" y="104"/>
                  </a:lnTo>
                  <a:lnTo>
                    <a:pt x="90" y="114"/>
                  </a:lnTo>
                  <a:lnTo>
                    <a:pt x="76" y="116"/>
                  </a:lnTo>
                  <a:lnTo>
                    <a:pt x="59" y="119"/>
                  </a:lnTo>
                  <a:lnTo>
                    <a:pt x="45" y="119"/>
                  </a:lnTo>
                  <a:lnTo>
                    <a:pt x="31" y="119"/>
                  </a:lnTo>
                  <a:lnTo>
                    <a:pt x="19" y="114"/>
                  </a:lnTo>
                  <a:lnTo>
                    <a:pt x="9" y="111"/>
                  </a:lnTo>
                  <a:lnTo>
                    <a:pt x="2" y="97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2200" y="5443560"/>
              <a:ext cx="163440" cy="107280"/>
            </a:xfrm>
            <a:custGeom>
              <a:avLst/>
              <a:gdLst/>
              <a:ahLst/>
              <a:rect l="l" t="t" r="r" b="b"/>
              <a:pathLst>
                <a:path w="156" h="107">
                  <a:moveTo>
                    <a:pt x="156" y="0"/>
                  </a:moveTo>
                  <a:lnTo>
                    <a:pt x="154" y="26"/>
                  </a:lnTo>
                  <a:lnTo>
                    <a:pt x="147" y="50"/>
                  </a:lnTo>
                  <a:lnTo>
                    <a:pt x="135" y="71"/>
                  </a:lnTo>
                  <a:lnTo>
                    <a:pt x="121" y="85"/>
                  </a:lnTo>
                  <a:lnTo>
                    <a:pt x="99" y="100"/>
                  </a:lnTo>
                  <a:lnTo>
                    <a:pt x="78" y="104"/>
                  </a:lnTo>
                  <a:lnTo>
                    <a:pt x="52" y="107"/>
                  </a:lnTo>
                  <a:lnTo>
                    <a:pt x="26" y="102"/>
                  </a:lnTo>
                  <a:lnTo>
                    <a:pt x="5" y="85"/>
                  </a:lnTo>
                  <a:lnTo>
                    <a:pt x="0" y="62"/>
                  </a:lnTo>
                  <a:lnTo>
                    <a:pt x="9" y="36"/>
                  </a:lnTo>
                  <a:lnTo>
                    <a:pt x="28" y="22"/>
                  </a:lnTo>
                  <a:lnTo>
                    <a:pt x="38" y="19"/>
                  </a:lnTo>
                  <a:lnTo>
                    <a:pt x="45" y="19"/>
                  </a:lnTo>
                  <a:lnTo>
                    <a:pt x="52" y="22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2" y="22"/>
                  </a:lnTo>
                  <a:lnTo>
                    <a:pt x="118" y="1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3000" y="5083200"/>
              <a:ext cx="998280" cy="441000"/>
            </a:xfrm>
            <a:custGeom>
              <a:avLst/>
              <a:gdLst/>
              <a:ahLst/>
              <a:rect l="l" t="t" r="r" b="b"/>
              <a:pathLst>
                <a:path w="952" h="443">
                  <a:moveTo>
                    <a:pt x="895" y="24"/>
                  </a:moveTo>
                  <a:lnTo>
                    <a:pt x="885" y="21"/>
                  </a:lnTo>
                  <a:lnTo>
                    <a:pt x="869" y="19"/>
                  </a:lnTo>
                  <a:lnTo>
                    <a:pt x="850" y="19"/>
                  </a:lnTo>
                  <a:lnTo>
                    <a:pt x="826" y="19"/>
                  </a:lnTo>
                  <a:lnTo>
                    <a:pt x="800" y="19"/>
                  </a:lnTo>
                  <a:lnTo>
                    <a:pt x="769" y="19"/>
                  </a:lnTo>
                  <a:lnTo>
                    <a:pt x="739" y="19"/>
                  </a:lnTo>
                  <a:lnTo>
                    <a:pt x="708" y="19"/>
                  </a:lnTo>
                  <a:lnTo>
                    <a:pt x="677" y="21"/>
                  </a:lnTo>
                  <a:lnTo>
                    <a:pt x="644" y="21"/>
                  </a:lnTo>
                  <a:lnTo>
                    <a:pt x="616" y="21"/>
                  </a:lnTo>
                  <a:lnTo>
                    <a:pt x="587" y="19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1" y="14"/>
                  </a:lnTo>
                  <a:lnTo>
                    <a:pt x="509" y="10"/>
                  </a:lnTo>
                  <a:lnTo>
                    <a:pt x="495" y="5"/>
                  </a:lnTo>
                  <a:lnTo>
                    <a:pt x="473" y="3"/>
                  </a:lnTo>
                  <a:lnTo>
                    <a:pt x="450" y="3"/>
                  </a:lnTo>
                  <a:lnTo>
                    <a:pt x="419" y="0"/>
                  </a:lnTo>
                  <a:lnTo>
                    <a:pt x="386" y="0"/>
                  </a:lnTo>
                  <a:lnTo>
                    <a:pt x="348" y="0"/>
                  </a:lnTo>
                  <a:lnTo>
                    <a:pt x="310" y="3"/>
                  </a:lnTo>
                  <a:lnTo>
                    <a:pt x="272" y="3"/>
                  </a:lnTo>
                  <a:lnTo>
                    <a:pt x="232" y="5"/>
                  </a:lnTo>
                  <a:lnTo>
                    <a:pt x="196" y="5"/>
                  </a:lnTo>
                  <a:lnTo>
                    <a:pt x="161" y="7"/>
                  </a:lnTo>
                  <a:lnTo>
                    <a:pt x="128" y="7"/>
                  </a:lnTo>
                  <a:lnTo>
                    <a:pt x="99" y="7"/>
                  </a:lnTo>
                  <a:lnTo>
                    <a:pt x="76" y="7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19" y="33"/>
                  </a:lnTo>
                  <a:lnTo>
                    <a:pt x="2" y="109"/>
                  </a:lnTo>
                  <a:lnTo>
                    <a:pt x="0" y="187"/>
                  </a:lnTo>
                  <a:lnTo>
                    <a:pt x="17" y="230"/>
                  </a:lnTo>
                  <a:lnTo>
                    <a:pt x="33" y="237"/>
                  </a:lnTo>
                  <a:lnTo>
                    <a:pt x="54" y="249"/>
                  </a:lnTo>
                  <a:lnTo>
                    <a:pt x="76" y="263"/>
                  </a:lnTo>
                  <a:lnTo>
                    <a:pt x="97" y="284"/>
                  </a:lnTo>
                  <a:lnTo>
                    <a:pt x="118" y="310"/>
                  </a:lnTo>
                  <a:lnTo>
                    <a:pt x="137" y="343"/>
                  </a:lnTo>
                  <a:lnTo>
                    <a:pt x="151" y="381"/>
                  </a:lnTo>
                  <a:lnTo>
                    <a:pt x="163" y="429"/>
                  </a:lnTo>
                  <a:lnTo>
                    <a:pt x="175" y="436"/>
                  </a:lnTo>
                  <a:lnTo>
                    <a:pt x="201" y="438"/>
                  </a:lnTo>
                  <a:lnTo>
                    <a:pt x="239" y="436"/>
                  </a:lnTo>
                  <a:lnTo>
                    <a:pt x="284" y="433"/>
                  </a:lnTo>
                  <a:lnTo>
                    <a:pt x="331" y="431"/>
                  </a:lnTo>
                  <a:lnTo>
                    <a:pt x="374" y="426"/>
                  </a:lnTo>
                  <a:lnTo>
                    <a:pt x="410" y="424"/>
                  </a:lnTo>
                  <a:lnTo>
                    <a:pt x="433" y="424"/>
                  </a:lnTo>
                  <a:lnTo>
                    <a:pt x="455" y="426"/>
                  </a:lnTo>
                  <a:lnTo>
                    <a:pt x="488" y="431"/>
                  </a:lnTo>
                  <a:lnTo>
                    <a:pt x="526" y="436"/>
                  </a:lnTo>
                  <a:lnTo>
                    <a:pt x="568" y="440"/>
                  </a:lnTo>
                  <a:lnTo>
                    <a:pt x="608" y="443"/>
                  </a:lnTo>
                  <a:lnTo>
                    <a:pt x="644" y="443"/>
                  </a:lnTo>
                  <a:lnTo>
                    <a:pt x="670" y="440"/>
                  </a:lnTo>
                  <a:lnTo>
                    <a:pt x="682" y="436"/>
                  </a:lnTo>
                  <a:lnTo>
                    <a:pt x="710" y="386"/>
                  </a:lnTo>
                  <a:lnTo>
                    <a:pt x="743" y="346"/>
                  </a:lnTo>
                  <a:lnTo>
                    <a:pt x="776" y="313"/>
                  </a:lnTo>
                  <a:lnTo>
                    <a:pt x="812" y="284"/>
                  </a:lnTo>
                  <a:lnTo>
                    <a:pt x="845" y="263"/>
                  </a:lnTo>
                  <a:lnTo>
                    <a:pt x="876" y="249"/>
                  </a:lnTo>
                  <a:lnTo>
                    <a:pt x="907" y="237"/>
                  </a:lnTo>
                  <a:lnTo>
                    <a:pt x="930" y="230"/>
                  </a:lnTo>
                  <a:lnTo>
                    <a:pt x="945" y="218"/>
                  </a:lnTo>
                  <a:lnTo>
                    <a:pt x="949" y="197"/>
                  </a:lnTo>
                  <a:lnTo>
                    <a:pt x="952" y="163"/>
                  </a:lnTo>
                  <a:lnTo>
                    <a:pt x="947" y="128"/>
                  </a:lnTo>
                  <a:lnTo>
                    <a:pt x="937" y="92"/>
                  </a:lnTo>
                  <a:lnTo>
                    <a:pt x="926" y="62"/>
                  </a:lnTo>
                  <a:lnTo>
                    <a:pt x="911" y="36"/>
                  </a:lnTo>
                  <a:lnTo>
                    <a:pt x="8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81480" y="4773600"/>
              <a:ext cx="376200" cy="269280"/>
            </a:xfrm>
            <a:custGeom>
              <a:avLst/>
              <a:gdLst/>
              <a:ahLst/>
              <a:rect l="l" t="t" r="r" b="b"/>
              <a:pathLst>
                <a:path w="360" h="270">
                  <a:moveTo>
                    <a:pt x="360" y="268"/>
                  </a:moveTo>
                  <a:lnTo>
                    <a:pt x="351" y="270"/>
                  </a:lnTo>
                  <a:lnTo>
                    <a:pt x="334" y="270"/>
                  </a:lnTo>
                  <a:lnTo>
                    <a:pt x="310" y="268"/>
                  </a:lnTo>
                  <a:lnTo>
                    <a:pt x="282" y="263"/>
                  </a:lnTo>
                  <a:lnTo>
                    <a:pt x="254" y="260"/>
                  </a:lnTo>
                  <a:lnTo>
                    <a:pt x="228" y="256"/>
                  </a:lnTo>
                  <a:lnTo>
                    <a:pt x="204" y="253"/>
                  </a:lnTo>
                  <a:lnTo>
                    <a:pt x="190" y="253"/>
                  </a:lnTo>
                  <a:lnTo>
                    <a:pt x="173" y="253"/>
                  </a:lnTo>
                  <a:lnTo>
                    <a:pt x="152" y="253"/>
                  </a:lnTo>
                  <a:lnTo>
                    <a:pt x="123" y="251"/>
                  </a:lnTo>
                  <a:lnTo>
                    <a:pt x="95" y="249"/>
                  </a:lnTo>
                  <a:lnTo>
                    <a:pt x="64" y="244"/>
                  </a:lnTo>
                  <a:lnTo>
                    <a:pt x="40" y="239"/>
                  </a:lnTo>
                  <a:lnTo>
                    <a:pt x="22" y="234"/>
                  </a:lnTo>
                  <a:lnTo>
                    <a:pt x="12" y="230"/>
                  </a:lnTo>
                  <a:lnTo>
                    <a:pt x="5" y="189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7" y="7"/>
                  </a:lnTo>
                  <a:lnTo>
                    <a:pt x="19" y="3"/>
                  </a:lnTo>
                  <a:lnTo>
                    <a:pt x="43" y="3"/>
                  </a:lnTo>
                  <a:lnTo>
                    <a:pt x="71" y="0"/>
                  </a:lnTo>
                  <a:lnTo>
                    <a:pt x="107" y="0"/>
                  </a:lnTo>
                  <a:lnTo>
                    <a:pt x="140" y="3"/>
                  </a:lnTo>
                  <a:lnTo>
                    <a:pt x="171" y="5"/>
                  </a:lnTo>
                  <a:lnTo>
                    <a:pt x="194" y="7"/>
                  </a:lnTo>
                  <a:lnTo>
                    <a:pt x="206" y="10"/>
                  </a:lnTo>
                  <a:lnTo>
                    <a:pt x="218" y="21"/>
                  </a:lnTo>
                  <a:lnTo>
                    <a:pt x="239" y="50"/>
                  </a:lnTo>
                  <a:lnTo>
                    <a:pt x="268" y="88"/>
                  </a:lnTo>
                  <a:lnTo>
                    <a:pt x="296" y="133"/>
                  </a:lnTo>
                  <a:lnTo>
                    <a:pt x="322" y="178"/>
                  </a:lnTo>
                  <a:lnTo>
                    <a:pt x="346" y="220"/>
                  </a:lnTo>
                  <a:lnTo>
                    <a:pt x="358" y="251"/>
                  </a:lnTo>
                  <a:lnTo>
                    <a:pt x="36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81440" y="4792680"/>
              <a:ext cx="395280" cy="223200"/>
            </a:xfrm>
            <a:custGeom>
              <a:avLst/>
              <a:gdLst/>
              <a:ahLst/>
              <a:rect l="l" t="t" r="r" b="b"/>
              <a:pathLst>
                <a:path w="377" h="225">
                  <a:moveTo>
                    <a:pt x="358" y="5"/>
                  </a:moveTo>
                  <a:lnTo>
                    <a:pt x="367" y="38"/>
                  </a:lnTo>
                  <a:lnTo>
                    <a:pt x="372" y="102"/>
                  </a:lnTo>
                  <a:lnTo>
                    <a:pt x="372" y="166"/>
                  </a:lnTo>
                  <a:lnTo>
                    <a:pt x="377" y="206"/>
                  </a:lnTo>
                  <a:lnTo>
                    <a:pt x="374" y="211"/>
                  </a:lnTo>
                  <a:lnTo>
                    <a:pt x="363" y="215"/>
                  </a:lnTo>
                  <a:lnTo>
                    <a:pt x="346" y="218"/>
                  </a:lnTo>
                  <a:lnTo>
                    <a:pt x="322" y="220"/>
                  </a:lnTo>
                  <a:lnTo>
                    <a:pt x="294" y="223"/>
                  </a:lnTo>
                  <a:lnTo>
                    <a:pt x="263" y="225"/>
                  </a:lnTo>
                  <a:lnTo>
                    <a:pt x="230" y="225"/>
                  </a:lnTo>
                  <a:lnTo>
                    <a:pt x="195" y="225"/>
                  </a:lnTo>
                  <a:lnTo>
                    <a:pt x="159" y="225"/>
                  </a:lnTo>
                  <a:lnTo>
                    <a:pt x="123" y="225"/>
                  </a:lnTo>
                  <a:lnTo>
                    <a:pt x="93" y="223"/>
                  </a:lnTo>
                  <a:lnTo>
                    <a:pt x="64" y="220"/>
                  </a:lnTo>
                  <a:lnTo>
                    <a:pt x="38" y="218"/>
                  </a:lnTo>
                  <a:lnTo>
                    <a:pt x="19" y="215"/>
                  </a:lnTo>
                  <a:lnTo>
                    <a:pt x="5" y="211"/>
                  </a:lnTo>
                  <a:lnTo>
                    <a:pt x="0" y="206"/>
                  </a:lnTo>
                  <a:lnTo>
                    <a:pt x="3" y="192"/>
                  </a:lnTo>
                  <a:lnTo>
                    <a:pt x="15" y="166"/>
                  </a:lnTo>
                  <a:lnTo>
                    <a:pt x="31" y="133"/>
                  </a:lnTo>
                  <a:lnTo>
                    <a:pt x="55" y="97"/>
                  </a:lnTo>
                  <a:lnTo>
                    <a:pt x="79" y="64"/>
                  </a:lnTo>
                  <a:lnTo>
                    <a:pt x="107" y="36"/>
                  </a:lnTo>
                  <a:lnTo>
                    <a:pt x="133" y="14"/>
                  </a:lnTo>
                  <a:lnTo>
                    <a:pt x="157" y="7"/>
                  </a:lnTo>
                  <a:lnTo>
                    <a:pt x="183" y="7"/>
                  </a:lnTo>
                  <a:lnTo>
                    <a:pt x="211" y="5"/>
                  </a:lnTo>
                  <a:lnTo>
                    <a:pt x="242" y="2"/>
                  </a:lnTo>
                  <a:lnTo>
                    <a:pt x="273" y="0"/>
                  </a:lnTo>
                  <a:lnTo>
                    <a:pt x="301" y="0"/>
                  </a:lnTo>
                  <a:lnTo>
                    <a:pt x="327" y="0"/>
                  </a:lnTo>
                  <a:lnTo>
                    <a:pt x="346" y="0"/>
                  </a:lnTo>
                  <a:lnTo>
                    <a:pt x="3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10080" y="4572000"/>
            <a:ext cx="2743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nculados por un res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79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4120" indent="-4460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 autos de l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Son controlables de forma independ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4120" indent="-44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 intera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  ISA-U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4E1-07F8-46D1-86A4-D18BA8AB6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0:02:22Z</dcterms:created>
  <dc:creator>Ing. de Sistemas y Automatica</dc:creator>
  <dc:description/>
  <dc:language>en-US</dc:language>
  <cp:lastModifiedBy>isa</cp:lastModifiedBy>
  <dcterms:modified xsi:type="dcterms:W3CDTF">2007-05-25T10:53:41Z</dcterms:modified>
  <cp:revision>30</cp:revision>
  <dc:subject/>
  <dc:title>Procesos Multivariables</dc:title>
</cp:coreProperties>
</file>